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3.jpeg" ContentType="image/jpeg"/>
  <Override PartName="/ppt/media/image10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2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F1D3-6B0C-48AC-A273-02682DAF188A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1E58-F66D-4911-81AE-C1CD3C277F7D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01B7-6696-4075-B9FE-12509EF43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77316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9073-94EC-4949-9EB4-4DEFD3149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908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7B84-F155-4311-853C-CADE0BC4A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116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952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F35A-4618-42F5-8300-257F72A13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4600" y="151920"/>
            <a:ext cx="6440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2D6E-5F74-4C2D-85DA-820084413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908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377316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908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116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952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A657-8E91-4886-9C6B-6BA76F6E7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E132-1B4A-42A8-9C19-8B0DB5C07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CEBF-9139-4B81-B79C-9DF5A8B4C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44600" y="151920"/>
            <a:ext cx="6440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F9FD-8934-4B3A-9DD0-37392A8BB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4FA2-F92B-4CBD-8C00-9EFF0EB1C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908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4A00-F92A-4642-953E-74855B003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B2EF-DBE2-4DAF-9CE0-0E396502D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head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Time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37f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9"/>
          <p:cNvSpPr/>
          <p:nvPr/>
        </p:nvSpPr>
        <p:spPr>
          <a:xfrm>
            <a:off x="177840" y="990720"/>
            <a:ext cx="8763120" cy="5497560"/>
          </a:xfrm>
          <a:prstGeom prst="roundRect">
            <a:avLst>
              <a:gd name="adj" fmla="val 1148"/>
            </a:avLst>
          </a:prstGeom>
          <a:noFill/>
          <a:ln w="648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96080" y="6501960"/>
            <a:ext cx="102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37f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6FE4FF50-65CF-4BEE-ACC5-B16C11BAC3A9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14" descr="epocrates_logo_black"/>
          <p:cNvPicPr/>
          <p:nvPr/>
        </p:nvPicPr>
        <p:blipFill>
          <a:blip r:embed="rId3"/>
          <a:stretch/>
        </p:blipFill>
        <p:spPr>
          <a:xfrm>
            <a:off x="317520" y="6527880"/>
            <a:ext cx="12571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lide_mast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Time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228600" y="6705360"/>
            <a:ext cx="8763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37f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 To learn more about Epocrates, please visit us at www.epocrates.com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bstrathdee\Desktop\slide_master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3200400" y="1905120"/>
            <a:ext cx="5715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9bbe0"/>
                </a:solidFill>
                <a:latin typeface="Arial"/>
              </a:rPr>
              <a:t>JX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Arial"/>
              </a:rPr>
              <a:t>An Architecture for Schema and Annotation Driven JSON/XML Bidirectional Transfor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logo"/>
          <p:cNvPicPr/>
          <p:nvPr/>
        </p:nvPicPr>
        <p:blipFill>
          <a:blip r:embed="rId2"/>
          <a:stretch/>
        </p:blipFill>
        <p:spPr>
          <a:xfrm>
            <a:off x="5562720" y="6248520"/>
            <a:ext cx="3200400" cy="417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987120" y="4680000"/>
            <a:ext cx="458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vid A. L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nior Principal Software Engin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2" descr="C:\Users\DLEE\Desktop\Balisage-2011-logoType.png"/>
          <p:cNvPicPr/>
          <p:nvPr/>
        </p:nvPicPr>
        <p:blipFill>
          <a:blip r:embed="rId3"/>
          <a:stretch/>
        </p:blipFill>
        <p:spPr>
          <a:xfrm>
            <a:off x="228600" y="76320"/>
            <a:ext cx="3792600" cy="139068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3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FD89002F-0EEA-4352-8585-2A55DFEC3B71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In Reality – json.org JSON to XML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520" y="9903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BOOK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d&gt;1&lt;/id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title&gt;My Favorite Book&lt;/tit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price&gt;1.23&lt;/pric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BOOKS&g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BOOK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d&gt;1a&lt;/id&gt;&lt;title&gt;XML for Dummies&lt;/tit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price&gt;5.25&lt;/pric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BOOKS&g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BOOK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d&gt;3&lt;/id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title&gt;JSON for Dummies&lt;/tit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price&gt;200.95&lt;/pric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BOOKS&g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lide Number Placeholder 7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7D14AC7B-FE24-471F-8544-69EAB33DCFFF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Callout 1 (Border and Accent Bar) 1"/>
          <p:cNvSpPr/>
          <p:nvPr/>
        </p:nvSpPr>
        <p:spPr>
          <a:xfrm>
            <a:off x="5867280" y="2978280"/>
            <a:ext cx="2133720" cy="78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911" y="2998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1260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Well Form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4" name="Straight Arrow Connector 3"/>
          <p:cNvCxnSpPr/>
          <p:nvPr/>
        </p:nvCxnSpPr>
        <p:spPr>
          <a:xfrm flipH="1" flipV="1">
            <a:off x="3847680" y="2590200"/>
            <a:ext cx="270576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35" name="Straight Arrow Connector 12"/>
          <p:cNvCxnSpPr/>
          <p:nvPr/>
        </p:nvCxnSpPr>
        <p:spPr>
          <a:xfrm flipH="1" flipV="1">
            <a:off x="4190760" y="1447560"/>
            <a:ext cx="2743920" cy="137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Interesting Issu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onsistent typing of the "id"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y verbose and complex JSON repres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SON arrays where simple values should be us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irs of 'name/value' members where native JSON member names should be us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necessary distinctions between how attributes and child elements are serializ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E69A46C3-D691-4448-ABC9-52143ECBB492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JXON Goal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F14E38E0-43C8-4CD2-8DC6-AB0632400C9F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2" descr="C:\Users\DLEE\Desktop\images.jpg"/>
          <p:cNvPicPr/>
          <p:nvPr/>
        </p:nvPicPr>
        <p:blipFill>
          <a:blip r:embed="rId1"/>
          <a:stretch/>
        </p:blipFill>
        <p:spPr>
          <a:xfrm>
            <a:off x="1600200" y="2057400"/>
            <a:ext cx="5791320" cy="3895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3093120" y="13716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SON and XML Conve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JXON Goal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e specification for XML to/from JSON transform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s are what authors actually w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up agnostic (not biased to either XML or JSO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use of Schema information and annotations to guide transform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5AE6654F-C307-49C0-8EB9-15D54F971307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JSON / XML – What’s the problem?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Content Placeholder 28"/>
          <p:cNvGrpSpPr/>
          <p:nvPr/>
        </p:nvGrpSpPr>
        <p:grpSpPr>
          <a:xfrm>
            <a:off x="438120" y="2157480"/>
            <a:ext cx="4078440" cy="3987720"/>
            <a:chOff x="438120" y="2157480"/>
            <a:chExt cx="4078440" cy="3987720"/>
          </a:xfrm>
        </p:grpSpPr>
        <p:pic>
          <p:nvPicPr>
            <p:cNvPr id="149" name="Content Placeholder 28" descr=""/>
            <p:cNvPicPr/>
            <p:nvPr/>
          </p:nvPicPr>
          <p:blipFill>
            <a:blip r:embed="rId1"/>
            <a:stretch/>
          </p:blipFill>
          <p:spPr>
            <a:xfrm>
              <a:off x="438120" y="2157480"/>
              <a:ext cx="4078440" cy="39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57200" y="2174760"/>
              <a:ext cx="4040280" cy="39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ello World”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Content Placeholder 30"/>
          <p:cNvGrpSpPr/>
          <p:nvPr/>
        </p:nvGrpSpPr>
        <p:grpSpPr>
          <a:xfrm>
            <a:off x="4627440" y="2157480"/>
            <a:ext cx="4078440" cy="3987720"/>
            <a:chOff x="4627440" y="2157480"/>
            <a:chExt cx="4078440" cy="3987720"/>
          </a:xfrm>
        </p:grpSpPr>
        <p:pic>
          <p:nvPicPr>
            <p:cNvPr id="153" name="Content Placeholder 30" descr=""/>
            <p:cNvPicPr/>
            <p:nvPr/>
          </p:nvPicPr>
          <p:blipFill>
            <a:blip r:embed="rId2"/>
            <a:stretch/>
          </p:blipFill>
          <p:spPr>
            <a:xfrm>
              <a:off x="4627440" y="2157480"/>
              <a:ext cx="4078440" cy="39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45080" y="2174760"/>
              <a:ext cx="4041720" cy="39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&lt;root&gt;Hello World&lt;/root&gt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&lt;root value="Hello World"/&gt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BC089A5F-DFB9-4845-AFAE-5ABAC0722F6F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Box 31"/>
          <p:cNvSpPr/>
          <p:nvPr/>
        </p:nvSpPr>
        <p:spPr>
          <a:xfrm>
            <a:off x="3131640" y="990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onymous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JSON / XML – What’s the problem?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Content Placeholder 28"/>
          <p:cNvGrpSpPr/>
          <p:nvPr/>
        </p:nvGrpSpPr>
        <p:grpSpPr>
          <a:xfrm>
            <a:off x="438120" y="2157480"/>
            <a:ext cx="4078440" cy="3987720"/>
            <a:chOff x="438120" y="2157480"/>
            <a:chExt cx="4078440" cy="3987720"/>
          </a:xfrm>
        </p:grpSpPr>
        <p:pic>
          <p:nvPicPr>
            <p:cNvPr id="160" name="Content Placeholder 28" descr=""/>
            <p:cNvPicPr/>
            <p:nvPr/>
          </p:nvPicPr>
          <p:blipFill>
            <a:blip r:embed="rId1"/>
            <a:stretch/>
          </p:blipFill>
          <p:spPr>
            <a:xfrm>
              <a:off x="438120" y="2157480"/>
              <a:ext cx="4078440" cy="39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2174760"/>
              <a:ext cx="4040280" cy="39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[ 1 , "String" ]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Content Placeholder 30"/>
          <p:cNvGrpSpPr/>
          <p:nvPr/>
        </p:nvGrpSpPr>
        <p:grpSpPr>
          <a:xfrm>
            <a:off x="4627440" y="2157480"/>
            <a:ext cx="4078440" cy="3987720"/>
            <a:chOff x="4627440" y="2157480"/>
            <a:chExt cx="4078440" cy="3987720"/>
          </a:xfrm>
        </p:grpSpPr>
        <p:pic>
          <p:nvPicPr>
            <p:cNvPr id="164" name="Content Placeholder 30" descr=""/>
            <p:cNvPicPr/>
            <p:nvPr/>
          </p:nvPicPr>
          <p:blipFill>
            <a:blip r:embed="rId2"/>
            <a:stretch/>
          </p:blipFill>
          <p:spPr>
            <a:xfrm>
              <a:off x="4627440" y="2157480"/>
              <a:ext cx="4078440" cy="39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645080" y="2174760"/>
              <a:ext cx="4041720" cy="39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&lt;array&gt;1 String&lt;/array&gt;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&lt;array&gt;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&lt;entry&gt;1&lt;/entry&gt;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&lt;entry&gt;String&lt;/entry&gt;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&lt;array&gt;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&lt;array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ntry1="1" entry2="String"/&gt;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&lt;entry&gt;1&lt;/entry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&lt;entry&gt;String&lt;/entry&gt;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58F555C5-82BD-444E-A7FE-13179F52A9FD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Box 31"/>
          <p:cNvSpPr/>
          <p:nvPr/>
        </p:nvSpPr>
        <p:spPr>
          <a:xfrm>
            <a:off x="4021200" y="10112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rr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JSON / XML – What’s the problem?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Content Placeholder 28"/>
          <p:cNvGrpSpPr/>
          <p:nvPr/>
        </p:nvGrpSpPr>
        <p:grpSpPr>
          <a:xfrm>
            <a:off x="438120" y="2157480"/>
            <a:ext cx="4078440" cy="3987720"/>
            <a:chOff x="438120" y="2157480"/>
            <a:chExt cx="4078440" cy="3987720"/>
          </a:xfrm>
        </p:grpSpPr>
        <p:pic>
          <p:nvPicPr>
            <p:cNvPr id="171" name="Content Placeholder 28" descr=""/>
            <p:cNvPicPr/>
            <p:nvPr/>
          </p:nvPicPr>
          <p:blipFill>
            <a:blip r:embed="rId1"/>
            <a:stretch/>
          </p:blipFill>
          <p:spPr>
            <a:xfrm>
              <a:off x="438120" y="2157480"/>
              <a:ext cx="4078440" cy="39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57200" y="2174760"/>
              <a:ext cx="4040280" cy="39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alue”: “1.5”  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alue”: 1.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Content Placeholder 30"/>
          <p:cNvGrpSpPr/>
          <p:nvPr/>
        </p:nvGrpSpPr>
        <p:grpSpPr>
          <a:xfrm>
            <a:off x="4627440" y="2157480"/>
            <a:ext cx="4078440" cy="3987720"/>
            <a:chOff x="4627440" y="2157480"/>
            <a:chExt cx="4078440" cy="3987720"/>
          </a:xfrm>
        </p:grpSpPr>
        <p:pic>
          <p:nvPicPr>
            <p:cNvPr id="175" name="Content Placeholder 30" descr=""/>
            <p:cNvPicPr/>
            <p:nvPr/>
          </p:nvPicPr>
          <p:blipFill>
            <a:blip r:embed="rId2"/>
            <a:stretch/>
          </p:blipFill>
          <p:spPr>
            <a:xfrm>
              <a:off x="4627440" y="2157480"/>
              <a:ext cx="4078440" cy="39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645080" y="2174760"/>
              <a:ext cx="4041720" cy="39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&lt;value&gt;1.5&lt;/value&gt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7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89E49172-2B37-4856-9948-319A2D2C0804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31"/>
          <p:cNvSpPr/>
          <p:nvPr/>
        </p:nvSpPr>
        <p:spPr>
          <a:xfrm>
            <a:off x="2289600" y="99540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plicit Types (e.g. "Duck Typing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JSON / XML – What’s the problem?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y more issues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ng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acter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 N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alization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acter Enco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lide Number Placeholder 7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61F22F76-B43B-4739-8E9F-F5120277A852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Existing Designs and Implementation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JSON to XML converter from json.or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SONx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dgerfis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bbitfis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SON Markup Language (JsonML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LTJSON, XML to JSON using XSL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to JSON jQuery Plugi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omerang - A bidirectional programming language for ad-hoc, textual dat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ugar - Dual Syntax for XML Languag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GF Standards: Data Format Description Language (DFDL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0547BF53-A582-44A3-A6BE-58211DF41E78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General Categories of existing implementation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resent arbitrary JSON in an XML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ult: A very ugly XML form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resent arbitrary XML in a JSON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ult: A very ugly JSON form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vert XML to JSON in a JSON friendly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ult: Works only for simple XML docu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es or crashes on unexpected 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vert JSON to XML in a XML friendly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ult: Works only for simple JSON docu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es or crashes on unexpected conte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E6B8F1F4-CBC6-443B-8F08-894A64CA151E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An experiment ...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97" name="Slide Number Placeholder 2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868ABBA4-8C86-4D26-ADB2-BC43D878D29F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" descr="C:\Users\DLEE\Desktop\7613856-assorted-laboratory-glassware-equipment-ready-for-an-experiment-in-a-science-research-lab.jpg"/>
          <p:cNvPicPr/>
          <p:nvPr/>
        </p:nvPicPr>
        <p:blipFill>
          <a:blip r:embed="rId1"/>
          <a:stretch/>
        </p:blipFill>
        <p:spPr>
          <a:xfrm>
            <a:off x="1295280" y="1295280"/>
            <a:ext cx="6172200" cy="46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Liberty vs. Equality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equality will exist as long as liberty exists. It unavoidably results from that very liberty itself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 Alexander Hamilton GM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yd Bauman – Balisage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D7C35A3D-4085-4A52-A14F-CBB1C787EA8B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Classes of transformation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220227B6-EB60-4549-8E13-4BC32D61CC68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Object 5"/>
          <p:cNvGraphicFramePr/>
          <p:nvPr/>
        </p:nvGraphicFramePr>
        <p:xfrm>
          <a:off x="762120" y="1066680"/>
          <a:ext cx="746748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46748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JXON Overview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0E437CD6-A6A4-4542-BF61-B287E8D68664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222120" y="1752480"/>
          <a:ext cx="86536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752480"/>
                    <a:ext cx="86536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JSON to XML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0046458D-B2FC-4966-A074-1D82C9D5C99E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533520" y="1143000"/>
          <a:ext cx="83898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3898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XML to JSON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0E54A82F-336C-49E9-9DAC-13373FDE16D8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152280" y="990720"/>
          <a:ext cx="872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90720"/>
                    <a:ext cx="872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JXON internal implementation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80EB3991-C6A2-4A36-A18D-38738A7E198C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9" name="Object 5"/>
          <p:cNvGraphicFramePr/>
          <p:nvPr/>
        </p:nvGraphicFramePr>
        <p:xfrm>
          <a:off x="228600" y="990720"/>
          <a:ext cx="87012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701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Schema and Annotation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SD or RNG (XML)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s type information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s element and attribute u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not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 the general “pattern” for the docume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y specific overrides for transformation ru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ement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ildren handling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E04D9658-6BCE-44EC-93EB-603D0331A803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Pattern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a set of rule properties to a name (“rule”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le properties work together to form transformation sty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be mixed and applied to individual ite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for 2 patterns currently – more to 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ll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completely lossless bidirectional pattern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common pattern for simple schema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ssless and bidirectional for a subset of schema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90FC115C-B8F1-4784-ADA8-E759EDBD02DD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Element Rul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 translat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ttribute handl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ild element handl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 handl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2864023A-2A65-400E-8C4F-BF3080F215F7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Attribute Rul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 translat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 wrap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7BEC9512-90E6-422C-9C30-355F63C75F95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his Presentation ...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1066680"/>
            <a:ext cx="4076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it works 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Stud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 of tiny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orking implementation ready for download n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62440" y="1066680"/>
            <a:ext cx="4076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N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fe, the Universe and Everyt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 details – see the paper for m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nswer to everyt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fillment of all go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I Docu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lide Number Placeholder 2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7F9BA831-929B-4748-AFCB-A5F3C7CE56E0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Full Pattern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pattern name="full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element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!-- Wrap all child text and elements in an object --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children wrap="object" name="_children" 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!-- Wrap all attributes in an object --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attributes wrap="object" name="_attributes" 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!-- Do not wrap text by itself, it is in the _children --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text wrap="none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!-- Values are typed and wrapped according to schema --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&lt;value wrap="schema" type="schema" 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json_namesearch="\{([^}]*)\}?(.+)$" replace="$2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/element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attribut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&lt;value wrap="schema" type="schema" 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json_namesearch="\{([^}]*)\}?(.+)$" replace="$2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json_object omit="false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/attribut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722FF2EA-6161-4F53-B142-C4E1C780B23F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full” pattern on the full schema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fault namespace = "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#&lt;jxon:pattern name=“full"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amma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rt =  Boo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ooks = element BOOKS { Book+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ook = element BOOK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ttribute id { xsd:NMTOKEN }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itle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itle =    element TITLE { text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ice = element PRICE { xsd:decimal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4C1B8771-E708-46E4-AB55-5C850BDA323D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Full Sample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75212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BOOK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BOOK id="1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TITLE&gt;My Favorite Book&lt;/TITL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PRICE&gt;1.23&lt;/PRIC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BOOK id="1a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TITLE&gt;XML for Dummies&lt;/TITL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PRICE&gt;5.25&lt;/PRIC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BOOK id="3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TITLE&gt;JSON for Dummies&lt;/TITL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PRICE&gt;200.95&lt;/PRIC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/BOOK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4720" y="175248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BOOKS":  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_children":   ["\n    ",  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BOOK"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    "_attributes"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id":"1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},    "_children":   ["\n        "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   "TITLE"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_children":   ["My Favorite Book"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},"\n        "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PRICE"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_children":   [1.23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},"\n    "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}   },"\n    "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F48E654B-9539-4A0D-A1F9-12169820684C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Simple Pattern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lt;pattern name="simple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lt;elemen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lt;children wrap="none" 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lt;attributes wrap="none" 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lt;text wrap="object" name="_text" 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&lt;value wrap="schema" type="schema" 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lt;json_namesearch="\{([^}]*)\}?(.+)$" replace="$2"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lt;/elemen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lt;attribute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&lt;value wrap="schema" type="schema" 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lt;json_namesearch="\{([^}]*)\}?(.+)$" replace="$2"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lt;/attribute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lt;/pattern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FC4EF692-6F1B-44D5-96B8-22FF563C6184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simple” pattern on the full schema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fault namespace = "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#&lt;jxon:pattern name="simple"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amma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rt =  Boo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ooks = element BOOKS { Book+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ook = element BOOK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ttribute id { xsd:NMTOKEN }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itle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itle =    element TITLE { text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ice = element PRICE { xsd:decimal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E56DD0FD-05CA-453F-BB78-1DF4E301BB2B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Simple Sample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039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75212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BOOK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BOOK id="1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TITLE&gt;My Favorite Book&lt;/TITL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PRICE&gt;1.23&lt;/PRIC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BOOK id="1a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TITLE&gt;XML for Dummies&lt;/TITL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PRICE&gt;5.25&lt;/PRIC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BOOK id="3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TITLE&gt;JSON for Dummies&lt;/TITL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PRICE&gt;200.95&lt;/PRIC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/BOOK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44720" y="1523520"/>
            <a:ext cx="40417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BOOKS"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"BOOK"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id":"1"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TITLE":"My Favorite Book"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PRICE":1.2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}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"BOOK"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id":"1a"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TITLE":"XML for Dummies"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PRICE":5.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}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"BOOK"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id":"3"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TITLE":"JSON for Dummies"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"PRICE":200.9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959EC2FD-5409-46DC-ABA1-92374A97A804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Callout 2 1"/>
          <p:cNvSpPr/>
          <p:nvPr/>
        </p:nvSpPr>
        <p:spPr>
          <a:xfrm>
            <a:off x="7086600" y="4572000"/>
            <a:ext cx="1676520" cy="368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98143"/>
              <a:gd name="adj6" fmla="val -68162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lid J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8" name="Straight Arrow Connector 10"/>
          <p:cNvCxnSpPr/>
          <p:nvPr/>
        </p:nvCxnSpPr>
        <p:spPr>
          <a:xfrm flipH="1" flipV="1">
            <a:off x="6095160" y="3657240"/>
            <a:ext cx="1143720" cy="838800"/>
          </a:xfrm>
          <a:prstGeom prst="straightConnector1">
            <a:avLst/>
          </a:prstGeom>
          <a:ln w="12600">
            <a:solidFill>
              <a:srgbClr val="3c8c93"/>
            </a:solidFill>
            <a:miter/>
            <a:tailEnd len="med" type="oval" w="med"/>
          </a:ln>
        </p:spPr>
      </p:cxnSp>
      <p:cxnSp>
        <p:nvCxnSpPr>
          <p:cNvPr id="249" name="Straight Arrow Connector 11"/>
          <p:cNvCxnSpPr/>
          <p:nvPr/>
        </p:nvCxnSpPr>
        <p:spPr>
          <a:xfrm flipH="1" flipV="1">
            <a:off x="6095160" y="2361600"/>
            <a:ext cx="1715400" cy="1981800"/>
          </a:xfrm>
          <a:prstGeom prst="straightConnector1">
            <a:avLst/>
          </a:prstGeom>
          <a:ln w="12600">
            <a:solidFill>
              <a:srgbClr val="3c8c93"/>
            </a:solidFill>
            <a:miter/>
            <a:tailEnd len="med" type="oval" w="med"/>
          </a:ln>
        </p:spPr>
      </p:cxn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Modified Example - RNG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ault namespace = "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Verdana"/>
              </a:rPr>
              <a:t>#&lt;jxon:pattern name="simple"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mma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rt =  Boo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Verdana"/>
              </a:rPr>
              <a:t>#&lt;jxon:children wrap="array"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oks = element BOOKS { Book+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Verdana"/>
              </a:rPr>
              <a:t>#&lt;jxon:json_name omit="true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ok = element BOOK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ribute id { xsd:NMTOKEN }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tle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Verdana"/>
              </a:rPr>
              <a:t>#&lt;jxon:json_name name="title"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tle =    element TITLE { text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Verdana"/>
              </a:rPr>
              <a:t>#&lt;jxon:json_name name="price"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ce = element PRICE { xsd:decimal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45EED957-F422-41C2-BFD7-6725C7EAF7ED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Modified Example - XSD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3520" y="10666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schema xmlns:xs="http://www.w3.org/2001/XMLSchema" elementFormDefault="qualified"  xmlns:jxon="http://www.xmlsh.org/jxon"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annotation&gt; &lt;xs:appinfo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70c0"/>
                </a:solidFill>
                <a:latin typeface="Verdana"/>
              </a:rPr>
              <a:t>      </a:t>
            </a:r>
            <a:r>
              <a:rPr b="1" lang="en-US" sz="1100" spc="-1" strike="noStrike">
                <a:solidFill>
                  <a:srgbClr val="0070c0"/>
                </a:solidFill>
                <a:latin typeface="Verdana"/>
              </a:rPr>
              <a:t>&lt;jxon:pattern name="simple"/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appinfo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annotation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element name="BOOKS"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annotation &gt; &lt;xs:appinfo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100" spc="-1" strike="noStrike">
                <a:solidFill>
                  <a:srgbClr val="0070c0"/>
                </a:solidFill>
                <a:latin typeface="Verdana"/>
              </a:rPr>
              <a:t>&lt;jxon:children wrap="array"/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appinfo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annotation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complexType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sequence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element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axOccurs="unbounded" ref="BOOK"/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sequence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complexType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element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846F6826-3F02-4848-80F2-976C846D596D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4800600" y="990720"/>
            <a:ext cx="4114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element name="BOOK"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annotation&gt; &lt;xs:appinfo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100" spc="-1" strike="noStrike">
                <a:solidFill>
                  <a:srgbClr val="0070c0"/>
                </a:solidFill>
                <a:latin typeface="Verdana"/>
              </a:rPr>
              <a:t>&lt;jxon:json_name omit="true"/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appinfo&gt;&lt;/xs:annotation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complexType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sequence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element ref="TITLE"/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element ref="PRICE"/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sequence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attribute name="id"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use="required" type="xs:NMTOKEN"/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complexType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element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element name="TITLE" type="xs:string"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annotation&gt; &lt;xs:appinfo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100" spc="-1" strike="noStrike">
                <a:solidFill>
                  <a:srgbClr val="0070c0"/>
                </a:solidFill>
                <a:latin typeface="Verdana"/>
              </a:rPr>
              <a:t>&lt;jxon:json_name name="title"/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appinfo&gt;&lt;/xs:annotation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element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element name="PRICE" type="xs:decimal"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xs:annotation&gt; &lt;xs:appinfo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100" spc="-1" strike="noStrike">
                <a:solidFill>
                  <a:srgbClr val="0070c0"/>
                </a:solidFill>
                <a:latin typeface="Verdana"/>
              </a:rPr>
              <a:t>&lt;jxon:json_name name="price"/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appinfo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annotation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element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/xs:schema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he Ideal World – Its real, its now !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76520"/>
            <a:ext cx="41911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BOOK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BOOK id="1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TITLE&gt;My Favorite Book&lt;/TIT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PRICE&gt;1.23&lt;/PRIC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BOOK id="1a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TITLE&gt;XML for Dummies&lt;/TIT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PRICE&gt;5.25&lt;/PRIC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BOOK id="3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TITLE&gt;JSON for Dummies&lt;/TIT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PRICE&gt;200.95&lt;/PRIC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/BOOK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0240" y="99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00240" y="1676160"/>
            <a:ext cx="404172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{ "BOOKS"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[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{ "id" : "1"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"title": "My Favorite Book"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"price" : 1.23 }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{ "id" : "1a"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"title": "XML for Dummies" 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"price" : 5.25}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{ "id" : "3"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"title": "JSON for Dummies"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"price" : 200.95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E4BE23DD-CC1D-43E3-AFC8-9F8B417E4247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Not quite ...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64" name="Slide Number Placeholder 7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B9A13CB8-567F-4AE1-A123-B6B7767F0DD9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2" descr="C:\Users\DLEE\Desktop\charles-benes-locomotive-a-vapeur-durango-colorado-n-3535691-0.jpg"/>
          <p:cNvPicPr/>
          <p:nvPr/>
        </p:nvPicPr>
        <p:blipFill>
          <a:blip r:embed="rId1"/>
          <a:stretch/>
        </p:blipFill>
        <p:spPr>
          <a:xfrm>
            <a:off x="1600200" y="1676520"/>
            <a:ext cx="5856120" cy="43988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9"/>
          <p:cNvSpPr/>
          <p:nvPr/>
        </p:nvSpPr>
        <p:spPr>
          <a:xfrm>
            <a:off x="3152880" y="110808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ill in the Steam Age ..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Markup Domain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15E1921A-D084-4F0D-BA31-D89EE73E9DA1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http://static.mobilesalt.com/img/how-it-works/mobile-web.jpg?1290009138"/>
          <p:cNvPicPr/>
          <p:nvPr/>
        </p:nvPicPr>
        <p:blipFill>
          <a:blip r:embed="rId1"/>
          <a:stretch/>
        </p:blipFill>
        <p:spPr>
          <a:xfrm>
            <a:off x="838080" y="3124080"/>
            <a:ext cx="299880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5181480" y="388620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6172200" y="312408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4" descr=""/>
          <p:cNvPicPr/>
          <p:nvPr/>
        </p:nvPicPr>
        <p:blipFill>
          <a:blip r:embed="rId4"/>
          <a:stretch/>
        </p:blipFill>
        <p:spPr>
          <a:xfrm>
            <a:off x="384120" y="1450800"/>
            <a:ext cx="4035600" cy="152424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8" descr=""/>
          <p:cNvPicPr/>
          <p:nvPr/>
        </p:nvPicPr>
        <p:blipFill>
          <a:blip r:embed="rId5"/>
          <a:stretch/>
        </p:blipFill>
        <p:spPr>
          <a:xfrm>
            <a:off x="4724280" y="1579680"/>
            <a:ext cx="404172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Limitations, Issu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s an XML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tarting with JSON is more difficult then XM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 Structures not handled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No way to target different rules for different levels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Limited support for managing namespaces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sy vs. Lossless vs. Bidirection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ools do not tell you what the result will b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an produce huge XSLT files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x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Works but not elegantly handled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 Aware XS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D04293DA-22C8-47DB-AEC1-7F2121CFDBBE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An experiment ...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71" name="Slide Number Placeholder 2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9A37601D-0E1E-4D04-8793-EAF9555646DF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2" descr="C:\Users\DLEE\Desktop\7613856-assorted-laboratory-glassware-equipment-ready-for-an-experiment-in-a-science-research-lab.jpg"/>
          <p:cNvPicPr/>
          <p:nvPr/>
        </p:nvPicPr>
        <p:blipFill>
          <a:blip r:embed="rId1"/>
          <a:stretch/>
        </p:blipFill>
        <p:spPr>
          <a:xfrm>
            <a:off x="380880" y="1293840"/>
            <a:ext cx="2819520" cy="21160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"/>
          <p:cNvSpPr/>
          <p:nvPr/>
        </p:nvSpPr>
        <p:spPr>
          <a:xfrm>
            <a:off x="3581280" y="1293840"/>
            <a:ext cx="487692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ma information can be valuable in guiding transform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notations are a workable no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SON/XML transformation is hard 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hing will make everyone happy or solve every use c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mixture of languages can work 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va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Quer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SL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ftware is still fun 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A long track ahead ... 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75" name="Slide Number Placeholder 6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C378550B-B4B4-4485-A647-9937200120B8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" descr="C:\Users\DLEE\Desktop\6102538_5eb6d37129.jpg"/>
          <p:cNvPicPr/>
          <p:nvPr/>
        </p:nvPicPr>
        <p:blipFill>
          <a:blip r:embed="rId1"/>
          <a:stretch/>
        </p:blipFill>
        <p:spPr>
          <a:xfrm>
            <a:off x="457200" y="129852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5533920" y="1298520"/>
            <a:ext cx="33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5672160" y="2676600"/>
            <a:ext cx="3029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vid A. L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lee@epocrates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2213280" y="4952880"/>
            <a:ext cx="527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download visit:       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ttp://www.xmlsh.or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2697840" y="595800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n Source.   BSD Licens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In the Ideal World  ... 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973A7351-481D-4FB7-B3F5-715A3F5C6BCF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2" descr="C:\Users\DLEE\Desktop\Florida-High-Speed-Rail-1-e1298249897893.jpg"/>
          <p:cNvPicPr/>
          <p:nvPr/>
        </p:nvPicPr>
        <p:blipFill>
          <a:blip r:embed="rId1"/>
          <a:stretch/>
        </p:blipFill>
        <p:spPr>
          <a:xfrm>
            <a:off x="152280" y="1676520"/>
            <a:ext cx="8818560" cy="373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JSON and XML would be equivalent ...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BOOK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BOOK id="1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TITLE&gt;My Favorite Book&lt;/TIT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PRICE&gt;1.23&lt;/PRIC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BOOK id="1a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TITLE&gt;XML for Dummies&lt;/TIT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PRICE&gt;5.25&lt;/PRIC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BOOK id="3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TITLE&gt;JSON for Dummies&lt;/TIT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PRICE&gt;200.95&lt;/PRIC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BOOK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00600" y="1142640"/>
            <a:ext cx="38894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00240" y="22096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 "BOOKS" : [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 "id" : "1"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title": "My Favorite Book"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price" : 1.23 }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 "id" : "1a"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title": "XML for Dummies" 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price" : 5.25}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 "id" : "3"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title": "JSON for Dummies" 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price" : 200.95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28D5C851-64A2-4C16-ADC9-E3F4B2AB58DD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JSON != XML – they just don't translate easily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a translation know to consistently use a string value for "id" and "title" but a numeric value for "price" 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es the "BOOK" element come from when translating to XML 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es the JSON to XML transformation code know to make "id" into an attribute in XML but not price or title 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es the XML to JSON translation know to construct an array in JSON 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es the name conversion rule for "TITLE" vs. "title" and "PRICE" vs. "price" occur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7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FCA3254B-58BA-4639-9D0F-CFDA0CFEF7BF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In reality ... 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23" name="Slide Number Placeholder 7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FD78099A-A2D8-42A2-90F3-3A15C2A248C0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2" descr="C:\Users\DLEE\Desktop\3100728_f520.jpg"/>
          <p:cNvPicPr/>
          <p:nvPr/>
        </p:nvPicPr>
        <p:blipFill>
          <a:blip r:embed="rId1"/>
          <a:stretch/>
        </p:blipFill>
        <p:spPr>
          <a:xfrm>
            <a:off x="990720" y="958680"/>
            <a:ext cx="7391160" cy="540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64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In Reality – json.org XML to JSON 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990360"/>
            <a:ext cx="2895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childNodes": [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childNodes": [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childNodes"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"My Favorite Book"]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tagName": "TITLE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childNodes": [1.23]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tagName": "PRICE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]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d": 1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tagName": "BOOK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7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8D5B9CE3-61C9-4286-9B7A-5644E5B1DC64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Content Placeholder 9"/>
          <p:cNvSpPr/>
          <p:nvPr/>
        </p:nvSpPr>
        <p:spPr>
          <a:xfrm>
            <a:off x="5715000" y="995400"/>
            <a:ext cx="3200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childNodes": [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childNodes"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"JSON for Dummies"]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tagName": "TITLE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childNodes": [200.95]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tagName": "PRICE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]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d": 3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tagName": "BOOK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]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tagName": "BOOKS“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Content Placeholder 9"/>
          <p:cNvSpPr/>
          <p:nvPr/>
        </p:nvSpPr>
        <p:spPr>
          <a:xfrm>
            <a:off x="3124080" y="995400"/>
            <a:ext cx="2743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   "childNodes": [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childNodes"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"XML for Dummies"]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tagName": "TITLE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childNodes": [5.25]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tagName": "PRICE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]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d": "1a"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tagName": "BOOK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8:57:12Z</dcterms:created>
  <dc:creator>Epocrates User</dc:creator>
  <dc:description/>
  <dc:language>en-US</dc:language>
  <cp:lastModifiedBy>DLEE</cp:lastModifiedBy>
  <cp:lastPrinted>2011-07-30T01:01:43Z</cp:lastPrinted>
  <dcterms:modified xsi:type="dcterms:W3CDTF">2011-08-11T14:22:35Z</dcterms:modified>
  <cp:revision>42</cp:revision>
  <dc:subject/>
  <dc:title>EpocTemplateNov09</dc:title>
</cp:coreProperties>
</file>