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04480" y="696960"/>
            <a:ext cx="4651560" cy="34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9D6D40A-6696-458F-B89E-EE6852F9D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omputer_programming" TargetMode="External"/><Relationship Id="rId2" Type="http://schemas.openxmlformats.org/officeDocument/2006/relationships/hyperlink" Target="http://en.wikipedia.org/wiki/Source_code" TargetMode="External"/><Relationship Id="rId3" Type="http://schemas.openxmlformats.org/officeDocument/2006/relationships/slide" Target="../slides/slide21.xml"/><Relationship Id="rId4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51560" cy="34876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Xtemp is a script language that attempts to leverage XML processing (XSLT, Xpath)  in the processing of Business events w a tendency to follow a workflow 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Event-driven at Application level (not XML parsing lev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2F6836B-4AC6-484B-9B6A-5F303EF4D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51560" cy="34876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ne of the documents needs be schema-valid, BUT in addition their combination must be consist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51560" cy="34876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 output: communication between Xtemp scrip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llows pipelining. (break complex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51560" cy="34876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execution semantics assuming no interaction with external systems – just w Event Bo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ssuming NO posting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F15277B-D3F3-4758-9ADB-9F37B7E6D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51560" cy="34876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CC81232-40AA-4E21-99C8-BBFE0BB7B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51560" cy="34876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C239EEA-6EEA-4EE5-ACE9-F0CE6EEBE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51560" cy="34876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CECCA54-3BD9-40E9-9431-DA7F5D1D0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51560" cy="34876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Loop = block statement with initialization block and final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51560" cy="348768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urrent programming style: actually more intu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f this is to be executed in Real Tim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51560" cy="34876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report = event: capture X-effect in a VAR de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51560" cy="34876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Xtemp is a script language that attempts to leverage XML processing (XSLT, Xpath)  in the processing of Business events w a tendency to follow a workflow  and choreography 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Event-driven at Application level (not XML parsing lev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51560" cy="34876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ne of the documents needs be schema-valid, BUT in addition their combination must be consist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51560" cy="348768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fr-FR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omputer programming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unit testing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is a software verification and validation method in which a programmer tests that individual units of </a:t>
            </a:r>
            <a:r>
              <a:rPr b="0" lang="fr-FR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ource cod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are fit for use. A unit is the smallest testable part of an application. In procedural programming a unit may be an individual program, function, procedure, etc., while in object-oriented programming, the smallest unit is a class, which may belong to a base/super class, abstract class or derived/child 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51560" cy="34876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n computer programming,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unit testing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is a software verification and validation method in which a programmer tests that individual units of source code are fit for use. A unit is the smallest testable part of an application. In procedural programming a unit may be an individual program, function, procedure, etc., while in object-oriented programming, the smallest unit is a class, which may belong to a base/super class, abstract class or derived/child 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51560" cy="34876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n computer programming,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unit testing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is a software verification and validation method in which a programmer tests that individual units of source code are fit for use. A unit is the smallest testable part of an application. In procedural programming a unit may be an individual program, function, procedure, etc., while in object-oriented programming, the smallest unit is a class, which may belong to a base/super class, abstract class or derived/child 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51560" cy="348768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erformance? 100 MB file (20,000 evts, 2 million lines)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0 sec to more than 1m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51560" cy="34876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Bus will remain heterogeneous for a while. No single stand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2B gateway will shield back-end systems from this heterogeneity, SOA will define the internal standa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Ds under shared control of users and of vendor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 way to communicate requirements and to define contracts  between these two groups (contract B2B software user / vendor, as opposed to contract between B2B partn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51560" cy="34876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 (logical expr) vs. Analytics (iterative compute, depends on each sequence of ev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ypically, verification done by a state ma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51560" cy="34876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s, because time they take effect mat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C41C145-3A9B-4243-B64B-6C0B2D305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51560" cy="34876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declarative lges don’t fit  analysis of evt sequences that follow wkflow logic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51560" cy="34876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 the world functioning as a giant state mach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51560" cy="34876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urrent programming style: actually more intu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Did not want to preempt future use of XQ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51560" cy="34876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Evt Board can be a single XML file, evts are defined  (1) by an Xpath expr, and (2) must have a timestamp identified by the same Xpath, (3) must be ordered by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66C8-DD80-49C4-9265-DED23F976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18960" y="372636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B471-441C-4D53-842D-833DAC2E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4640" y="12189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18960" y="37263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4640" y="37263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7C89-3C5F-47E1-BF8B-5FCAC13A2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69560" y="121896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20520" y="121896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18960" y="372636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69560" y="372636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20520" y="372636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70F3-8017-4334-B9A6-0EB88236E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C5B2-E563-4708-AED7-3D7D67325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8960" y="12189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C746-9E7A-4A0C-B3B5-1B696D15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0214-A610-40CF-801C-A91D6995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4640" y="121896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F15B-B717-4077-ACE2-6DFE2EF5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21FF-12C3-40C6-9113-3416F9A2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320" y="0"/>
            <a:ext cx="80773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6B9C-D376-45CC-8789-77825AAF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84640" y="121896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8960" y="37263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C5BA-4E1C-408A-AD91-040A27BC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18960" y="12189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CA85-BFEC-4BE2-96CB-6A4CD04C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84640" y="12189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84640" y="37263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5951-3DC7-408E-ABE5-D79D0ADD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84640" y="12189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8960" y="372636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8FE1-B114-4C93-A01F-4A323695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8960" y="372636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7BFB-86EE-49DA-BA5E-8EA7C1F0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4640" y="12189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8960" y="37263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84640" y="37263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0D75-EB01-4D32-AA38-9018669FB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69560" y="121896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20520" y="121896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8960" y="372636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69560" y="372636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20520" y="372636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5C7A-DE75-4C58-ACFB-A21F4F0A1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CE3B-8DEA-4809-88CF-DA7B3E53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4640" y="121896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3FC6-E763-45F8-98ED-18A1A0EF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BEBF-CC6F-417F-AE87-2D2E5168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320" y="0"/>
            <a:ext cx="80773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6104-13B4-4FA7-AC40-3948B233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4640" y="121896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18960" y="37263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3CD0-3D10-4CA6-B5EA-48304630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4640" y="12189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4640" y="37263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B0B6-6753-43C6-BA36-A7941202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4640" y="12189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8960" y="372636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A16A-8517-4DC6-A76C-B749F7D0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2189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2320" y="64008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7DB8-E900-48D5-A59A-304E9595BC73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4038480" y="64771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10"/>
          <p:cNvSpPr/>
          <p:nvPr/>
        </p:nvSpPr>
        <p:spPr>
          <a:xfrm>
            <a:off x="3560040" y="6489720"/>
            <a:ext cx="20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ujitsu Computer Syste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18960" y="12189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ujitsu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7D23-635C-4A94-B6A3-9D79016F9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XTemp: Event-Driven Testing and Monitoring of Processes 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Balisage 2011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6840" y="3733560"/>
            <a:ext cx="65530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80880" y="449568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Jacques Durand (Fujitsu America, Inc.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Hyunbo Cho (Pohang Univ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Dale Moberg (Axway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Jungyub Woo (NIST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5FBD-1740-4DA6-B2A9-80ABC4641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Event Ca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ATCH 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</a:rPr>
              <a:t>pattern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of event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ath”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emplate”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Box 22"/>
          <p:cNvSpPr/>
          <p:nvPr/>
        </p:nvSpPr>
        <p:spPr>
          <a:xfrm>
            <a:off x="304920" y="3200400"/>
            <a:ext cx="396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atch&gt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match evt=“E1”&gt;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match evt=“E2”&gt;.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match evt=“E3”&gt;.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catch&gt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Box 23"/>
          <p:cNvSpPr/>
          <p:nvPr/>
        </p:nvSpPr>
        <p:spPr>
          <a:xfrm>
            <a:off x="4724280" y="2057400"/>
            <a:ext cx="441972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atch&gt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match evt=“E1”&gt;.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catch&gt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f&gt;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atch&gt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match evt=“E2”&gt;.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catch&gt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atch&gt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match evt=“E3”&gt;.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catch&gt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20"/>
          <p:cNvSpPr/>
          <p:nvPr/>
        </p:nvSpPr>
        <p:spPr>
          <a:xfrm>
            <a:off x="304920" y="2971800"/>
            <a:ext cx="3962160" cy="2514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21"/>
          <p:cNvSpPr/>
          <p:nvPr/>
        </p:nvSpPr>
        <p:spPr>
          <a:xfrm>
            <a:off x="4648320" y="1905120"/>
            <a:ext cx="3962160" cy="4419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Straight Arrow Connector 23"/>
          <p:cNvCxnSpPr/>
          <p:nvPr/>
        </p:nvCxnSpPr>
        <p:spPr>
          <a:xfrm>
            <a:off x="3047760" y="1600200"/>
            <a:ext cx="1448280" cy="459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1" name="Straight Arrow Connector 24"/>
          <p:cNvCxnSpPr/>
          <p:nvPr/>
        </p:nvCxnSpPr>
        <p:spPr>
          <a:xfrm>
            <a:off x="2132640" y="2285640"/>
            <a:ext cx="22932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2" name="Slide Number Placeholder 5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7DE3-331D-4AC1-84AB-DC8BDDE2C7DA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Oval 24"/>
          <p:cNvSpPr/>
          <p:nvPr/>
        </p:nvSpPr>
        <p:spPr>
          <a:xfrm>
            <a:off x="6858000" y="2514600"/>
            <a:ext cx="160020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23"/>
          <p:cNvSpPr/>
          <p:nvPr/>
        </p:nvSpPr>
        <p:spPr>
          <a:xfrm>
            <a:off x="6705720" y="2514600"/>
            <a:ext cx="160020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22"/>
          <p:cNvSpPr/>
          <p:nvPr/>
        </p:nvSpPr>
        <p:spPr>
          <a:xfrm>
            <a:off x="6553080" y="2514600"/>
            <a:ext cx="160020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Folded Corner 21"/>
          <p:cNvSpPr/>
          <p:nvPr/>
        </p:nvSpPr>
        <p:spPr>
          <a:xfrm>
            <a:off x="2665440" y="4343400"/>
            <a:ext cx="1828800" cy="685800"/>
          </a:xfrm>
          <a:prstGeom prst="foldedCorner">
            <a:avLst>
              <a:gd name="adj" fmla="val 16666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Main Design Choices: the outpu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Execution produces {Events + X-effect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2895480" y="2362320"/>
            <a:ext cx="23623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Te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gin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ight Arrow 9"/>
          <p:cNvSpPr/>
          <p:nvPr/>
        </p:nvSpPr>
        <p:spPr>
          <a:xfrm>
            <a:off x="2057400" y="2819520"/>
            <a:ext cx="6858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ight Arrow 10"/>
          <p:cNvSpPr/>
          <p:nvPr/>
        </p:nvSpPr>
        <p:spPr>
          <a:xfrm>
            <a:off x="5562720" y="28195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Down Arrow 11"/>
          <p:cNvSpPr/>
          <p:nvPr/>
        </p:nvSpPr>
        <p:spPr>
          <a:xfrm>
            <a:off x="3581280" y="3809880"/>
            <a:ext cx="6858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13"/>
          <p:cNvSpPr/>
          <p:nvPr/>
        </p:nvSpPr>
        <p:spPr>
          <a:xfrm>
            <a:off x="6636240" y="2743200"/>
            <a:ext cx="13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14"/>
          <p:cNvSpPr/>
          <p:nvPr/>
        </p:nvSpPr>
        <p:spPr>
          <a:xfrm>
            <a:off x="2830320" y="4343400"/>
            <a:ext cx="63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-effect  (XML side effect of exec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685800" y="5105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Combined X-effects = output XML “report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25"/>
          <p:cNvSpPr/>
          <p:nvPr/>
        </p:nvSpPr>
        <p:spPr>
          <a:xfrm>
            <a:off x="304920" y="2514600"/>
            <a:ext cx="160020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26"/>
          <p:cNvSpPr/>
          <p:nvPr/>
        </p:nvSpPr>
        <p:spPr>
          <a:xfrm>
            <a:off x="152280" y="2514600"/>
            <a:ext cx="160020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27"/>
          <p:cNvSpPr/>
          <p:nvPr/>
        </p:nvSpPr>
        <p:spPr>
          <a:xfrm>
            <a:off x="0" y="2514600"/>
            <a:ext cx="160020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Box 13"/>
          <p:cNvSpPr/>
          <p:nvPr/>
        </p:nvSpPr>
        <p:spPr>
          <a:xfrm>
            <a:off x="83160" y="2743200"/>
            <a:ext cx="13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64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3B9E-AB43-4EA2-97C2-0FDBDAFCCD1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Main Design Choices: Time-aware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</a:rPr>
              <a:t>Virtual Present Time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of exec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VP-time associated with each [script] exec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n sync with Event timesta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criplets = units of scripts = mini-workf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an be spawned (as threads),  jo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nvocation: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</a:rPr>
              <a:t>blocking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 vs.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</a:rPr>
              <a:t>non-block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nitial VP-time can be set for 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49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E239-07AB-4480-867E-380E3108BF51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54"/>
          <p:cNvSpPr/>
          <p:nvPr/>
        </p:nvSpPr>
        <p:spPr>
          <a:xfrm>
            <a:off x="228600" y="1066680"/>
            <a:ext cx="28195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5302080" y="2376360"/>
            <a:ext cx="20880" cy="3843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4"/>
          <p:cNvSpPr/>
          <p:nvPr/>
        </p:nvSpPr>
        <p:spPr>
          <a:xfrm>
            <a:off x="7572240" y="1905120"/>
            <a:ext cx="36720" cy="43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5"/>
          <p:cNvSpPr/>
          <p:nvPr/>
        </p:nvSpPr>
        <p:spPr>
          <a:xfrm>
            <a:off x="8904240" y="187632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4159080" y="2224080"/>
            <a:ext cx="20880" cy="4300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7"/>
          <p:cNvSpPr/>
          <p:nvPr/>
        </p:nvSpPr>
        <p:spPr>
          <a:xfrm flipH="1">
            <a:off x="7571880" y="2120760"/>
            <a:ext cx="1081080" cy="4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8"/>
          <p:cNvSpPr/>
          <p:nvPr/>
        </p:nvSpPr>
        <p:spPr>
          <a:xfrm flipH="1">
            <a:off x="7570440" y="3705120"/>
            <a:ext cx="100980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7572240" y="32004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0"/>
          <p:cNvSpPr/>
          <p:nvPr/>
        </p:nvSpPr>
        <p:spPr>
          <a:xfrm>
            <a:off x="7570800" y="4352760"/>
            <a:ext cx="1082520" cy="43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4998240" y="1157400"/>
            <a:ext cx="86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14"/>
          <p:cNvSpPr/>
          <p:nvPr/>
        </p:nvSpPr>
        <p:spPr>
          <a:xfrm>
            <a:off x="5124600" y="1905120"/>
            <a:ext cx="360360" cy="43164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5"/>
          <p:cNvSpPr/>
          <p:nvPr/>
        </p:nvSpPr>
        <p:spPr>
          <a:xfrm flipH="1">
            <a:off x="5340240" y="2552760"/>
            <a:ext cx="2232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6"/>
          <p:cNvSpPr/>
          <p:nvPr/>
        </p:nvSpPr>
        <p:spPr>
          <a:xfrm flipH="1" flipV="1">
            <a:off x="5340240" y="3200400"/>
            <a:ext cx="223200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7"/>
          <p:cNvSpPr/>
          <p:nvPr/>
        </p:nvSpPr>
        <p:spPr>
          <a:xfrm flipH="1">
            <a:off x="5338800" y="3994200"/>
            <a:ext cx="22334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8"/>
          <p:cNvSpPr/>
          <p:nvPr/>
        </p:nvSpPr>
        <p:spPr>
          <a:xfrm flipH="1">
            <a:off x="5338800" y="4352760"/>
            <a:ext cx="22334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19"/>
          <p:cNvSpPr/>
          <p:nvPr/>
        </p:nvSpPr>
        <p:spPr>
          <a:xfrm>
            <a:off x="3973680" y="2697120"/>
            <a:ext cx="431640" cy="2016000"/>
          </a:xfrm>
          <a:prstGeom prst="downArrow">
            <a:avLst>
              <a:gd name="adj1" fmla="val 49556"/>
              <a:gd name="adj2" fmla="val 29018"/>
            </a:avLst>
          </a:prstGeom>
          <a:solidFill>
            <a:srgbClr val="8cec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20"/>
          <p:cNvSpPr/>
          <p:nvPr/>
        </p:nvSpPr>
        <p:spPr>
          <a:xfrm flipH="1">
            <a:off x="4260960" y="2552760"/>
            <a:ext cx="1079280" cy="144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21"/>
          <p:cNvSpPr/>
          <p:nvPr/>
        </p:nvSpPr>
        <p:spPr>
          <a:xfrm flipH="1">
            <a:off x="4331880" y="3200400"/>
            <a:ext cx="1079640" cy="144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22"/>
          <p:cNvSpPr/>
          <p:nvPr/>
        </p:nvSpPr>
        <p:spPr>
          <a:xfrm flipH="1">
            <a:off x="4330800" y="3994200"/>
            <a:ext cx="1079280" cy="144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23"/>
          <p:cNvSpPr/>
          <p:nvPr/>
        </p:nvSpPr>
        <p:spPr>
          <a:xfrm flipH="1">
            <a:off x="4330800" y="4352760"/>
            <a:ext cx="1079280" cy="144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4"/>
          <p:cNvSpPr/>
          <p:nvPr/>
        </p:nvSpPr>
        <p:spPr>
          <a:xfrm>
            <a:off x="5793120" y="596916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ual tim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8"/>
          <p:cNvSpPr/>
          <p:nvPr/>
        </p:nvSpPr>
        <p:spPr>
          <a:xfrm>
            <a:off x="3626280" y="1081080"/>
            <a:ext cx="1299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33"/>
          <p:cNvSpPr/>
          <p:nvPr/>
        </p:nvSpPr>
        <p:spPr>
          <a:xfrm>
            <a:off x="3930480" y="5424480"/>
            <a:ext cx="401760" cy="719280"/>
          </a:xfrm>
          <a:prstGeom prst="downArrow">
            <a:avLst>
              <a:gd name="adj1" fmla="val 49556"/>
              <a:gd name="adj2" fmla="val 11123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36"/>
          <p:cNvSpPr/>
          <p:nvPr/>
        </p:nvSpPr>
        <p:spPr>
          <a:xfrm flipH="1">
            <a:off x="4311360" y="2625840"/>
            <a:ext cx="957240" cy="27986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37"/>
          <p:cNvSpPr/>
          <p:nvPr/>
        </p:nvSpPr>
        <p:spPr>
          <a:xfrm flipH="1">
            <a:off x="4311360" y="3273480"/>
            <a:ext cx="1028520" cy="23796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38"/>
          <p:cNvSpPr/>
          <p:nvPr/>
        </p:nvSpPr>
        <p:spPr>
          <a:xfrm flipH="1">
            <a:off x="4387680" y="4065480"/>
            <a:ext cx="952560" cy="17398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39"/>
          <p:cNvSpPr/>
          <p:nvPr/>
        </p:nvSpPr>
        <p:spPr>
          <a:xfrm flipH="1">
            <a:off x="4311360" y="4352760"/>
            <a:ext cx="1028520" cy="16812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3"/>
          <p:cNvSpPr/>
          <p:nvPr/>
        </p:nvSpPr>
        <p:spPr>
          <a:xfrm>
            <a:off x="685800" y="1828800"/>
            <a:ext cx="438120" cy="533520"/>
          </a:xfrm>
          <a:prstGeom prst="downArrow">
            <a:avLst>
              <a:gd name="adj1" fmla="val 49556"/>
              <a:gd name="adj2" fmla="val 7566"/>
            </a:avLst>
          </a:prstGeom>
          <a:solidFill>
            <a:srgbClr val="8cec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44"/>
          <p:cNvSpPr/>
          <p:nvPr/>
        </p:nvSpPr>
        <p:spPr>
          <a:xfrm>
            <a:off x="1981080" y="1828800"/>
            <a:ext cx="455760" cy="533520"/>
          </a:xfrm>
          <a:prstGeom prst="downArrow">
            <a:avLst>
              <a:gd name="adj1" fmla="val 49556"/>
              <a:gd name="adj2" fmla="val 7273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5"/>
          <p:cNvSpPr/>
          <p:nvPr/>
        </p:nvSpPr>
        <p:spPr>
          <a:xfrm>
            <a:off x="306720" y="1143000"/>
            <a:ext cx="1247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6"/>
          <p:cNvSpPr/>
          <p:nvPr/>
        </p:nvSpPr>
        <p:spPr>
          <a:xfrm>
            <a:off x="1678320" y="1143000"/>
            <a:ext cx="1247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erre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7"/>
          <p:cNvSpPr/>
          <p:nvPr/>
        </p:nvSpPr>
        <p:spPr>
          <a:xfrm>
            <a:off x="7608960" y="2562120"/>
            <a:ext cx="140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hang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8"/>
          <p:cNvSpPr/>
          <p:nvPr/>
        </p:nvSpPr>
        <p:spPr>
          <a:xfrm>
            <a:off x="5856120" y="2181240"/>
            <a:ext cx="14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51"/>
          <p:cNvSpPr/>
          <p:nvPr/>
        </p:nvSpPr>
        <p:spPr>
          <a:xfrm>
            <a:off x="380880" y="2286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ve vs. Deferred Test Case Execu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53"/>
          <p:cNvSpPr/>
          <p:nvPr/>
        </p:nvSpPr>
        <p:spPr>
          <a:xfrm>
            <a:off x="0" y="4419720"/>
            <a:ext cx="3200400" cy="1066680"/>
          </a:xfrm>
          <a:prstGeom prst="wedgeRoundRectCallout">
            <a:avLst>
              <a:gd name="adj1" fmla="val 76092"/>
              <a:gd name="adj2" fmla="val 63541"/>
              <a:gd name="adj3" fmla="val 16667"/>
            </a:avLst>
          </a:prstGeom>
          <a:solidFill>
            <a:srgbClr val="ffd2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4"/>
          <p:cNvSpPr/>
          <p:nvPr/>
        </p:nvSpPr>
        <p:spPr>
          <a:xfrm>
            <a:off x="0" y="46483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ERRED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P-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past da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55"/>
          <p:cNvSpPr/>
          <p:nvPr/>
        </p:nvSpPr>
        <p:spPr>
          <a:xfrm>
            <a:off x="152280" y="3200400"/>
            <a:ext cx="3276720" cy="990720"/>
          </a:xfrm>
          <a:prstGeom prst="wedgeRoundRectCallout">
            <a:avLst>
              <a:gd name="adj1" fmla="val 69726"/>
              <a:gd name="adj2" fmla="val -90606"/>
              <a:gd name="adj3" fmla="val 16667"/>
            </a:avLst>
          </a:prstGeom>
          <a:solidFill>
            <a:srgbClr val="8cec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2"/>
          <p:cNvSpPr/>
          <p:nvPr/>
        </p:nvSpPr>
        <p:spPr>
          <a:xfrm>
            <a:off x="228600" y="3352680"/>
            <a:ext cx="3124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P-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 tim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56" descr="BD18252_"/>
          <p:cNvPicPr/>
          <p:nvPr/>
        </p:nvPicPr>
        <p:blipFill>
          <a:blip r:embed="rId1"/>
          <a:stretch/>
        </p:blipFill>
        <p:spPr>
          <a:xfrm>
            <a:off x="7391520" y="914400"/>
            <a:ext cx="477720" cy="9144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7" descr="BD18252_"/>
          <p:cNvPicPr/>
          <p:nvPr/>
        </p:nvPicPr>
        <p:blipFill>
          <a:blip r:embed="rId2"/>
          <a:stretch/>
        </p:blipFill>
        <p:spPr>
          <a:xfrm>
            <a:off x="8666280" y="914400"/>
            <a:ext cx="477720" cy="914400"/>
          </a:xfrm>
          <a:prstGeom prst="rect">
            <a:avLst/>
          </a:prstGeom>
          <a:ln w="0">
            <a:noFill/>
          </a:ln>
        </p:spPr>
      </p:pic>
      <p:sp>
        <p:nvSpPr>
          <p:cNvPr id="264" name="Slide Number Placeholder 87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CFBE-C638-489E-856F-9B30C66DA110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1"/>
          <p:cNvSpPr/>
          <p:nvPr/>
        </p:nvSpPr>
        <p:spPr>
          <a:xfrm>
            <a:off x="2057400" y="152280"/>
            <a:ext cx="4952880" cy="6324840"/>
          </a:xfrm>
          <a:prstGeom prst="rect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ounded Rectangle 2"/>
          <p:cNvSpPr/>
          <p:nvPr/>
        </p:nvSpPr>
        <p:spPr>
          <a:xfrm>
            <a:off x="2514600" y="1371600"/>
            <a:ext cx="1447920" cy="495288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4952880"/>
              <a:gd name="textAreaBottom" fmla="*/ 4882320 h 4952880"/>
            </a:gdLst>
            <a:ahLst/>
            <a:rect l="textAreaLeft" t="textAreaTop" r="textAreaRight" b="textAreaBottom"/>
            <a:pathLst>
              <a:path w="21600" h="73874">
                <a:moveTo>
                  <a:pt x="3600" y="0"/>
                </a:moveTo>
                <a:arcTo wR="3600" hR="3600" stAng="16200000" swAng="-5400000"/>
                <a:lnTo>
                  <a:pt x="0" y="70274"/>
                </a:lnTo>
                <a:arcTo wR="3600" hR="3600" stAng="10800000" swAng="-5400000"/>
                <a:lnTo>
                  <a:pt x="18000" y="738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2fff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ounded Rectangle 3"/>
          <p:cNvSpPr/>
          <p:nvPr/>
        </p:nvSpPr>
        <p:spPr>
          <a:xfrm>
            <a:off x="5181480" y="2362320"/>
            <a:ext cx="1219320" cy="2666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2666880"/>
              <a:gd name="textAreaBottom" fmla="*/ 2607480 h 2666880"/>
            </a:gdLst>
            <a:ahLst/>
            <a:rect l="textAreaLeft" t="textAreaTop" r="textAreaRight" b="textAreaBottom"/>
            <a:pathLst>
              <a:path w="21600" h="47236">
                <a:moveTo>
                  <a:pt x="3600" y="0"/>
                </a:moveTo>
                <a:arcTo wR="3600" hR="3600" stAng="16200000" swAng="-5400000"/>
                <a:lnTo>
                  <a:pt x="0" y="43636"/>
                </a:lnTo>
                <a:arcTo wR="3600" hR="3600" stAng="10800000" swAng="-5400000"/>
                <a:lnTo>
                  <a:pt x="18000" y="472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2fff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traight Connector 5"/>
          <p:cNvSpPr/>
          <p:nvPr/>
        </p:nvSpPr>
        <p:spPr>
          <a:xfrm>
            <a:off x="3200400" y="1447920"/>
            <a:ext cx="0" cy="4724280"/>
          </a:xfrm>
          <a:prstGeom prst="line">
            <a:avLst/>
          </a:prstGeom>
          <a:ln w="57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6"/>
          <p:cNvSpPr/>
          <p:nvPr/>
        </p:nvSpPr>
        <p:spPr>
          <a:xfrm>
            <a:off x="2225880" y="2286000"/>
            <a:ext cx="24681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rt S2 @vptsync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=tru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Box 7"/>
          <p:cNvSpPr/>
          <p:nvPr/>
        </p:nvSpPr>
        <p:spPr>
          <a:xfrm>
            <a:off x="2601720" y="1600200"/>
            <a:ext cx="1346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P-time = t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9"/>
          <p:cNvSpPr/>
          <p:nvPr/>
        </p:nvSpPr>
        <p:spPr>
          <a:xfrm>
            <a:off x="5116320" y="2438280"/>
            <a:ext cx="1346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P-time = t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Straight Connector 18"/>
          <p:cNvSpPr/>
          <p:nvPr/>
        </p:nvSpPr>
        <p:spPr>
          <a:xfrm flipH="1">
            <a:off x="5789160" y="2971800"/>
            <a:ext cx="1800" cy="1295280"/>
          </a:xfrm>
          <a:prstGeom prst="line">
            <a:avLst/>
          </a:prstGeom>
          <a:ln w="57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22"/>
          <p:cNvSpPr/>
          <p:nvPr/>
        </p:nvSpPr>
        <p:spPr>
          <a:xfrm>
            <a:off x="5116320" y="4267080"/>
            <a:ext cx="1346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P-time = t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Box 23"/>
          <p:cNvSpPr/>
          <p:nvPr/>
        </p:nvSpPr>
        <p:spPr>
          <a:xfrm>
            <a:off x="2601720" y="4419720"/>
            <a:ext cx="1346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P-time = t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56"/>
          <p:cNvSpPr/>
          <p:nvPr/>
        </p:nvSpPr>
        <p:spPr>
          <a:xfrm>
            <a:off x="2675160" y="990720"/>
            <a:ext cx="1229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riplet S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Box 57"/>
          <p:cNvSpPr/>
          <p:nvPr/>
        </p:nvSpPr>
        <p:spPr>
          <a:xfrm>
            <a:off x="5266080" y="1905120"/>
            <a:ext cx="1229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riplet S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Box 74"/>
          <p:cNvSpPr/>
          <p:nvPr/>
        </p:nvSpPr>
        <p:spPr>
          <a:xfrm>
            <a:off x="3365640" y="304920"/>
            <a:ext cx="2824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lock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vocatio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8" name="Straight Arrow Connector 42"/>
          <p:cNvCxnSpPr/>
          <p:nvPr/>
        </p:nvCxnSpPr>
        <p:spPr>
          <a:xfrm>
            <a:off x="4343040" y="2743200"/>
            <a:ext cx="762840" cy="2160"/>
          </a:xfrm>
          <a:prstGeom prst="straightConnector1">
            <a:avLst/>
          </a:prstGeom>
          <a:ln w="381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279" name="Straight Arrow Connector 43"/>
          <p:cNvCxnSpPr/>
          <p:nvPr/>
        </p:nvCxnSpPr>
        <p:spPr>
          <a:xfrm flipH="1">
            <a:off x="4190760" y="4648320"/>
            <a:ext cx="762480" cy="2160"/>
          </a:xfrm>
          <a:prstGeom prst="straightConnector1">
            <a:avLst/>
          </a:prstGeom>
          <a:ln w="38160">
            <a:solidFill>
              <a:srgbClr val="00cc98"/>
            </a:solidFill>
            <a:miter/>
            <a:tailEnd len="med" type="arrow" w="med"/>
          </a:ln>
        </p:spPr>
      </p:cxnSp>
      <p:sp>
        <p:nvSpPr>
          <p:cNvPr id="280" name="TextBox 36"/>
          <p:cNvSpPr/>
          <p:nvPr/>
        </p:nvSpPr>
        <p:spPr>
          <a:xfrm>
            <a:off x="4736880" y="3276720"/>
            <a:ext cx="16545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atch evt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ew VP-time:t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37"/>
          <p:cNvSpPr/>
          <p:nvPr/>
        </p:nvSpPr>
        <p:spPr>
          <a:xfrm>
            <a:off x="2819520" y="2895480"/>
            <a:ext cx="761760" cy="1295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70"/>
          <p:cNvSpPr/>
          <p:nvPr/>
        </p:nvSpPr>
        <p:spPr>
          <a:xfrm>
            <a:off x="2819520" y="3352680"/>
            <a:ext cx="761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wait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lide Number Placeholder 68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3E4C-994E-49F4-AEB3-68AEF66ECA9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58"/>
          <p:cNvSpPr/>
          <p:nvPr/>
        </p:nvSpPr>
        <p:spPr>
          <a:xfrm>
            <a:off x="2057400" y="152280"/>
            <a:ext cx="5257800" cy="6324840"/>
          </a:xfrm>
          <a:prstGeom prst="rect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ounded Rectangle 59"/>
          <p:cNvSpPr/>
          <p:nvPr/>
        </p:nvSpPr>
        <p:spPr>
          <a:xfrm>
            <a:off x="2743200" y="1523880"/>
            <a:ext cx="1447920" cy="342900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3429000"/>
              <a:gd name="textAreaBottom" fmla="*/ 3358440 h 3429000"/>
            </a:gdLst>
            <a:ahLst/>
            <a:rect l="textAreaLeft" t="textAreaTop" r="textAreaRight" b="textAreaBottom"/>
            <a:pathLst>
              <a:path w="21600" h="51146">
                <a:moveTo>
                  <a:pt x="3600" y="0"/>
                </a:moveTo>
                <a:arcTo wR="3600" hR="3600" stAng="16200000" swAng="-5400000"/>
                <a:lnTo>
                  <a:pt x="0" y="47546"/>
                </a:lnTo>
                <a:arcTo wR="3600" hR="3600" stAng="10800000" swAng="-5400000"/>
                <a:lnTo>
                  <a:pt x="18000" y="511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2fff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traight Connector 61"/>
          <p:cNvSpPr/>
          <p:nvPr/>
        </p:nvSpPr>
        <p:spPr>
          <a:xfrm>
            <a:off x="3429000" y="1752480"/>
            <a:ext cx="0" cy="3200400"/>
          </a:xfrm>
          <a:prstGeom prst="line">
            <a:avLst/>
          </a:prstGeom>
          <a:ln w="57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Box 62"/>
          <p:cNvSpPr/>
          <p:nvPr/>
        </p:nvSpPr>
        <p:spPr>
          <a:xfrm>
            <a:off x="2150280" y="2514600"/>
            <a:ext cx="2547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rt S2 @vptsync=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fa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Box 63"/>
          <p:cNvSpPr/>
          <p:nvPr/>
        </p:nvSpPr>
        <p:spPr>
          <a:xfrm>
            <a:off x="2830320" y="2057400"/>
            <a:ext cx="1346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P-time = t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Box 68"/>
          <p:cNvSpPr/>
          <p:nvPr/>
        </p:nvSpPr>
        <p:spPr>
          <a:xfrm>
            <a:off x="2830320" y="2971800"/>
            <a:ext cx="1346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P-time = t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72"/>
          <p:cNvSpPr/>
          <p:nvPr/>
        </p:nvSpPr>
        <p:spPr>
          <a:xfrm>
            <a:off x="2903760" y="1143000"/>
            <a:ext cx="1229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riplet S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75"/>
          <p:cNvSpPr/>
          <p:nvPr/>
        </p:nvSpPr>
        <p:spPr>
          <a:xfrm>
            <a:off x="3140280" y="304920"/>
            <a:ext cx="3417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n-block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ocatio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ounded Rectangle 49"/>
          <p:cNvSpPr/>
          <p:nvPr/>
        </p:nvSpPr>
        <p:spPr>
          <a:xfrm>
            <a:off x="5486400" y="2438280"/>
            <a:ext cx="1219320" cy="281952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2819520"/>
              <a:gd name="textAreaBottom" fmla="*/ 2760120 h 2819520"/>
            </a:gdLst>
            <a:ahLst/>
            <a:rect l="textAreaLeft" t="textAreaTop" r="textAreaRight" b="textAreaBottom"/>
            <a:pathLst>
              <a:path w="21600" h="49939">
                <a:moveTo>
                  <a:pt x="3600" y="0"/>
                </a:moveTo>
                <a:arcTo wR="3600" hR="3600" stAng="16200000" swAng="-5400000"/>
                <a:lnTo>
                  <a:pt x="0" y="46339"/>
                </a:lnTo>
                <a:arcTo wR="3600" hR="3600" stAng="10800000" swAng="-5400000"/>
                <a:lnTo>
                  <a:pt x="18000" y="499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2fff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Box 50"/>
          <p:cNvSpPr/>
          <p:nvPr/>
        </p:nvSpPr>
        <p:spPr>
          <a:xfrm>
            <a:off x="5420880" y="2514600"/>
            <a:ext cx="1346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P-time = t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traight Connector 51"/>
          <p:cNvSpPr/>
          <p:nvPr/>
        </p:nvSpPr>
        <p:spPr>
          <a:xfrm>
            <a:off x="6095880" y="3048120"/>
            <a:ext cx="0" cy="1447560"/>
          </a:xfrm>
          <a:prstGeom prst="line">
            <a:avLst/>
          </a:prstGeom>
          <a:ln w="57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Box 52"/>
          <p:cNvSpPr/>
          <p:nvPr/>
        </p:nvSpPr>
        <p:spPr>
          <a:xfrm>
            <a:off x="5497200" y="4572000"/>
            <a:ext cx="1346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P-time = t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Box 53"/>
          <p:cNvSpPr/>
          <p:nvPr/>
        </p:nvSpPr>
        <p:spPr>
          <a:xfrm>
            <a:off x="5571000" y="2057400"/>
            <a:ext cx="1229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riplet S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Straight Arrow Connector 54"/>
          <p:cNvCxnSpPr/>
          <p:nvPr/>
        </p:nvCxnSpPr>
        <p:spPr>
          <a:xfrm>
            <a:off x="4571640" y="2895120"/>
            <a:ext cx="762840" cy="2520"/>
          </a:xfrm>
          <a:prstGeom prst="straightConnector1">
            <a:avLst/>
          </a:prstGeom>
          <a:ln w="38160">
            <a:solidFill>
              <a:srgbClr val="00cc98"/>
            </a:solidFill>
            <a:miter/>
            <a:tailEnd len="med" type="arrow" w="med"/>
          </a:ln>
        </p:spPr>
      </p:cxnSp>
      <p:sp>
        <p:nvSpPr>
          <p:cNvPr id="298" name="TextBox 38"/>
          <p:cNvSpPr/>
          <p:nvPr/>
        </p:nvSpPr>
        <p:spPr>
          <a:xfrm>
            <a:off x="5270040" y="3429000"/>
            <a:ext cx="16545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atch evt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ew VP-time:t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Slide Number Placeholder 68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16F3-27E0-490E-9560-B3E2BB08AC93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74"/>
          <p:cNvSpPr/>
          <p:nvPr/>
        </p:nvSpPr>
        <p:spPr>
          <a:xfrm>
            <a:off x="473400" y="380880"/>
            <a:ext cx="32803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ackwar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non-blockin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ocatio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Box 75"/>
          <p:cNvSpPr/>
          <p:nvPr/>
        </p:nvSpPr>
        <p:spPr>
          <a:xfrm>
            <a:off x="5118840" y="380880"/>
            <a:ext cx="2687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ackwar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blockin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ocatio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36"/>
          <p:cNvSpPr/>
          <p:nvPr/>
        </p:nvSpPr>
        <p:spPr>
          <a:xfrm>
            <a:off x="228600" y="152280"/>
            <a:ext cx="4191120" cy="6324840"/>
          </a:xfrm>
          <a:prstGeom prst="rect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ounded Rectangle 37"/>
          <p:cNvSpPr/>
          <p:nvPr/>
        </p:nvSpPr>
        <p:spPr>
          <a:xfrm>
            <a:off x="457200" y="2590920"/>
            <a:ext cx="1447920" cy="358128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3581280"/>
              <a:gd name="textAreaBottom" fmla="*/ 3510720 h 3581280"/>
            </a:gdLst>
            <a:ahLst/>
            <a:rect l="textAreaLeft" t="textAreaTop" r="textAreaRight" b="textAreaBottom"/>
            <a:pathLst>
              <a:path w="21600" h="53417">
                <a:moveTo>
                  <a:pt x="3600" y="0"/>
                </a:moveTo>
                <a:arcTo wR="3600" hR="3600" stAng="16200000" swAng="-5400000"/>
                <a:lnTo>
                  <a:pt x="0" y="49817"/>
                </a:lnTo>
                <a:arcTo wR="3600" hR="3600" stAng="10800000" swAng="-5400000"/>
                <a:lnTo>
                  <a:pt x="18000" y="534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2fff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traight Connector 38"/>
          <p:cNvSpPr/>
          <p:nvPr/>
        </p:nvSpPr>
        <p:spPr>
          <a:xfrm>
            <a:off x="1143000" y="2819520"/>
            <a:ext cx="0" cy="3200400"/>
          </a:xfrm>
          <a:prstGeom prst="line">
            <a:avLst/>
          </a:prstGeom>
          <a:ln w="57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Box 39"/>
          <p:cNvSpPr/>
          <p:nvPr/>
        </p:nvSpPr>
        <p:spPr>
          <a:xfrm>
            <a:off x="474120" y="3505320"/>
            <a:ext cx="2547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rt S2 @vptsync=fa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@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vptset=t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Box 40"/>
          <p:cNvSpPr/>
          <p:nvPr/>
        </p:nvSpPr>
        <p:spPr>
          <a:xfrm>
            <a:off x="544320" y="3124080"/>
            <a:ext cx="1346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P-time = t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Box 41"/>
          <p:cNvSpPr/>
          <p:nvPr/>
        </p:nvSpPr>
        <p:spPr>
          <a:xfrm>
            <a:off x="544320" y="4191120"/>
            <a:ext cx="1346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P-time = t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Box 44"/>
          <p:cNvSpPr/>
          <p:nvPr/>
        </p:nvSpPr>
        <p:spPr>
          <a:xfrm>
            <a:off x="617760" y="2209680"/>
            <a:ext cx="1229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riplet S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ounded Rectangle 48"/>
          <p:cNvSpPr/>
          <p:nvPr/>
        </p:nvSpPr>
        <p:spPr>
          <a:xfrm>
            <a:off x="2971800" y="2057400"/>
            <a:ext cx="1219320" cy="281952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2819520"/>
              <a:gd name="textAreaBottom" fmla="*/ 2760120 h 2819520"/>
            </a:gdLst>
            <a:ahLst/>
            <a:rect l="textAreaLeft" t="textAreaTop" r="textAreaRight" b="textAreaBottom"/>
            <a:pathLst>
              <a:path w="21600" h="49939">
                <a:moveTo>
                  <a:pt x="3600" y="0"/>
                </a:moveTo>
                <a:arcTo wR="3600" hR="3600" stAng="16200000" swAng="-5400000"/>
                <a:lnTo>
                  <a:pt x="0" y="46339"/>
                </a:lnTo>
                <a:arcTo wR="3600" hR="3600" stAng="10800000" swAng="-5400000"/>
                <a:lnTo>
                  <a:pt x="18000" y="499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2fff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55"/>
          <p:cNvSpPr/>
          <p:nvPr/>
        </p:nvSpPr>
        <p:spPr>
          <a:xfrm>
            <a:off x="2906280" y="2133720"/>
            <a:ext cx="1346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P-time = t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aight Connector 60"/>
          <p:cNvSpPr/>
          <p:nvPr/>
        </p:nvSpPr>
        <p:spPr>
          <a:xfrm>
            <a:off x="3581280" y="2666880"/>
            <a:ext cx="0" cy="1067040"/>
          </a:xfrm>
          <a:prstGeom prst="line">
            <a:avLst/>
          </a:prstGeom>
          <a:ln w="57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Box 64"/>
          <p:cNvSpPr/>
          <p:nvPr/>
        </p:nvSpPr>
        <p:spPr>
          <a:xfrm>
            <a:off x="2905920" y="4191120"/>
            <a:ext cx="12902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P-time = t’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Box 65"/>
          <p:cNvSpPr/>
          <p:nvPr/>
        </p:nvSpPr>
        <p:spPr>
          <a:xfrm>
            <a:off x="3056400" y="1600200"/>
            <a:ext cx="1229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riplet S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Straight Arrow Connector 66"/>
          <p:cNvCxnSpPr>
            <a:endCxn id="310" idx="1"/>
          </p:cNvCxnSpPr>
          <p:nvPr/>
        </p:nvCxnSpPr>
        <p:spPr>
          <a:xfrm flipV="1">
            <a:off x="2284920" y="2303640"/>
            <a:ext cx="610200" cy="1202040"/>
          </a:xfrm>
          <a:prstGeom prst="straightConnector1">
            <a:avLst/>
          </a:prstGeom>
          <a:ln w="38160">
            <a:solidFill>
              <a:srgbClr val="00cc98"/>
            </a:solidFill>
            <a:miter/>
            <a:tailEnd len="med" type="arrow" w="med"/>
          </a:ln>
        </p:spPr>
      </p:cxnSp>
      <p:sp>
        <p:nvSpPr>
          <p:cNvPr id="315" name="Rectangle 71"/>
          <p:cNvSpPr/>
          <p:nvPr/>
        </p:nvSpPr>
        <p:spPr>
          <a:xfrm>
            <a:off x="4572000" y="152280"/>
            <a:ext cx="4343400" cy="6324840"/>
          </a:xfrm>
          <a:prstGeom prst="rect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ounded Rectangle 50"/>
          <p:cNvSpPr/>
          <p:nvPr/>
        </p:nvSpPr>
        <p:spPr>
          <a:xfrm>
            <a:off x="4648320" y="2514600"/>
            <a:ext cx="1447560" cy="3809880"/>
          </a:xfrm>
          <a:custGeom>
            <a:avLst/>
            <a:gdLst>
              <a:gd name="textAreaLeft" fmla="*/ 70560 w 1447560"/>
              <a:gd name="textAreaRight" fmla="*/ 1377000 w 1447560"/>
              <a:gd name="textAreaTop" fmla="*/ 70560 h 3809880"/>
              <a:gd name="textAreaBottom" fmla="*/ 3739320 h 3809880"/>
            </a:gdLst>
            <a:ahLst/>
            <a:rect l="textAreaLeft" t="textAreaTop" r="textAreaRight" b="textAreaBottom"/>
            <a:pathLst>
              <a:path w="21600" h="56841">
                <a:moveTo>
                  <a:pt x="3600" y="0"/>
                </a:moveTo>
                <a:arcTo wR="3600" hR="3600" stAng="16200000" swAng="-5400000"/>
                <a:lnTo>
                  <a:pt x="0" y="53241"/>
                </a:lnTo>
                <a:arcTo wR="3600" hR="3600" stAng="10800000" swAng="-5400000"/>
                <a:lnTo>
                  <a:pt x="18000" y="56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2fff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Straight Connector 51"/>
          <p:cNvSpPr/>
          <p:nvPr/>
        </p:nvSpPr>
        <p:spPr>
          <a:xfrm>
            <a:off x="5334120" y="2743200"/>
            <a:ext cx="0" cy="3200400"/>
          </a:xfrm>
          <a:prstGeom prst="line">
            <a:avLst/>
          </a:prstGeom>
          <a:ln w="57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Box 52"/>
          <p:cNvSpPr/>
          <p:nvPr/>
        </p:nvSpPr>
        <p:spPr>
          <a:xfrm>
            <a:off x="4664160" y="3429000"/>
            <a:ext cx="24681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rt S2 @vptsync=tru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@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vptset=t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Box 53"/>
          <p:cNvSpPr/>
          <p:nvPr/>
        </p:nvSpPr>
        <p:spPr>
          <a:xfrm>
            <a:off x="4735080" y="3048120"/>
            <a:ext cx="1346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P-time = t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Box 54"/>
          <p:cNvSpPr/>
          <p:nvPr/>
        </p:nvSpPr>
        <p:spPr>
          <a:xfrm>
            <a:off x="4811040" y="4800600"/>
            <a:ext cx="12902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P-time = t’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56"/>
          <p:cNvSpPr/>
          <p:nvPr/>
        </p:nvSpPr>
        <p:spPr>
          <a:xfrm>
            <a:off x="4808880" y="2133720"/>
            <a:ext cx="1229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riplet S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ounded Rectangle 59"/>
          <p:cNvSpPr/>
          <p:nvPr/>
        </p:nvSpPr>
        <p:spPr>
          <a:xfrm>
            <a:off x="7162920" y="1981080"/>
            <a:ext cx="1218960" cy="312444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3124440"/>
              <a:gd name="textAreaBottom" fmla="*/ 3065040 h 3124440"/>
            </a:gdLst>
            <a:ahLst/>
            <a:rect l="textAreaLeft" t="textAreaTop" r="textAreaRight" b="textAreaBottom"/>
            <a:pathLst>
              <a:path w="21600" h="55355">
                <a:moveTo>
                  <a:pt x="3600" y="0"/>
                </a:moveTo>
                <a:arcTo wR="3600" hR="3600" stAng="16200000" swAng="-5400000"/>
                <a:lnTo>
                  <a:pt x="0" y="51755"/>
                </a:lnTo>
                <a:arcTo wR="3600" hR="3600" stAng="10800000" swAng="-5400000"/>
                <a:lnTo>
                  <a:pt x="18000" y="553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2fff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Box 61"/>
          <p:cNvSpPr/>
          <p:nvPr/>
        </p:nvSpPr>
        <p:spPr>
          <a:xfrm>
            <a:off x="7097400" y="2057400"/>
            <a:ext cx="1346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P-time = t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traight Connector 62"/>
          <p:cNvSpPr/>
          <p:nvPr/>
        </p:nvSpPr>
        <p:spPr>
          <a:xfrm>
            <a:off x="7772400" y="2590920"/>
            <a:ext cx="0" cy="1600200"/>
          </a:xfrm>
          <a:prstGeom prst="line">
            <a:avLst/>
          </a:prstGeom>
          <a:ln w="57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Box 63"/>
          <p:cNvSpPr/>
          <p:nvPr/>
        </p:nvSpPr>
        <p:spPr>
          <a:xfrm>
            <a:off x="7097040" y="4343400"/>
            <a:ext cx="12902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P-time = t’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Box 67"/>
          <p:cNvSpPr/>
          <p:nvPr/>
        </p:nvSpPr>
        <p:spPr>
          <a:xfrm>
            <a:off x="7247160" y="1523880"/>
            <a:ext cx="1229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riplet S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7" name="Straight Arrow Connector 68"/>
          <p:cNvCxnSpPr>
            <a:endCxn id="323" idx="1"/>
          </p:cNvCxnSpPr>
          <p:nvPr/>
        </p:nvCxnSpPr>
        <p:spPr>
          <a:xfrm flipV="1">
            <a:off x="6476040" y="2227320"/>
            <a:ext cx="610200" cy="1202040"/>
          </a:xfrm>
          <a:prstGeom prst="straightConnector1">
            <a:avLst/>
          </a:prstGeom>
          <a:ln w="38160">
            <a:solidFill>
              <a:srgbClr val="00cc98"/>
            </a:solidFill>
            <a:miter/>
            <a:tailEnd len="med" type="arrow" w="med"/>
          </a:ln>
        </p:spPr>
      </p:cxnSp>
      <p:sp>
        <p:nvSpPr>
          <p:cNvPr id="328" name="TextBox 69"/>
          <p:cNvSpPr/>
          <p:nvPr/>
        </p:nvSpPr>
        <p:spPr>
          <a:xfrm>
            <a:off x="5037120" y="4191120"/>
            <a:ext cx="708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wait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Straight Arrow Connector 70"/>
          <p:cNvCxnSpPr/>
          <p:nvPr/>
        </p:nvCxnSpPr>
        <p:spPr>
          <a:xfrm flipH="1">
            <a:off x="6248160" y="4800600"/>
            <a:ext cx="762480" cy="2160"/>
          </a:xfrm>
          <a:prstGeom prst="straightConnector1">
            <a:avLst/>
          </a:prstGeom>
          <a:ln w="38160">
            <a:solidFill>
              <a:srgbClr val="00cc98"/>
            </a:solidFill>
            <a:miter/>
            <a:tailEnd len="med" type="arrow" w="med"/>
          </a:ln>
        </p:spPr>
      </p:cxnSp>
      <p:sp>
        <p:nvSpPr>
          <p:cNvPr id="330" name="TextBox 90"/>
          <p:cNvSpPr/>
          <p:nvPr/>
        </p:nvSpPr>
        <p:spPr>
          <a:xfrm>
            <a:off x="6553080" y="5410080"/>
            <a:ext cx="205740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bcase wher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’ &gt; t1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Slide Number Placeholder 92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8F89-0FC1-4DC1-B68E-E660164B0A05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Main Design Choices: the Contr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Loops: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loo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With mutable vars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lvar name=“icanchange”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nd “final” X-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Event catching is time-bou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atch window = [VP-time .. end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mask&gt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ught events (or no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criplet invocation (~procedure with para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Exit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xi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lide Number Placeholder 49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F43E-3000-409C-8D69-C479BC52B0D4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6"/>
          <p:cNvSpPr/>
          <p:nvPr/>
        </p:nvSpPr>
        <p:spPr>
          <a:xfrm>
            <a:off x="4114800" y="533520"/>
            <a:ext cx="5029200" cy="4343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traight Connector 5"/>
          <p:cNvSpPr/>
          <p:nvPr/>
        </p:nvSpPr>
        <p:spPr>
          <a:xfrm>
            <a:off x="4495680" y="327672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7" name="Straight Arrow Connector 7"/>
          <p:cNvCxnSpPr/>
          <p:nvPr/>
        </p:nvCxnSpPr>
        <p:spPr>
          <a:xfrm flipV="1">
            <a:off x="5027760" y="1829880"/>
            <a:ext cx="3600" cy="1372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8" name="Freeform 10"/>
          <p:cNvSpPr/>
          <p:nvPr/>
        </p:nvSpPr>
        <p:spPr>
          <a:xfrm>
            <a:off x="5229360" y="1763640"/>
            <a:ext cx="2238120" cy="14148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3309258" h="176590">
                <a:moveTo>
                  <a:pt x="0" y="58057"/>
                </a:moveTo>
                <a:cubicBezTo>
                  <a:pt x="79829" y="117323"/>
                  <a:pt x="159658" y="176590"/>
                  <a:pt x="232229" y="174171"/>
                </a:cubicBezTo>
                <a:cubicBezTo>
                  <a:pt x="304800" y="171752"/>
                  <a:pt x="370115" y="48381"/>
                  <a:pt x="435429" y="43543"/>
                </a:cubicBezTo>
                <a:cubicBezTo>
                  <a:pt x="500743" y="38705"/>
                  <a:pt x="558801" y="145143"/>
                  <a:pt x="624115" y="145143"/>
                </a:cubicBezTo>
                <a:cubicBezTo>
                  <a:pt x="689429" y="145143"/>
                  <a:pt x="749906" y="41124"/>
                  <a:pt x="827315" y="43543"/>
                </a:cubicBezTo>
                <a:cubicBezTo>
                  <a:pt x="904724" y="45962"/>
                  <a:pt x="1008744" y="164495"/>
                  <a:pt x="1088572" y="159657"/>
                </a:cubicBezTo>
                <a:cubicBezTo>
                  <a:pt x="1168400" y="154819"/>
                  <a:pt x="1228877" y="14514"/>
                  <a:pt x="1306286" y="14514"/>
                </a:cubicBezTo>
                <a:cubicBezTo>
                  <a:pt x="1383695" y="14514"/>
                  <a:pt x="1478039" y="157238"/>
                  <a:pt x="1553029" y="159657"/>
                </a:cubicBezTo>
                <a:cubicBezTo>
                  <a:pt x="1628019" y="162076"/>
                  <a:pt x="1690915" y="29028"/>
                  <a:pt x="1756229" y="29028"/>
                </a:cubicBezTo>
                <a:cubicBezTo>
                  <a:pt x="1821543" y="29028"/>
                  <a:pt x="1874763" y="162076"/>
                  <a:pt x="1944915" y="159657"/>
                </a:cubicBezTo>
                <a:cubicBezTo>
                  <a:pt x="2015067" y="157238"/>
                  <a:pt x="2109410" y="16933"/>
                  <a:pt x="2177143" y="14514"/>
                </a:cubicBezTo>
                <a:cubicBezTo>
                  <a:pt x="2244876" y="12095"/>
                  <a:pt x="2290839" y="142724"/>
                  <a:pt x="2351315" y="145143"/>
                </a:cubicBezTo>
                <a:cubicBezTo>
                  <a:pt x="2411791" y="147562"/>
                  <a:pt x="2479524" y="24190"/>
                  <a:pt x="2540000" y="29028"/>
                </a:cubicBezTo>
                <a:cubicBezTo>
                  <a:pt x="2600476" y="33866"/>
                  <a:pt x="2651277" y="174171"/>
                  <a:pt x="2714172" y="174171"/>
                </a:cubicBezTo>
                <a:cubicBezTo>
                  <a:pt x="2777067" y="174171"/>
                  <a:pt x="2847220" y="31447"/>
                  <a:pt x="2917372" y="29028"/>
                </a:cubicBezTo>
                <a:cubicBezTo>
                  <a:pt x="2987524" y="26609"/>
                  <a:pt x="3069772" y="164495"/>
                  <a:pt x="3135086" y="159657"/>
                </a:cubicBezTo>
                <a:cubicBezTo>
                  <a:pt x="3200400" y="154819"/>
                  <a:pt x="3254829" y="77409"/>
                  <a:pt x="330925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Straight Arrow Connector 11"/>
          <p:cNvCxnSpPr/>
          <p:nvPr/>
        </p:nvCxnSpPr>
        <p:spPr>
          <a:xfrm flipV="1">
            <a:off x="5407560" y="2210760"/>
            <a:ext cx="396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0" name="Freeform 13"/>
          <p:cNvSpPr/>
          <p:nvPr/>
        </p:nvSpPr>
        <p:spPr>
          <a:xfrm>
            <a:off x="5486400" y="2133720"/>
            <a:ext cx="2543040" cy="141120"/>
          </a:xfrm>
          <a:custGeom>
            <a:avLst/>
            <a:gdLst>
              <a:gd name="textAreaLeft" fmla="*/ 0 w 2543040"/>
              <a:gd name="textAreaRight" fmla="*/ 2543400 w 254304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3309258" h="176590">
                <a:moveTo>
                  <a:pt x="0" y="58057"/>
                </a:moveTo>
                <a:cubicBezTo>
                  <a:pt x="79829" y="117323"/>
                  <a:pt x="159658" y="176590"/>
                  <a:pt x="232229" y="174171"/>
                </a:cubicBezTo>
                <a:cubicBezTo>
                  <a:pt x="304800" y="171752"/>
                  <a:pt x="370115" y="48381"/>
                  <a:pt x="435429" y="43543"/>
                </a:cubicBezTo>
                <a:cubicBezTo>
                  <a:pt x="500743" y="38705"/>
                  <a:pt x="558801" y="145143"/>
                  <a:pt x="624115" y="145143"/>
                </a:cubicBezTo>
                <a:cubicBezTo>
                  <a:pt x="689429" y="145143"/>
                  <a:pt x="749906" y="41124"/>
                  <a:pt x="827315" y="43543"/>
                </a:cubicBezTo>
                <a:cubicBezTo>
                  <a:pt x="904724" y="45962"/>
                  <a:pt x="1008744" y="164495"/>
                  <a:pt x="1088572" y="159657"/>
                </a:cubicBezTo>
                <a:cubicBezTo>
                  <a:pt x="1168400" y="154819"/>
                  <a:pt x="1228877" y="14514"/>
                  <a:pt x="1306286" y="14514"/>
                </a:cubicBezTo>
                <a:cubicBezTo>
                  <a:pt x="1383695" y="14514"/>
                  <a:pt x="1478039" y="157238"/>
                  <a:pt x="1553029" y="159657"/>
                </a:cubicBezTo>
                <a:cubicBezTo>
                  <a:pt x="1628019" y="162076"/>
                  <a:pt x="1690915" y="29028"/>
                  <a:pt x="1756229" y="29028"/>
                </a:cubicBezTo>
                <a:cubicBezTo>
                  <a:pt x="1821543" y="29028"/>
                  <a:pt x="1874763" y="162076"/>
                  <a:pt x="1944915" y="159657"/>
                </a:cubicBezTo>
                <a:cubicBezTo>
                  <a:pt x="2015067" y="157238"/>
                  <a:pt x="2109410" y="16933"/>
                  <a:pt x="2177143" y="14514"/>
                </a:cubicBezTo>
                <a:cubicBezTo>
                  <a:pt x="2244876" y="12095"/>
                  <a:pt x="2290839" y="142724"/>
                  <a:pt x="2351315" y="145143"/>
                </a:cubicBezTo>
                <a:cubicBezTo>
                  <a:pt x="2411791" y="147562"/>
                  <a:pt x="2479524" y="24190"/>
                  <a:pt x="2540000" y="29028"/>
                </a:cubicBezTo>
                <a:cubicBezTo>
                  <a:pt x="2600476" y="33866"/>
                  <a:pt x="2651277" y="174171"/>
                  <a:pt x="2714172" y="174171"/>
                </a:cubicBezTo>
                <a:cubicBezTo>
                  <a:pt x="2777067" y="174171"/>
                  <a:pt x="2847220" y="31447"/>
                  <a:pt x="2917372" y="29028"/>
                </a:cubicBezTo>
                <a:cubicBezTo>
                  <a:pt x="2987524" y="26609"/>
                  <a:pt x="3069772" y="164495"/>
                  <a:pt x="3135086" y="159657"/>
                </a:cubicBezTo>
                <a:cubicBezTo>
                  <a:pt x="3200400" y="154819"/>
                  <a:pt x="3254829" y="77409"/>
                  <a:pt x="330925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1" name="Straight Arrow Connector 14"/>
          <p:cNvCxnSpPr/>
          <p:nvPr/>
        </p:nvCxnSpPr>
        <p:spPr>
          <a:xfrm flipV="1">
            <a:off x="6093360" y="2591640"/>
            <a:ext cx="3960" cy="686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2" name="Freeform 16"/>
          <p:cNvSpPr/>
          <p:nvPr/>
        </p:nvSpPr>
        <p:spPr>
          <a:xfrm>
            <a:off x="6095880" y="2438280"/>
            <a:ext cx="1447920" cy="15264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3309258" h="176590">
                <a:moveTo>
                  <a:pt x="0" y="58057"/>
                </a:moveTo>
                <a:cubicBezTo>
                  <a:pt x="79829" y="117323"/>
                  <a:pt x="159658" y="176590"/>
                  <a:pt x="232229" y="174171"/>
                </a:cubicBezTo>
                <a:cubicBezTo>
                  <a:pt x="304800" y="171752"/>
                  <a:pt x="370115" y="48381"/>
                  <a:pt x="435429" y="43543"/>
                </a:cubicBezTo>
                <a:cubicBezTo>
                  <a:pt x="500743" y="38705"/>
                  <a:pt x="558801" y="145143"/>
                  <a:pt x="624115" y="145143"/>
                </a:cubicBezTo>
                <a:cubicBezTo>
                  <a:pt x="689429" y="145143"/>
                  <a:pt x="749906" y="41124"/>
                  <a:pt x="827315" y="43543"/>
                </a:cubicBezTo>
                <a:cubicBezTo>
                  <a:pt x="904724" y="45962"/>
                  <a:pt x="1008744" y="164495"/>
                  <a:pt x="1088572" y="159657"/>
                </a:cubicBezTo>
                <a:cubicBezTo>
                  <a:pt x="1168400" y="154819"/>
                  <a:pt x="1228877" y="14514"/>
                  <a:pt x="1306286" y="14514"/>
                </a:cubicBezTo>
                <a:cubicBezTo>
                  <a:pt x="1383695" y="14514"/>
                  <a:pt x="1478039" y="157238"/>
                  <a:pt x="1553029" y="159657"/>
                </a:cubicBezTo>
                <a:cubicBezTo>
                  <a:pt x="1628019" y="162076"/>
                  <a:pt x="1690915" y="29028"/>
                  <a:pt x="1756229" y="29028"/>
                </a:cubicBezTo>
                <a:cubicBezTo>
                  <a:pt x="1821543" y="29028"/>
                  <a:pt x="1874763" y="162076"/>
                  <a:pt x="1944915" y="159657"/>
                </a:cubicBezTo>
                <a:cubicBezTo>
                  <a:pt x="2015067" y="157238"/>
                  <a:pt x="2109410" y="16933"/>
                  <a:pt x="2177143" y="14514"/>
                </a:cubicBezTo>
                <a:cubicBezTo>
                  <a:pt x="2244876" y="12095"/>
                  <a:pt x="2290839" y="142724"/>
                  <a:pt x="2351315" y="145143"/>
                </a:cubicBezTo>
                <a:cubicBezTo>
                  <a:pt x="2411791" y="147562"/>
                  <a:pt x="2479524" y="24190"/>
                  <a:pt x="2540000" y="29028"/>
                </a:cubicBezTo>
                <a:cubicBezTo>
                  <a:pt x="2600476" y="33866"/>
                  <a:pt x="2651277" y="174171"/>
                  <a:pt x="2714172" y="174171"/>
                </a:cubicBezTo>
                <a:cubicBezTo>
                  <a:pt x="2777067" y="174171"/>
                  <a:pt x="2847220" y="31447"/>
                  <a:pt x="2917372" y="29028"/>
                </a:cubicBezTo>
                <a:cubicBezTo>
                  <a:pt x="2987524" y="26609"/>
                  <a:pt x="3069772" y="164495"/>
                  <a:pt x="3135086" y="159657"/>
                </a:cubicBezTo>
                <a:cubicBezTo>
                  <a:pt x="3200400" y="154819"/>
                  <a:pt x="3254829" y="77409"/>
                  <a:pt x="330925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Straight Arrow Connector 17"/>
          <p:cNvCxnSpPr/>
          <p:nvPr/>
        </p:nvCxnSpPr>
        <p:spPr>
          <a:xfrm flipV="1">
            <a:off x="6779160" y="2820600"/>
            <a:ext cx="396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4" name="Freeform 19"/>
          <p:cNvSpPr/>
          <p:nvPr/>
        </p:nvSpPr>
        <p:spPr>
          <a:xfrm>
            <a:off x="6781680" y="2743200"/>
            <a:ext cx="1600200" cy="1522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152280"/>
              <a:gd name="textAreaBottom" fmla="*/ 152280 h 152280"/>
            </a:gdLst>
            <a:ahLst/>
            <a:rect l="textAreaLeft" t="textAreaTop" r="textAreaRight" b="textAreaBottom"/>
            <a:pathLst>
              <a:path w="3309258" h="176590">
                <a:moveTo>
                  <a:pt x="0" y="58057"/>
                </a:moveTo>
                <a:cubicBezTo>
                  <a:pt x="79829" y="117323"/>
                  <a:pt x="159658" y="176590"/>
                  <a:pt x="232229" y="174171"/>
                </a:cubicBezTo>
                <a:cubicBezTo>
                  <a:pt x="304800" y="171752"/>
                  <a:pt x="370115" y="48381"/>
                  <a:pt x="435429" y="43543"/>
                </a:cubicBezTo>
                <a:cubicBezTo>
                  <a:pt x="500743" y="38705"/>
                  <a:pt x="558801" y="145143"/>
                  <a:pt x="624115" y="145143"/>
                </a:cubicBezTo>
                <a:cubicBezTo>
                  <a:pt x="689429" y="145143"/>
                  <a:pt x="749906" y="41124"/>
                  <a:pt x="827315" y="43543"/>
                </a:cubicBezTo>
                <a:cubicBezTo>
                  <a:pt x="904724" y="45962"/>
                  <a:pt x="1008744" y="164495"/>
                  <a:pt x="1088572" y="159657"/>
                </a:cubicBezTo>
                <a:cubicBezTo>
                  <a:pt x="1168400" y="154819"/>
                  <a:pt x="1228877" y="14514"/>
                  <a:pt x="1306286" y="14514"/>
                </a:cubicBezTo>
                <a:cubicBezTo>
                  <a:pt x="1383695" y="14514"/>
                  <a:pt x="1478039" y="157238"/>
                  <a:pt x="1553029" y="159657"/>
                </a:cubicBezTo>
                <a:cubicBezTo>
                  <a:pt x="1628019" y="162076"/>
                  <a:pt x="1690915" y="29028"/>
                  <a:pt x="1756229" y="29028"/>
                </a:cubicBezTo>
                <a:cubicBezTo>
                  <a:pt x="1821543" y="29028"/>
                  <a:pt x="1874763" y="162076"/>
                  <a:pt x="1944915" y="159657"/>
                </a:cubicBezTo>
                <a:cubicBezTo>
                  <a:pt x="2015067" y="157238"/>
                  <a:pt x="2109410" y="16933"/>
                  <a:pt x="2177143" y="14514"/>
                </a:cubicBezTo>
                <a:cubicBezTo>
                  <a:pt x="2244876" y="12095"/>
                  <a:pt x="2290839" y="142724"/>
                  <a:pt x="2351315" y="145143"/>
                </a:cubicBezTo>
                <a:cubicBezTo>
                  <a:pt x="2411791" y="147562"/>
                  <a:pt x="2479524" y="24190"/>
                  <a:pt x="2540000" y="29028"/>
                </a:cubicBezTo>
                <a:cubicBezTo>
                  <a:pt x="2600476" y="33866"/>
                  <a:pt x="2651277" y="174171"/>
                  <a:pt x="2714172" y="174171"/>
                </a:cubicBezTo>
                <a:cubicBezTo>
                  <a:pt x="2777067" y="174171"/>
                  <a:pt x="2847220" y="31447"/>
                  <a:pt x="2917372" y="29028"/>
                </a:cubicBezTo>
                <a:cubicBezTo>
                  <a:pt x="2987524" y="26609"/>
                  <a:pt x="3069772" y="164495"/>
                  <a:pt x="3135086" y="159657"/>
                </a:cubicBezTo>
                <a:cubicBezTo>
                  <a:pt x="3200400" y="154819"/>
                  <a:pt x="3254829" y="77409"/>
                  <a:pt x="330925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Box 21"/>
          <p:cNvSpPr/>
          <p:nvPr/>
        </p:nvSpPr>
        <p:spPr>
          <a:xfrm>
            <a:off x="7320960" y="3276720"/>
            <a:ext cx="94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Box 22"/>
          <p:cNvSpPr/>
          <p:nvPr/>
        </p:nvSpPr>
        <p:spPr>
          <a:xfrm rot="19227600">
            <a:off x="4386600" y="3312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.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Box 23"/>
          <p:cNvSpPr/>
          <p:nvPr/>
        </p:nvSpPr>
        <p:spPr>
          <a:xfrm rot="19227600">
            <a:off x="4996080" y="33130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.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Box 24"/>
          <p:cNvSpPr/>
          <p:nvPr/>
        </p:nvSpPr>
        <p:spPr>
          <a:xfrm rot="19227600">
            <a:off x="5681520" y="32367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.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Box 25"/>
          <p:cNvSpPr/>
          <p:nvPr/>
        </p:nvSpPr>
        <p:spPr>
          <a:xfrm rot="19227600">
            <a:off x="6443640" y="32364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.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Box 26"/>
          <p:cNvSpPr/>
          <p:nvPr/>
        </p:nvSpPr>
        <p:spPr>
          <a:xfrm>
            <a:off x="4969080" y="1371600"/>
            <a:ext cx="32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nitor one PO transx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Box 21"/>
          <p:cNvSpPr/>
          <p:nvPr/>
        </p:nvSpPr>
        <p:spPr>
          <a:xfrm>
            <a:off x="0" y="304920"/>
            <a:ext cx="6095880" cy="67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criplet name=“main”&gt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loop&gt;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 name="po"&gt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atch&gt;.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&gt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until expr=“ “&gt;.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art scriplet=“doPO" vptsync="false"&gt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loop&gt;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Freeform 49"/>
          <p:cNvSpPr/>
          <p:nvPr/>
        </p:nvSpPr>
        <p:spPr>
          <a:xfrm>
            <a:off x="5181480" y="3809880"/>
            <a:ext cx="3505320" cy="75744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757440"/>
              <a:gd name="textAreaBottom" fmla="*/ 757800 h 757440"/>
            </a:gdLst>
            <a:ahLst/>
            <a:rect l="textAreaLeft" t="textAreaTop" r="textAreaRight" b="textAreaBottom"/>
            <a:pathLst>
              <a:path w="3597123" h="1369181">
                <a:moveTo>
                  <a:pt x="16933" y="568476"/>
                </a:moveTo>
                <a:cubicBezTo>
                  <a:pt x="232228" y="405190"/>
                  <a:pt x="447523" y="241905"/>
                  <a:pt x="742647" y="147562"/>
                </a:cubicBezTo>
                <a:cubicBezTo>
                  <a:pt x="1037771" y="53219"/>
                  <a:pt x="1449009" y="0"/>
                  <a:pt x="1787676" y="2419"/>
                </a:cubicBezTo>
                <a:cubicBezTo>
                  <a:pt x="2126343" y="4838"/>
                  <a:pt x="2501295" y="77409"/>
                  <a:pt x="2774647" y="162076"/>
                </a:cubicBezTo>
                <a:cubicBezTo>
                  <a:pt x="3047999" y="246743"/>
                  <a:pt x="3292323" y="394305"/>
                  <a:pt x="3427790" y="510419"/>
                </a:cubicBezTo>
                <a:cubicBezTo>
                  <a:pt x="3563257" y="626533"/>
                  <a:pt x="3597123" y="759581"/>
                  <a:pt x="3587447" y="858762"/>
                </a:cubicBezTo>
                <a:cubicBezTo>
                  <a:pt x="3577771" y="957943"/>
                  <a:pt x="3522133" y="1030514"/>
                  <a:pt x="3369733" y="1105505"/>
                </a:cubicBezTo>
                <a:cubicBezTo>
                  <a:pt x="3217333" y="1180496"/>
                  <a:pt x="2912533" y="1267581"/>
                  <a:pt x="2673047" y="1308705"/>
                </a:cubicBezTo>
                <a:cubicBezTo>
                  <a:pt x="2433561" y="1349829"/>
                  <a:pt x="2223105" y="1349829"/>
                  <a:pt x="1932819" y="1352248"/>
                </a:cubicBezTo>
                <a:cubicBezTo>
                  <a:pt x="1642533" y="1354667"/>
                  <a:pt x="1228876" y="1369181"/>
                  <a:pt x="931333" y="1323219"/>
                </a:cubicBezTo>
                <a:cubicBezTo>
                  <a:pt x="633790" y="1277257"/>
                  <a:pt x="295124" y="1134533"/>
                  <a:pt x="147562" y="1076476"/>
                </a:cubicBezTo>
                <a:cubicBezTo>
                  <a:pt x="0" y="1018419"/>
                  <a:pt x="22981" y="996647"/>
                  <a:pt x="45962" y="974876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23"/>
          <p:cNvSpPr/>
          <p:nvPr/>
        </p:nvSpPr>
        <p:spPr>
          <a:xfrm>
            <a:off x="5653800" y="380988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urier New"/>
                <a:ea typeface="Courier New"/>
              </a:rPr>
              <a:t>Main loop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24"/>
          <p:cNvSpPr/>
          <p:nvPr/>
        </p:nvSpPr>
        <p:spPr>
          <a:xfrm>
            <a:off x="4590000" y="990720"/>
            <a:ext cx="42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scriplet name=“doPO”&gt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Oval 25"/>
          <p:cNvSpPr/>
          <p:nvPr/>
        </p:nvSpPr>
        <p:spPr>
          <a:xfrm>
            <a:off x="4114800" y="1371600"/>
            <a:ext cx="4724280" cy="609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Group 47"/>
          <p:cNvGrpSpPr/>
          <p:nvPr/>
        </p:nvGrpSpPr>
        <p:grpSpPr>
          <a:xfrm>
            <a:off x="0" y="3962520"/>
            <a:ext cx="4648320" cy="1587600"/>
            <a:chOff x="0" y="3962520"/>
            <a:chExt cx="4648320" cy="1587600"/>
          </a:xfrm>
        </p:grpSpPr>
        <p:sp>
          <p:nvSpPr>
            <p:cNvPr id="357" name="Rectangle 30"/>
            <p:cNvSpPr/>
            <p:nvPr/>
          </p:nvSpPr>
          <p:spPr>
            <a:xfrm>
              <a:off x="0" y="3962520"/>
              <a:ext cx="464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&lt;var name="res"&gt;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31"/>
            <p:cNvSpPr/>
            <p:nvPr/>
          </p:nvSpPr>
          <p:spPr>
            <a:xfrm>
              <a:off x="0" y="502956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&lt;/var&gt;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TextBox 25"/>
          <p:cNvSpPr/>
          <p:nvPr/>
        </p:nvSpPr>
        <p:spPr>
          <a:xfrm rot="19227600">
            <a:off x="8307360" y="32364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.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Straight Arrow Connector 17"/>
          <p:cNvCxnSpPr/>
          <p:nvPr/>
        </p:nvCxnSpPr>
        <p:spPr>
          <a:xfrm flipV="1">
            <a:off x="8685720" y="2819160"/>
            <a:ext cx="396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1" name="Slide Number Placeholder 73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49DA-461F-49A0-91B1-0D0B6FF4687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Main Design Choices: XML at 3 lev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63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s Input (Even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Leverage existing XML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s syntax (XTem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llows for generating scripts from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s Output {Events + X-effect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Ev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Pipelining of scripts (break complex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X-Effec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XML Reports rendered in HTM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(or pipelined! If report = ev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Slide Number Placeholder 49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7172-9A9A-47B4-AA67-016A80C1341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XTemp: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ML </a:t>
            </a: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esting and </a:t>
            </a: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vent-Driven </a:t>
            </a: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onitoring ing of </a:t>
            </a: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rocesses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and… a strong “temporal” asp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3710160" y="4419720"/>
            <a:ext cx="367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YAASFXSLT  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49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2967-5797-4297-9FDC-03F445F6803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mplementation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2438280" y="1066680"/>
            <a:ext cx="3886200" cy="5029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7"/>
          <p:cNvSpPr/>
          <p:nvPr/>
        </p:nvSpPr>
        <p:spPr>
          <a:xfrm>
            <a:off x="5715000" y="1371600"/>
            <a:ext cx="3124080" cy="495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Group 30"/>
          <p:cNvGrpSpPr/>
          <p:nvPr/>
        </p:nvGrpSpPr>
        <p:grpSpPr>
          <a:xfrm>
            <a:off x="162720" y="1219320"/>
            <a:ext cx="8600400" cy="2743200"/>
            <a:chOff x="162720" y="1219320"/>
            <a:chExt cx="8600400" cy="2743200"/>
          </a:xfrm>
        </p:grpSpPr>
        <p:sp>
          <p:nvSpPr>
            <p:cNvPr id="369" name="Rectangle 8"/>
            <p:cNvSpPr/>
            <p:nvPr/>
          </p:nvSpPr>
          <p:spPr>
            <a:xfrm>
              <a:off x="2286000" y="1523880"/>
              <a:ext cx="6477120" cy="2438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TextBox 9"/>
            <p:cNvSpPr/>
            <p:nvPr/>
          </p:nvSpPr>
          <p:spPr>
            <a:xfrm>
              <a:off x="162720" y="1219320"/>
              <a:ext cx="217404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re-Xte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no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post&gt;,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mple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catch&gt;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TextBox 10"/>
          <p:cNvSpPr/>
          <p:nvPr/>
        </p:nvSpPr>
        <p:spPr>
          <a:xfrm>
            <a:off x="3442680" y="68580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ve execu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Box 11"/>
          <p:cNvSpPr/>
          <p:nvPr/>
        </p:nvSpPr>
        <p:spPr>
          <a:xfrm>
            <a:off x="6867720" y="609480"/>
            <a:ext cx="148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erre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ecu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2"/>
          <p:cNvSpPr/>
          <p:nvPr/>
        </p:nvSpPr>
        <p:spPr>
          <a:xfrm>
            <a:off x="6477120" y="1600200"/>
            <a:ext cx="2209680" cy="3048120"/>
          </a:xfrm>
          <a:prstGeom prst="rect">
            <a:avLst/>
          </a:prstGeom>
          <a:solidFill>
            <a:srgbClr val="ffd27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r preferr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SL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gine he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3"/>
          <p:cNvSpPr/>
          <p:nvPr/>
        </p:nvSpPr>
        <p:spPr>
          <a:xfrm>
            <a:off x="6477120" y="4648320"/>
            <a:ext cx="2209680" cy="1523880"/>
          </a:xfrm>
          <a:prstGeom prst="rect">
            <a:avLst/>
          </a:prstGeom>
          <a:solidFill>
            <a:srgbClr val="ffe9bd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communicating thread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re Time-aware execu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4"/>
          <p:cNvSpPr/>
          <p:nvPr/>
        </p:nvSpPr>
        <p:spPr>
          <a:xfrm>
            <a:off x="2590920" y="1600200"/>
            <a:ext cx="3657600" cy="2133720"/>
          </a:xfrm>
          <a:prstGeom prst="rect">
            <a:avLst/>
          </a:prstGeom>
          <a:solidFill>
            <a:srgbClr val="ffe9bd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SLT + Java extens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e.g. EDTF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Slide Number Placeholder 58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ACB5-AAAA-4426-8D46-675D22A6F631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What is not XSLT implementabl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Event Mas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 state change local to a 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ynchronization in Concurren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criplet Joining (workflow “join”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vent communication between Scriplets (POST + CAT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omplex Event patterns to be deferred to CEP cap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Slide Number Placeholder 49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FDE9-CCA0-4278-BF58-4A9AA02AF6A8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ontrasting with Workflow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WS-BPEL : an orchestration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Weak on events, Strong on workflow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Events  used as (one of) workflow contr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XTemp:  a monitoring/analysis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inimal set of workflow primi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Workflow controls for a better Event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overs most Workflow Patterns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workflowpatterns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Slide Number Placeholder 49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8ED9-5621-4C2B-A89B-BF6B5422410C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Yet Another Concurrent Languag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 modest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o resource locking, no mut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But  notion of time can be manipu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nd good leverage of 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SP model (not an Actor mod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synchronous communication ( Only by posting events to Boa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Slide Number Placeholder 49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E101-3B81-4557-8FBA-567DC47B229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What ended up NOT to be a Challen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Generating [XML] Reports in a concurrent event-driven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X-effect (inline + computed) works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Need multi-threading  engine ? Not for Core XTe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Slide Number Placeholder 49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7EC4-8DC2-409D-AC46-72D0FE1A809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urrent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ASIS tech committee “TaMI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oasis-open.org/apps/org/workgroup/tami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an XSLT translator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project for Real-Time execut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-Driven Testing Framework (EDTF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code.google.com/p/edtf/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Slide Number Placeholder 49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0D33-18B6-4867-BDA4-156F5BABA20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5"/>
          <p:cNvSpPr/>
          <p:nvPr/>
        </p:nvSpPr>
        <p:spPr>
          <a:xfrm>
            <a:off x="0" y="914400"/>
            <a:ext cx="914400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resee a steady growth of B2B records in XML format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ime-aware, Event-driven execution languages can be based on XML processing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Value of XTemp in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Simple time-aware model, “concurrency made easy” (to implement and test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Pragmatic mix of : imperative + declarative + even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533520" y="22860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Slide Number Placeholder 49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B1C4-D596-4410-917B-E01541628ECC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The Problem at H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70102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onitor / Analyze Business Transactions &amp; Pro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race = Sequence of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traight Connector 5"/>
          <p:cNvSpPr/>
          <p:nvPr/>
        </p:nvSpPr>
        <p:spPr>
          <a:xfrm>
            <a:off x="7315200" y="990720"/>
            <a:ext cx="0" cy="457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traight Connector 6"/>
          <p:cNvSpPr/>
          <p:nvPr/>
        </p:nvSpPr>
        <p:spPr>
          <a:xfrm>
            <a:off x="8610480" y="1066680"/>
            <a:ext cx="0" cy="441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ight Arrow 9"/>
          <p:cNvSpPr/>
          <p:nvPr/>
        </p:nvSpPr>
        <p:spPr>
          <a:xfrm>
            <a:off x="7467480" y="1371600"/>
            <a:ext cx="99072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ight Arrow 11"/>
          <p:cNvSpPr/>
          <p:nvPr/>
        </p:nvSpPr>
        <p:spPr>
          <a:xfrm flipH="1">
            <a:off x="7467480" y="2819520"/>
            <a:ext cx="9907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ight Arrow 14"/>
          <p:cNvSpPr/>
          <p:nvPr/>
        </p:nvSpPr>
        <p:spPr>
          <a:xfrm flipH="1">
            <a:off x="7467480" y="4038480"/>
            <a:ext cx="9907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16"/>
          <p:cNvSpPr/>
          <p:nvPr/>
        </p:nvSpPr>
        <p:spPr>
          <a:xfrm>
            <a:off x="6330240" y="53352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stom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17"/>
          <p:cNvSpPr/>
          <p:nvPr/>
        </p:nvSpPr>
        <p:spPr>
          <a:xfrm>
            <a:off x="7968600" y="60948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pli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18"/>
          <p:cNvSpPr/>
          <p:nvPr/>
        </p:nvSpPr>
        <p:spPr>
          <a:xfrm>
            <a:off x="7700040" y="106668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7471440" y="25146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eip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20"/>
          <p:cNvSpPr/>
          <p:nvPr/>
        </p:nvSpPr>
        <p:spPr>
          <a:xfrm>
            <a:off x="7472520" y="373392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04920" y="2819520"/>
            <a:ext cx="7010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Verify conformance to Tx Defini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Choreography, Tim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Message content, cross-consistency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04920" y="449568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nalytic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Statistics, Averages, Rates… (SLA/O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ight Arrow 14"/>
          <p:cNvSpPr/>
          <p:nvPr/>
        </p:nvSpPr>
        <p:spPr>
          <a:xfrm flipH="1">
            <a:off x="7543800" y="4952880"/>
            <a:ext cx="9907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20"/>
          <p:cNvSpPr/>
          <p:nvPr/>
        </p:nvSpPr>
        <p:spPr>
          <a:xfrm>
            <a:off x="7547040" y="464832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jec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18"/>
          <p:cNvSpPr/>
          <p:nvPr/>
        </p:nvSpPr>
        <p:spPr>
          <a:xfrm>
            <a:off x="8591760" y="441972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Straight Arrow Connector 22"/>
          <p:cNvCxnSpPr>
            <a:stCxn id="114" idx="0"/>
            <a:endCxn id="104" idx="0"/>
          </p:cNvCxnSpPr>
          <p:nvPr/>
        </p:nvCxnSpPr>
        <p:spPr>
          <a:xfrm flipH="1" flipV="1">
            <a:off x="8457480" y="4228560"/>
            <a:ext cx="415080" cy="19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6" name="Straight Arrow Connector 24"/>
          <p:cNvCxnSpPr/>
          <p:nvPr/>
        </p:nvCxnSpPr>
        <p:spPr>
          <a:xfrm flipH="1">
            <a:off x="8534160" y="4876920"/>
            <a:ext cx="381600" cy="305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7" name="Rectangle 3"/>
          <p:cNvSpPr/>
          <p:nvPr/>
        </p:nvSpPr>
        <p:spPr>
          <a:xfrm>
            <a:off x="304920" y="556272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nterventions (real-tim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lide Number Placeholder 70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9572-C635-46B5-B217-1067DD8BAB0E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The Problem at Hand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6781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Event sequences interleaved (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</a:rPr>
              <a:t>Concurrent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Process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Events in XML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essage envelope, and/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essage business pay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Both “Live” monitoring mode and Log analysis (“deferred”) mo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traight Connector 5"/>
          <p:cNvSpPr/>
          <p:nvPr/>
        </p:nvSpPr>
        <p:spPr>
          <a:xfrm>
            <a:off x="7315200" y="990720"/>
            <a:ext cx="0" cy="457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traight Connector 6"/>
          <p:cNvSpPr/>
          <p:nvPr/>
        </p:nvSpPr>
        <p:spPr>
          <a:xfrm>
            <a:off x="8610480" y="1066680"/>
            <a:ext cx="0" cy="441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ight Arrow 9"/>
          <p:cNvSpPr/>
          <p:nvPr/>
        </p:nvSpPr>
        <p:spPr>
          <a:xfrm>
            <a:off x="7467480" y="1371600"/>
            <a:ext cx="99072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ight Arrow 10"/>
          <p:cNvSpPr/>
          <p:nvPr/>
        </p:nvSpPr>
        <p:spPr>
          <a:xfrm>
            <a:off x="7467480" y="2057400"/>
            <a:ext cx="9907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ight Arrow 11"/>
          <p:cNvSpPr/>
          <p:nvPr/>
        </p:nvSpPr>
        <p:spPr>
          <a:xfrm flipH="1">
            <a:off x="7390800" y="2819520"/>
            <a:ext cx="990360" cy="3808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ight Arrow 12"/>
          <p:cNvSpPr/>
          <p:nvPr/>
        </p:nvSpPr>
        <p:spPr>
          <a:xfrm flipH="1">
            <a:off x="7467480" y="3886200"/>
            <a:ext cx="9907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ight Arrow 13"/>
          <p:cNvSpPr/>
          <p:nvPr/>
        </p:nvSpPr>
        <p:spPr>
          <a:xfrm>
            <a:off x="7543800" y="3352680"/>
            <a:ext cx="9907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ight Arrow 14"/>
          <p:cNvSpPr/>
          <p:nvPr/>
        </p:nvSpPr>
        <p:spPr>
          <a:xfrm flipH="1">
            <a:off x="7467480" y="4495680"/>
            <a:ext cx="9907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ight Arrow 15"/>
          <p:cNvSpPr/>
          <p:nvPr/>
        </p:nvSpPr>
        <p:spPr>
          <a:xfrm flipH="1">
            <a:off x="7467480" y="5105520"/>
            <a:ext cx="9907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16"/>
          <p:cNvSpPr/>
          <p:nvPr/>
        </p:nvSpPr>
        <p:spPr>
          <a:xfrm>
            <a:off x="6330240" y="53352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stom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17"/>
          <p:cNvSpPr/>
          <p:nvPr/>
        </p:nvSpPr>
        <p:spPr>
          <a:xfrm>
            <a:off x="7968600" y="60948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pli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18"/>
          <p:cNvSpPr/>
          <p:nvPr/>
        </p:nvSpPr>
        <p:spPr>
          <a:xfrm>
            <a:off x="7471080" y="11430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19"/>
          <p:cNvSpPr/>
          <p:nvPr/>
        </p:nvSpPr>
        <p:spPr>
          <a:xfrm>
            <a:off x="7395480" y="25146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eip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20"/>
          <p:cNvSpPr/>
          <p:nvPr/>
        </p:nvSpPr>
        <p:spPr>
          <a:xfrm>
            <a:off x="7472520" y="419112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22"/>
          <p:cNvSpPr/>
          <p:nvPr/>
        </p:nvSpPr>
        <p:spPr>
          <a:xfrm>
            <a:off x="7391520" y="18288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-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23"/>
          <p:cNvSpPr/>
          <p:nvPr/>
        </p:nvSpPr>
        <p:spPr>
          <a:xfrm>
            <a:off x="7471080" y="312408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-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24"/>
          <p:cNvSpPr/>
          <p:nvPr/>
        </p:nvSpPr>
        <p:spPr>
          <a:xfrm>
            <a:off x="7547760" y="36576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eip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ight Arrow 25"/>
          <p:cNvSpPr/>
          <p:nvPr/>
        </p:nvSpPr>
        <p:spPr>
          <a:xfrm flipH="1">
            <a:off x="7467480" y="5791320"/>
            <a:ext cx="9907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26"/>
          <p:cNvSpPr/>
          <p:nvPr/>
        </p:nvSpPr>
        <p:spPr>
          <a:xfrm>
            <a:off x="7547040" y="548640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jec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27"/>
          <p:cNvSpPr/>
          <p:nvPr/>
        </p:nvSpPr>
        <p:spPr>
          <a:xfrm>
            <a:off x="7624080" y="48006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eip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reeform 27"/>
          <p:cNvSpPr/>
          <p:nvPr/>
        </p:nvSpPr>
        <p:spPr>
          <a:xfrm>
            <a:off x="8610480" y="1538280"/>
            <a:ext cx="335160" cy="1509840"/>
          </a:xfrm>
          <a:custGeom>
            <a:avLst/>
            <a:gdLst>
              <a:gd name="textAreaLeft" fmla="*/ 0 w 335160"/>
              <a:gd name="textAreaRight" fmla="*/ 335520 w 335160"/>
              <a:gd name="textAreaTop" fmla="*/ 0 h 1509840"/>
              <a:gd name="textAreaBottom" fmla="*/ 1510200 h 1509840"/>
            </a:gdLst>
            <a:ahLst/>
            <a:rect l="textAreaLeft" t="textAreaTop" r="textAreaRight" b="textAreaBottom"/>
            <a:pathLst>
              <a:path w="292705" h="1640115">
                <a:moveTo>
                  <a:pt x="70153" y="0"/>
                </a:moveTo>
                <a:cubicBezTo>
                  <a:pt x="141515" y="136676"/>
                  <a:pt x="212877" y="273353"/>
                  <a:pt x="244324" y="449943"/>
                </a:cubicBezTo>
                <a:cubicBezTo>
                  <a:pt x="275772" y="626534"/>
                  <a:pt x="292705" y="875695"/>
                  <a:pt x="258838" y="1059543"/>
                </a:cubicBezTo>
                <a:cubicBezTo>
                  <a:pt x="224971" y="1243391"/>
                  <a:pt x="82248" y="1465943"/>
                  <a:pt x="41124" y="1553029"/>
                </a:cubicBezTo>
                <a:cubicBezTo>
                  <a:pt x="0" y="1640115"/>
                  <a:pt x="6048" y="1611086"/>
                  <a:pt x="12096" y="1582057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28"/>
          <p:cNvSpPr/>
          <p:nvPr/>
        </p:nvSpPr>
        <p:spPr>
          <a:xfrm>
            <a:off x="8610480" y="3124080"/>
            <a:ext cx="258840" cy="1600200"/>
          </a:xfrm>
          <a:custGeom>
            <a:avLst/>
            <a:gdLst>
              <a:gd name="textAreaLeft" fmla="*/ 0 w 258840"/>
              <a:gd name="textAreaRight" fmla="*/ 259200 w 25884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92705" h="1640115">
                <a:moveTo>
                  <a:pt x="70153" y="0"/>
                </a:moveTo>
                <a:cubicBezTo>
                  <a:pt x="141515" y="136676"/>
                  <a:pt x="212877" y="273353"/>
                  <a:pt x="244324" y="449943"/>
                </a:cubicBezTo>
                <a:cubicBezTo>
                  <a:pt x="275772" y="626534"/>
                  <a:pt x="292705" y="875695"/>
                  <a:pt x="258838" y="1059543"/>
                </a:cubicBezTo>
                <a:cubicBezTo>
                  <a:pt x="224971" y="1243391"/>
                  <a:pt x="82248" y="1465943"/>
                  <a:pt x="41124" y="1553029"/>
                </a:cubicBezTo>
                <a:cubicBezTo>
                  <a:pt x="0" y="1640115"/>
                  <a:pt x="6048" y="1611086"/>
                  <a:pt x="12096" y="1582057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71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9515-B00A-4967-AB61-B445FC5ED86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1800" y="3270240"/>
            <a:ext cx="147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990720" y="762120"/>
            <a:ext cx="3733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Messag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2B event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1539720" y="1600200"/>
            <a:ext cx="746280" cy="1752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22"/>
          <p:cNvGrpSpPr/>
          <p:nvPr/>
        </p:nvGrpSpPr>
        <p:grpSpPr>
          <a:xfrm>
            <a:off x="1692360" y="1981080"/>
            <a:ext cx="4784760" cy="1523880"/>
            <a:chOff x="1692360" y="1981080"/>
            <a:chExt cx="4784760" cy="1523880"/>
          </a:xfrm>
        </p:grpSpPr>
        <p:sp>
          <p:nvSpPr>
            <p:cNvPr id="148" name="Text Box 8"/>
            <p:cNvSpPr/>
            <p:nvPr/>
          </p:nvSpPr>
          <p:spPr>
            <a:xfrm>
              <a:off x="2514600" y="1981080"/>
              <a:ext cx="396252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ystem event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alarm, error, load ind.)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11"/>
            <p:cNvSpPr/>
            <p:nvPr/>
          </p:nvSpPr>
          <p:spPr>
            <a:xfrm flipV="1">
              <a:off x="1692360" y="2819160"/>
              <a:ext cx="150804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23"/>
          <p:cNvGrpSpPr/>
          <p:nvPr/>
        </p:nvGrpSpPr>
        <p:grpSpPr>
          <a:xfrm>
            <a:off x="1844640" y="3124080"/>
            <a:ext cx="5149800" cy="1312920"/>
            <a:chOff x="1844640" y="3124080"/>
            <a:chExt cx="5149800" cy="1312920"/>
          </a:xfrm>
        </p:grpSpPr>
        <p:sp>
          <p:nvSpPr>
            <p:cNvPr id="151" name="Text Box 7"/>
            <p:cNvSpPr/>
            <p:nvPr/>
          </p:nvSpPr>
          <p:spPr>
            <a:xfrm>
              <a:off x="3809880" y="3124080"/>
              <a:ext cx="31845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usiness Context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hange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e.g. warranty expire)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12"/>
            <p:cNvSpPr/>
            <p:nvPr/>
          </p:nvSpPr>
          <p:spPr>
            <a:xfrm>
              <a:off x="1844640" y="3657600"/>
              <a:ext cx="196524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Group 24"/>
          <p:cNvGrpSpPr/>
          <p:nvPr/>
        </p:nvGrpSpPr>
        <p:grpSpPr>
          <a:xfrm>
            <a:off x="1692360" y="3886200"/>
            <a:ext cx="4708440" cy="1572120"/>
            <a:chOff x="1692360" y="3886200"/>
            <a:chExt cx="4708440" cy="1572120"/>
          </a:xfrm>
        </p:grpSpPr>
        <p:sp>
          <p:nvSpPr>
            <p:cNvPr id="154" name="Text Box 9"/>
            <p:cNvSpPr/>
            <p:nvPr/>
          </p:nvSpPr>
          <p:spPr>
            <a:xfrm>
              <a:off x="2590920" y="4572000"/>
              <a:ext cx="380988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usiness Conditions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QoS, SLA, config…)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3"/>
            <p:cNvSpPr/>
            <p:nvPr/>
          </p:nvSpPr>
          <p:spPr>
            <a:xfrm>
              <a:off x="1692360" y="3886200"/>
              <a:ext cx="120312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25"/>
          <p:cNvGrpSpPr/>
          <p:nvPr/>
        </p:nvGrpSpPr>
        <p:grpSpPr>
          <a:xfrm>
            <a:off x="304920" y="3962520"/>
            <a:ext cx="4267080" cy="2486520"/>
            <a:chOff x="304920" y="3962520"/>
            <a:chExt cx="4267080" cy="2486520"/>
          </a:xfrm>
        </p:grpSpPr>
        <p:sp>
          <p:nvSpPr>
            <p:cNvPr id="157" name="Text Box 6"/>
            <p:cNvSpPr/>
            <p:nvPr/>
          </p:nvSpPr>
          <p:spPr>
            <a:xfrm>
              <a:off x="304920" y="5562720"/>
              <a:ext cx="426708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ocess Execution status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application-level)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4"/>
            <p:cNvSpPr/>
            <p:nvPr/>
          </p:nvSpPr>
          <p:spPr>
            <a:xfrm>
              <a:off x="1463760" y="3962520"/>
              <a:ext cx="51732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TextBox 15"/>
          <p:cNvSpPr/>
          <p:nvPr/>
        </p:nvSpPr>
        <p:spPr>
          <a:xfrm>
            <a:off x="5655600" y="1447920"/>
            <a:ext cx="288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ys Mgt even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DMTF CIM ev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XDAS, XES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16"/>
          <p:cNvSpPr/>
          <p:nvPr/>
        </p:nvSpPr>
        <p:spPr>
          <a:xfrm>
            <a:off x="4267080" y="0"/>
            <a:ext cx="449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- SOAP, ebXML, HTTP/REST, AS2/AS4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HL7-OAGI-RosettaNet.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17"/>
          <p:cNvSpPr/>
          <p:nvPr/>
        </p:nvSpPr>
        <p:spPr>
          <a:xfrm>
            <a:off x="6912720" y="2971800"/>
            <a:ext cx="184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Calenda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polici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Box 19"/>
          <p:cNvSpPr/>
          <p:nvPr/>
        </p:nvSpPr>
        <p:spPr>
          <a:xfrm>
            <a:off x="4512960" y="5638680"/>
            <a:ext cx="407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BPM / Workflow even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tart/end activ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Box 20"/>
          <p:cNvSpPr/>
          <p:nvPr/>
        </p:nvSpPr>
        <p:spPr>
          <a:xfrm>
            <a:off x="6643800" y="4419720"/>
            <a:ext cx="273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- SLA/SLO doc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WSDL, ebB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polic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67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7668-D8CE-47B0-ACE5-E32F84D9C7F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ome Previous Work (for log analysis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915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Just Xpath + Rule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chemat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amel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Box 30"/>
          <p:cNvSpPr/>
          <p:nvPr/>
        </p:nvSpPr>
        <p:spPr>
          <a:xfrm rot="20499000">
            <a:off x="4878720" y="1300320"/>
            <a:ext cx="263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Too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declarativ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28600" y="3124080"/>
            <a:ext cx="89154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WS-I Use Cas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Complex Event correlation + sequence validation with just XPat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Feasible – but UGLY and HARD to Maintain 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Target users: Workflow, BPM app develope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51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B919-C3CF-42E6-A6C7-4A3D724D85B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Why not just XSLT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arget Users: Workflow &amp; B2B practitio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amiliar with “state-aware”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T familiar with functional , declarative 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Decided to keep XSLT “under the hood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Leverage it as implementation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ot expose it directly to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49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EE1C-8C9E-4445-B825-9B3A31DA2237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Why not just </a:t>
            </a:r>
            <a:r>
              <a:rPr b="0" i="1" lang="en-US" sz="3600" spc="-1" strike="noStrike">
                <a:solidFill>
                  <a:srgbClr val="000000"/>
                </a:solidFill>
                <a:latin typeface="Arial Unicode MS"/>
              </a:rPr>
              <a:t>extend</a:t>
            </a: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  XSLT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bility to execute “live”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Execution driven by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</a:rPr>
              <a:t>dynamic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 events +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ould XQuery be a more scalable implementation basis ? (or “Carrot”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arkLogic ser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traight Connector 5"/>
          <p:cNvSpPr/>
          <p:nvPr/>
        </p:nvSpPr>
        <p:spPr>
          <a:xfrm>
            <a:off x="4114800" y="40384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Straight Arrow Connector 7"/>
          <p:cNvCxnSpPr/>
          <p:nvPr/>
        </p:nvCxnSpPr>
        <p:spPr>
          <a:xfrm flipV="1">
            <a:off x="4645440" y="2592000"/>
            <a:ext cx="3960" cy="1372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Freeform 10"/>
          <p:cNvSpPr/>
          <p:nvPr/>
        </p:nvSpPr>
        <p:spPr>
          <a:xfrm>
            <a:off x="4848120" y="2525760"/>
            <a:ext cx="2238480" cy="141120"/>
          </a:xfrm>
          <a:custGeom>
            <a:avLst/>
            <a:gdLst>
              <a:gd name="textAreaLeft" fmla="*/ 0 w 2238480"/>
              <a:gd name="textAreaRight" fmla="*/ 2238840 w 223848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3309258" h="176590">
                <a:moveTo>
                  <a:pt x="0" y="58057"/>
                </a:moveTo>
                <a:cubicBezTo>
                  <a:pt x="79829" y="117323"/>
                  <a:pt x="159658" y="176590"/>
                  <a:pt x="232229" y="174171"/>
                </a:cubicBezTo>
                <a:cubicBezTo>
                  <a:pt x="304800" y="171752"/>
                  <a:pt x="370115" y="48381"/>
                  <a:pt x="435429" y="43543"/>
                </a:cubicBezTo>
                <a:cubicBezTo>
                  <a:pt x="500743" y="38705"/>
                  <a:pt x="558801" y="145143"/>
                  <a:pt x="624115" y="145143"/>
                </a:cubicBezTo>
                <a:cubicBezTo>
                  <a:pt x="689429" y="145143"/>
                  <a:pt x="749906" y="41124"/>
                  <a:pt x="827315" y="43543"/>
                </a:cubicBezTo>
                <a:cubicBezTo>
                  <a:pt x="904724" y="45962"/>
                  <a:pt x="1008744" y="164495"/>
                  <a:pt x="1088572" y="159657"/>
                </a:cubicBezTo>
                <a:cubicBezTo>
                  <a:pt x="1168400" y="154819"/>
                  <a:pt x="1228877" y="14514"/>
                  <a:pt x="1306286" y="14514"/>
                </a:cubicBezTo>
                <a:cubicBezTo>
                  <a:pt x="1383695" y="14514"/>
                  <a:pt x="1478039" y="157238"/>
                  <a:pt x="1553029" y="159657"/>
                </a:cubicBezTo>
                <a:cubicBezTo>
                  <a:pt x="1628019" y="162076"/>
                  <a:pt x="1690915" y="29028"/>
                  <a:pt x="1756229" y="29028"/>
                </a:cubicBezTo>
                <a:cubicBezTo>
                  <a:pt x="1821543" y="29028"/>
                  <a:pt x="1874763" y="162076"/>
                  <a:pt x="1944915" y="159657"/>
                </a:cubicBezTo>
                <a:cubicBezTo>
                  <a:pt x="2015067" y="157238"/>
                  <a:pt x="2109410" y="16933"/>
                  <a:pt x="2177143" y="14514"/>
                </a:cubicBezTo>
                <a:cubicBezTo>
                  <a:pt x="2244876" y="12095"/>
                  <a:pt x="2290839" y="142724"/>
                  <a:pt x="2351315" y="145143"/>
                </a:cubicBezTo>
                <a:cubicBezTo>
                  <a:pt x="2411791" y="147562"/>
                  <a:pt x="2479524" y="24190"/>
                  <a:pt x="2540000" y="29028"/>
                </a:cubicBezTo>
                <a:cubicBezTo>
                  <a:pt x="2600476" y="33866"/>
                  <a:pt x="2651277" y="174171"/>
                  <a:pt x="2714172" y="174171"/>
                </a:cubicBezTo>
                <a:cubicBezTo>
                  <a:pt x="2777067" y="174171"/>
                  <a:pt x="2847220" y="31447"/>
                  <a:pt x="2917372" y="29028"/>
                </a:cubicBezTo>
                <a:cubicBezTo>
                  <a:pt x="2987524" y="26609"/>
                  <a:pt x="3069772" y="164495"/>
                  <a:pt x="3135086" y="159657"/>
                </a:cubicBezTo>
                <a:cubicBezTo>
                  <a:pt x="3200400" y="154819"/>
                  <a:pt x="3254829" y="77409"/>
                  <a:pt x="330925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Straight Arrow Connector 11"/>
          <p:cNvCxnSpPr/>
          <p:nvPr/>
        </p:nvCxnSpPr>
        <p:spPr>
          <a:xfrm flipV="1">
            <a:off x="5027760" y="2972880"/>
            <a:ext cx="3600" cy="99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Freeform 13"/>
          <p:cNvSpPr/>
          <p:nvPr/>
        </p:nvSpPr>
        <p:spPr>
          <a:xfrm>
            <a:off x="5105520" y="2895480"/>
            <a:ext cx="2543040" cy="141480"/>
          </a:xfrm>
          <a:custGeom>
            <a:avLst/>
            <a:gdLst>
              <a:gd name="textAreaLeft" fmla="*/ 0 w 2543040"/>
              <a:gd name="textAreaRight" fmla="*/ 2543400 w 254304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3309258" h="176590">
                <a:moveTo>
                  <a:pt x="0" y="58057"/>
                </a:moveTo>
                <a:cubicBezTo>
                  <a:pt x="79829" y="117323"/>
                  <a:pt x="159658" y="176590"/>
                  <a:pt x="232229" y="174171"/>
                </a:cubicBezTo>
                <a:cubicBezTo>
                  <a:pt x="304800" y="171752"/>
                  <a:pt x="370115" y="48381"/>
                  <a:pt x="435429" y="43543"/>
                </a:cubicBezTo>
                <a:cubicBezTo>
                  <a:pt x="500743" y="38705"/>
                  <a:pt x="558801" y="145143"/>
                  <a:pt x="624115" y="145143"/>
                </a:cubicBezTo>
                <a:cubicBezTo>
                  <a:pt x="689429" y="145143"/>
                  <a:pt x="749906" y="41124"/>
                  <a:pt x="827315" y="43543"/>
                </a:cubicBezTo>
                <a:cubicBezTo>
                  <a:pt x="904724" y="45962"/>
                  <a:pt x="1008744" y="164495"/>
                  <a:pt x="1088572" y="159657"/>
                </a:cubicBezTo>
                <a:cubicBezTo>
                  <a:pt x="1168400" y="154819"/>
                  <a:pt x="1228877" y="14514"/>
                  <a:pt x="1306286" y="14514"/>
                </a:cubicBezTo>
                <a:cubicBezTo>
                  <a:pt x="1383695" y="14514"/>
                  <a:pt x="1478039" y="157238"/>
                  <a:pt x="1553029" y="159657"/>
                </a:cubicBezTo>
                <a:cubicBezTo>
                  <a:pt x="1628019" y="162076"/>
                  <a:pt x="1690915" y="29028"/>
                  <a:pt x="1756229" y="29028"/>
                </a:cubicBezTo>
                <a:cubicBezTo>
                  <a:pt x="1821543" y="29028"/>
                  <a:pt x="1874763" y="162076"/>
                  <a:pt x="1944915" y="159657"/>
                </a:cubicBezTo>
                <a:cubicBezTo>
                  <a:pt x="2015067" y="157238"/>
                  <a:pt x="2109410" y="16933"/>
                  <a:pt x="2177143" y="14514"/>
                </a:cubicBezTo>
                <a:cubicBezTo>
                  <a:pt x="2244876" y="12095"/>
                  <a:pt x="2290839" y="142724"/>
                  <a:pt x="2351315" y="145143"/>
                </a:cubicBezTo>
                <a:cubicBezTo>
                  <a:pt x="2411791" y="147562"/>
                  <a:pt x="2479524" y="24190"/>
                  <a:pt x="2540000" y="29028"/>
                </a:cubicBezTo>
                <a:cubicBezTo>
                  <a:pt x="2600476" y="33866"/>
                  <a:pt x="2651277" y="174171"/>
                  <a:pt x="2714172" y="174171"/>
                </a:cubicBezTo>
                <a:cubicBezTo>
                  <a:pt x="2777067" y="174171"/>
                  <a:pt x="2847220" y="31447"/>
                  <a:pt x="2917372" y="29028"/>
                </a:cubicBezTo>
                <a:cubicBezTo>
                  <a:pt x="2987524" y="26609"/>
                  <a:pt x="3069772" y="164495"/>
                  <a:pt x="3135086" y="159657"/>
                </a:cubicBezTo>
                <a:cubicBezTo>
                  <a:pt x="3200400" y="154819"/>
                  <a:pt x="3254829" y="77409"/>
                  <a:pt x="330925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Straight Arrow Connector 14"/>
          <p:cNvCxnSpPr/>
          <p:nvPr/>
        </p:nvCxnSpPr>
        <p:spPr>
          <a:xfrm flipV="1">
            <a:off x="5713560" y="3353760"/>
            <a:ext cx="3600" cy="686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Freeform 16"/>
          <p:cNvSpPr/>
          <p:nvPr/>
        </p:nvSpPr>
        <p:spPr>
          <a:xfrm>
            <a:off x="5715000" y="3200400"/>
            <a:ext cx="1447920" cy="1522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52280"/>
              <a:gd name="textAreaBottom" fmla="*/ 152280 h 152280"/>
            </a:gdLst>
            <a:ahLst/>
            <a:rect l="textAreaLeft" t="textAreaTop" r="textAreaRight" b="textAreaBottom"/>
            <a:pathLst>
              <a:path w="3309258" h="176590">
                <a:moveTo>
                  <a:pt x="0" y="58057"/>
                </a:moveTo>
                <a:cubicBezTo>
                  <a:pt x="79829" y="117323"/>
                  <a:pt x="159658" y="176590"/>
                  <a:pt x="232229" y="174171"/>
                </a:cubicBezTo>
                <a:cubicBezTo>
                  <a:pt x="304800" y="171752"/>
                  <a:pt x="370115" y="48381"/>
                  <a:pt x="435429" y="43543"/>
                </a:cubicBezTo>
                <a:cubicBezTo>
                  <a:pt x="500743" y="38705"/>
                  <a:pt x="558801" y="145143"/>
                  <a:pt x="624115" y="145143"/>
                </a:cubicBezTo>
                <a:cubicBezTo>
                  <a:pt x="689429" y="145143"/>
                  <a:pt x="749906" y="41124"/>
                  <a:pt x="827315" y="43543"/>
                </a:cubicBezTo>
                <a:cubicBezTo>
                  <a:pt x="904724" y="45962"/>
                  <a:pt x="1008744" y="164495"/>
                  <a:pt x="1088572" y="159657"/>
                </a:cubicBezTo>
                <a:cubicBezTo>
                  <a:pt x="1168400" y="154819"/>
                  <a:pt x="1228877" y="14514"/>
                  <a:pt x="1306286" y="14514"/>
                </a:cubicBezTo>
                <a:cubicBezTo>
                  <a:pt x="1383695" y="14514"/>
                  <a:pt x="1478039" y="157238"/>
                  <a:pt x="1553029" y="159657"/>
                </a:cubicBezTo>
                <a:cubicBezTo>
                  <a:pt x="1628019" y="162076"/>
                  <a:pt x="1690915" y="29028"/>
                  <a:pt x="1756229" y="29028"/>
                </a:cubicBezTo>
                <a:cubicBezTo>
                  <a:pt x="1821543" y="29028"/>
                  <a:pt x="1874763" y="162076"/>
                  <a:pt x="1944915" y="159657"/>
                </a:cubicBezTo>
                <a:cubicBezTo>
                  <a:pt x="2015067" y="157238"/>
                  <a:pt x="2109410" y="16933"/>
                  <a:pt x="2177143" y="14514"/>
                </a:cubicBezTo>
                <a:cubicBezTo>
                  <a:pt x="2244876" y="12095"/>
                  <a:pt x="2290839" y="142724"/>
                  <a:pt x="2351315" y="145143"/>
                </a:cubicBezTo>
                <a:cubicBezTo>
                  <a:pt x="2411791" y="147562"/>
                  <a:pt x="2479524" y="24190"/>
                  <a:pt x="2540000" y="29028"/>
                </a:cubicBezTo>
                <a:cubicBezTo>
                  <a:pt x="2600476" y="33866"/>
                  <a:pt x="2651277" y="174171"/>
                  <a:pt x="2714172" y="174171"/>
                </a:cubicBezTo>
                <a:cubicBezTo>
                  <a:pt x="2777067" y="174171"/>
                  <a:pt x="2847220" y="31447"/>
                  <a:pt x="2917372" y="29028"/>
                </a:cubicBezTo>
                <a:cubicBezTo>
                  <a:pt x="2987524" y="26609"/>
                  <a:pt x="3069772" y="164495"/>
                  <a:pt x="3135086" y="159657"/>
                </a:cubicBezTo>
                <a:cubicBezTo>
                  <a:pt x="3200400" y="154819"/>
                  <a:pt x="3254829" y="77409"/>
                  <a:pt x="330925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Straight Arrow Connector 17"/>
          <p:cNvCxnSpPr/>
          <p:nvPr/>
        </p:nvCxnSpPr>
        <p:spPr>
          <a:xfrm flipV="1">
            <a:off x="6399360" y="3582720"/>
            <a:ext cx="360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Freeform 19"/>
          <p:cNvSpPr/>
          <p:nvPr/>
        </p:nvSpPr>
        <p:spPr>
          <a:xfrm>
            <a:off x="6400800" y="3505320"/>
            <a:ext cx="2238480" cy="141120"/>
          </a:xfrm>
          <a:custGeom>
            <a:avLst/>
            <a:gdLst>
              <a:gd name="textAreaLeft" fmla="*/ 0 w 2238480"/>
              <a:gd name="textAreaRight" fmla="*/ 2238840 w 223848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3309258" h="176590">
                <a:moveTo>
                  <a:pt x="0" y="58057"/>
                </a:moveTo>
                <a:cubicBezTo>
                  <a:pt x="79829" y="117323"/>
                  <a:pt x="159658" y="176590"/>
                  <a:pt x="232229" y="174171"/>
                </a:cubicBezTo>
                <a:cubicBezTo>
                  <a:pt x="304800" y="171752"/>
                  <a:pt x="370115" y="48381"/>
                  <a:pt x="435429" y="43543"/>
                </a:cubicBezTo>
                <a:cubicBezTo>
                  <a:pt x="500743" y="38705"/>
                  <a:pt x="558801" y="145143"/>
                  <a:pt x="624115" y="145143"/>
                </a:cubicBezTo>
                <a:cubicBezTo>
                  <a:pt x="689429" y="145143"/>
                  <a:pt x="749906" y="41124"/>
                  <a:pt x="827315" y="43543"/>
                </a:cubicBezTo>
                <a:cubicBezTo>
                  <a:pt x="904724" y="45962"/>
                  <a:pt x="1008744" y="164495"/>
                  <a:pt x="1088572" y="159657"/>
                </a:cubicBezTo>
                <a:cubicBezTo>
                  <a:pt x="1168400" y="154819"/>
                  <a:pt x="1228877" y="14514"/>
                  <a:pt x="1306286" y="14514"/>
                </a:cubicBezTo>
                <a:cubicBezTo>
                  <a:pt x="1383695" y="14514"/>
                  <a:pt x="1478039" y="157238"/>
                  <a:pt x="1553029" y="159657"/>
                </a:cubicBezTo>
                <a:cubicBezTo>
                  <a:pt x="1628019" y="162076"/>
                  <a:pt x="1690915" y="29028"/>
                  <a:pt x="1756229" y="29028"/>
                </a:cubicBezTo>
                <a:cubicBezTo>
                  <a:pt x="1821543" y="29028"/>
                  <a:pt x="1874763" y="162076"/>
                  <a:pt x="1944915" y="159657"/>
                </a:cubicBezTo>
                <a:cubicBezTo>
                  <a:pt x="2015067" y="157238"/>
                  <a:pt x="2109410" y="16933"/>
                  <a:pt x="2177143" y="14514"/>
                </a:cubicBezTo>
                <a:cubicBezTo>
                  <a:pt x="2244876" y="12095"/>
                  <a:pt x="2290839" y="142724"/>
                  <a:pt x="2351315" y="145143"/>
                </a:cubicBezTo>
                <a:cubicBezTo>
                  <a:pt x="2411791" y="147562"/>
                  <a:pt x="2479524" y="24190"/>
                  <a:pt x="2540000" y="29028"/>
                </a:cubicBezTo>
                <a:cubicBezTo>
                  <a:pt x="2600476" y="33866"/>
                  <a:pt x="2651277" y="174171"/>
                  <a:pt x="2714172" y="174171"/>
                </a:cubicBezTo>
                <a:cubicBezTo>
                  <a:pt x="2777067" y="174171"/>
                  <a:pt x="2847220" y="31447"/>
                  <a:pt x="2917372" y="29028"/>
                </a:cubicBezTo>
                <a:cubicBezTo>
                  <a:pt x="2987524" y="26609"/>
                  <a:pt x="3069772" y="164495"/>
                  <a:pt x="3135086" y="159657"/>
                </a:cubicBezTo>
                <a:cubicBezTo>
                  <a:pt x="3200400" y="154819"/>
                  <a:pt x="3254829" y="77409"/>
                  <a:pt x="330925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21"/>
          <p:cNvSpPr/>
          <p:nvPr/>
        </p:nvSpPr>
        <p:spPr>
          <a:xfrm>
            <a:off x="7549560" y="4038480"/>
            <a:ext cx="94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22"/>
          <p:cNvSpPr/>
          <p:nvPr/>
        </p:nvSpPr>
        <p:spPr>
          <a:xfrm rot="19227600">
            <a:off x="4005360" y="40752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.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Box 23"/>
          <p:cNvSpPr/>
          <p:nvPr/>
        </p:nvSpPr>
        <p:spPr>
          <a:xfrm rot="19227600">
            <a:off x="4615200" y="40748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.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Box 24"/>
          <p:cNvSpPr/>
          <p:nvPr/>
        </p:nvSpPr>
        <p:spPr>
          <a:xfrm rot="19227600">
            <a:off x="5301000" y="39985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.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25"/>
          <p:cNvSpPr/>
          <p:nvPr/>
        </p:nvSpPr>
        <p:spPr>
          <a:xfrm rot="19227600">
            <a:off x="6062760" y="39988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.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26"/>
          <p:cNvSpPr/>
          <p:nvPr/>
        </p:nvSpPr>
        <p:spPr>
          <a:xfrm>
            <a:off x="4587840" y="2133720"/>
            <a:ext cx="32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nitor one PO transx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64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AB76-E7A9-45F3-A77A-57D856CF5691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Design Choices: Events everyw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Every input = event in Event Board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Event Board = enhanced que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ub-sub +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Event consumption: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atch&gt;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both Event listening &amp; Event quer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atch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</a:rPr>
              <a:t> patterns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of Event sequ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Unicode MS"/>
              </a:rPr>
              <a:t>Template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 logic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match a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tatic temp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logic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ynamically determined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kf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49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831F-F37D-4DE0-80D8-37CE523D5F0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2T07:53:53Z</dcterms:created>
  <dc:creator>Masayoshi Shimamura</dc:creator>
  <dc:description/>
  <dc:language>en-US</dc:language>
  <cp:lastModifiedBy>Jacques Durand</cp:lastModifiedBy>
  <cp:lastPrinted>2001-07-13T10:46:55Z</cp:lastPrinted>
  <dcterms:modified xsi:type="dcterms:W3CDTF">2011-08-04T20:01:02Z</dcterms:modified>
  <cp:revision>850</cp:revision>
  <dc:subject/>
  <dc:title>ｽﾗｲﾄﾞ ﾀｲﾄﾙなし</dc:title>
</cp:coreProperties>
</file>