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222-B9E7-419F-AA1E-FFEA8DA1FD3E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920-54F5-4A51-9C8B-85BA87384C16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E995-8469-4262-A7DC-A56135005212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754-EA8C-491A-8FC3-8B66F82423A7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950C-D25D-4509-A97B-C8EF61B97713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280-F56A-46A8-8311-01E3ED6E32C2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2B47-D404-4F01-B36D-4A545AF5D0BD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AA1-62C2-4779-B0F4-EA3334C65009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ACA7-C1CB-4AD1-ABCC-6B8F6E966849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B44-AAB9-44FE-BCD2-05D524ED99E0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00A-D80A-4C5A-88D1-0BC53F04A159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A011-F254-45C1-BC24-1A2610EAF50A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5B2-2798-41EE-95AB-AEC59BC49A77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5F50-B8B8-4D8F-B21E-DD82FFBCA8AB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936-CB1E-44CC-AA4B-534CD2E3B174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8212-5F1C-4DB5-B970-8379D2F52FC5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0DB-1637-4B6A-8071-4B908C66655A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F491-DA9A-480E-8B84-F503A1CF4CBB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10A-2425-432E-A6E7-62BCD840C4DE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81D3-0CF1-49E4-8265-EE95E70A4E5A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C20-FBF5-4E72-A8BB-1A28D934058F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847B-884C-43D1-AB69-D2C648DF1E1C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8B6-8E1D-4D10-9F3C-E5ACCDFCAED7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C9B-C670-42A2-AE0A-C41622C38C2A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B33-70D2-403E-9A82-1DF61C9E6912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684E-FAA1-49EA-909E-65246A700200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74D-2226-472D-809E-9750CC2350B0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5A7E-E2A7-45E9-B326-38E66BB1EF77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479-5100-44C0-81BB-DD891E3B7CBD}" type="slidenum"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6411-8F48-4230-9083-892BD2867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651D-E1AD-45F0-8D7A-5A397DB74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E7B8-3958-477C-968E-7CC10C98D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1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952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811B-F858-47A4-A8F1-7288D3649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4600" y="151920"/>
            <a:ext cx="6440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F9CA-93EA-4182-A60E-8F84C46D0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116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9520" y="377316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53CB-DD1F-4273-A704-08125A9ED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102D-92AB-482E-85F5-4E396E019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BED9-BF6F-4ADD-87DA-30579B8F5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4600" y="151920"/>
            <a:ext cx="6440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A91F-37F0-42DC-8E83-95D54DA80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AC15-EB88-4088-9FD3-279E6C562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9080" y="377316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2F0C-206E-4BC0-A6A7-FDD848975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77316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EA6E-C90A-4DD7-8019-21BD10752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9"/>
          <p:cNvSpPr/>
          <p:nvPr/>
        </p:nvSpPr>
        <p:spPr>
          <a:xfrm>
            <a:off x="177840" y="990720"/>
            <a:ext cx="8763120" cy="5497560"/>
          </a:xfrm>
          <a:prstGeom prst="roundRect">
            <a:avLst>
              <a:gd name="adj" fmla="val 1148"/>
            </a:avLst>
          </a:prstGeom>
          <a:noFill/>
          <a:ln w="648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6080" y="6501960"/>
            <a:ext cx="102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AAE20EBA-5CD0-4EB8-92E6-C6E3DC5E1F93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4" descr="epocrates_logo_black"/>
          <p:cNvPicPr/>
          <p:nvPr/>
        </p:nvPicPr>
        <p:blipFill>
          <a:blip r:embed="rId3"/>
          <a:stretch/>
        </p:blipFill>
        <p:spPr>
          <a:xfrm>
            <a:off x="317520" y="6527880"/>
            <a:ext cx="12571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lide_mast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228600" y="6705360"/>
            <a:ext cx="8763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37f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  To learn more about Epocrates, please visit us at www.epocrates.com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bbe0"/>
                </a:solidFill>
                <a:latin typeface="Verdana"/>
              </a:rPr>
              <a:t>Efficient Scripting</a:t>
            </a:r>
            <a:endParaRPr b="0" lang="en-US" sz="32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280" y="441936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A. L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ior Principal Software Engin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ocrates, In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lee@epocrate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362320" y="62992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  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7" descr="logo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41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ml_logo"/>
          <p:cNvPicPr/>
          <p:nvPr/>
        </p:nvPicPr>
        <p:blipFill>
          <a:blip r:embed="rId2"/>
          <a:stretch/>
        </p:blipFill>
        <p:spPr>
          <a:xfrm>
            <a:off x="4952880" y="2895480"/>
            <a:ext cx="2895840" cy="1447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4952880" y="4419720"/>
            <a:ext cx="4191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n Wal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cipal Technolog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 Logic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n.walsh@marklogic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1833480" y="1447920"/>
            <a:ext cx="546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fficient Scripting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XML Proce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Process Matri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976E222-F9DD-4B3E-9B63-B095C5E7E535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Table 5" descr=""/>
          <p:cNvPicPr/>
          <p:nvPr/>
        </p:nvPicPr>
        <p:blipFill>
          <a:blip r:embed="rId1"/>
          <a:stretch/>
        </p:blipFill>
        <p:spPr>
          <a:xfrm>
            <a:off x="158760" y="1603440"/>
            <a:ext cx="8832960" cy="487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ripting Languages Tes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D.E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c” scripting language for windows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runs on Windows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rn version of the unix sh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s on Windows (cygwin) Linux and M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abash (XProc implement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 based run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s on Windows, Linux, M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 based run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s on Windows, Linux, M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322909C-4342-46A3-971F-79A985DAAA4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XML Processor Run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processing limited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Query (and xpat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d with Saxon B (9.1.0.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languages using the same exact JVM and Saxon j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JVM run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VM startup parameters iden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Saxon libr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XML par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OS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7F0A999-F67B-4C1B-ADDD-235A0CDC324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ardware tes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ety of available hardware t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to what we could get our hands 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desktop grade mach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server gra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w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exhaustively test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ware or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al was to look for trends or anoma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E916A8F-1B99-41DE-8157-F2A4DBA3B02A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perating Systems Tes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XP Profes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ux Fedora FC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/OS (10.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FB78621-3F67-4C84-ACD6-31DEC77A8B48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 – “The Brick Wall”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404F28D2-9DBA-4012-9D27-008B9BE00FC9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Chart 6" descr=""/>
          <p:cNvPicPr/>
          <p:nvPr/>
        </p:nvPicPr>
        <p:blipFill>
          <a:blip r:embed="rId1"/>
          <a:stretch/>
        </p:blipFill>
        <p:spPr>
          <a:xfrm>
            <a:off x="0" y="0"/>
            <a:ext cx="747396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DLEE\Desktop\al_gore_inconvenient_graph_760px.jpg"/>
          <p:cNvPicPr/>
          <p:nvPr/>
        </p:nvPicPr>
        <p:blipFill>
          <a:blip r:embed="rId2"/>
          <a:stretch/>
        </p:blipFill>
        <p:spPr>
          <a:xfrm>
            <a:off x="7467480" y="1066680"/>
            <a:ext cx="1498680" cy="50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 – “Tear Down That Wall !!!”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D1BF56A7-C7D1-4725-8FE4-AD24D21DEC46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2" descr="C:\Documents and Settings\DLEE\Desktop\Work\ePocrates\XML Conference\Balisage 2009\scripting\allbroken.jpg"/>
          <p:cNvPicPr/>
          <p:nvPr/>
        </p:nvPicPr>
        <p:blipFill>
          <a:blip r:embed="rId1"/>
          <a:stretch/>
        </p:blipFill>
        <p:spPr>
          <a:xfrm>
            <a:off x="7086600" y="2019240"/>
            <a:ext cx="2057400" cy="3861000"/>
          </a:xfrm>
          <a:prstGeom prst="rect">
            <a:avLst/>
          </a:prstGeom>
          <a:ln w="0">
            <a:noFill/>
          </a:ln>
        </p:spPr>
      </p:pic>
      <p:pic>
        <p:nvPicPr>
          <p:cNvPr id="161" name="Chart 8" descr=""/>
          <p:cNvPicPr/>
          <p:nvPr/>
        </p:nvPicPr>
        <p:blipFill>
          <a:blip r:embed="rId2"/>
          <a:stretch/>
        </p:blipFill>
        <p:spPr>
          <a:xfrm>
            <a:off x="-6480" y="0"/>
            <a:ext cx="709632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eline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5AACF2F7-1499-4C09-B735-181BF9D31437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722600"/>
          <a:ext cx="8153280" cy="4555800"/>
        </p:xfrm>
        <a:graphic>
          <a:graphicData uri="http://schemas.openxmlformats.org/drawingml/2006/table">
            <a:tbl>
              <a:tblPr/>
              <a:tblGrid>
                <a:gridCol w="1218960"/>
                <a:gridCol w="69343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ho '&lt;empty/&gt;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ECHO ^&lt;empty/^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ml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ho "&lt;empty/&gt;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pr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?xml version="1.0"?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declare-step  xmlns:p="http://www.w3.org/ns/xproc"&gt;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input port="source"&gt;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inline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empty/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inline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inpu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output port="result"/&gt;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identity/&gt;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declare-step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eline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873D39B-781E-4FC0-86E6-A41EFE2324FC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Chart 6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892512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eline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BFE67059-9895-4FF4-AF0B-A7C1FA22C6D9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722600"/>
          <a:ext cx="8153280" cy="4800600"/>
        </p:xfrm>
        <a:graphic>
          <a:graphicData uri="http://schemas.openxmlformats.org/drawingml/2006/table">
            <a:tbl>
              <a:tblPr/>
              <a:tblGrid>
                <a:gridCol w="1218960"/>
                <a:gridCol w="69343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query.sh -qs:'&lt;empty/&gt;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query -qs:"&lt;empty/&gt;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ml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query -q "&lt;empty/&gt;" -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pr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?xml version="1.0"?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pipeline  xmlns:p="http://www.w3.org/ns/xproc" xmlns:c="http://www.w3.org/ns/xproc-step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xquery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input port="query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:inline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c:query&gt;element {"empty"}{} &lt;/c:query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inline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inpu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xquery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/p:pipeline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use scripting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scripting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Brick Wall” of scrip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of this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Descri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ing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lusions and sugg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7C80CF9-1E5F-457B-B674-552AFB9B5C1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eline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267D4830-25C1-48E6-9130-79FF829395A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-6480" y="987480"/>
            <a:ext cx="8852040" cy="55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1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e a table of cont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E3070E17-AC3F-4114-A86C-D6788A2ED319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TextBox 8" descr=""/>
          <p:cNvPicPr/>
          <p:nvPr/>
        </p:nvPicPr>
        <p:blipFill>
          <a:blip r:embed="rId1"/>
          <a:stretch/>
        </p:blipFill>
        <p:spPr>
          <a:xfrm>
            <a:off x="1079640" y="2255760"/>
            <a:ext cx="6394320" cy="22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28600" y="5715000"/>
          <a:ext cx="8610480" cy="627120"/>
        </p:xfrm>
        <a:graphic>
          <a:graphicData uri="http://schemas.openxmlformats.org/drawingml/2006/table">
            <a:tbl>
              <a:tblPr/>
              <a:tblGrid>
                <a:gridCol w="1434960"/>
                <a:gridCol w="1703520"/>
                <a:gridCol w="1793880"/>
                <a:gridCol w="1495440"/>
                <a:gridCol w="1197000"/>
                <a:gridCol w="985680"/>
              </a:tblGrid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qu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536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4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7C8ED45-D727-4349-A801-7CB6352953A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Chart 8" descr=""/>
          <p:cNvPicPr/>
          <p:nvPr/>
        </p:nvPicPr>
        <p:blipFill>
          <a:blip r:embed="rId1"/>
          <a:stretch/>
        </p:blipFill>
        <p:spPr>
          <a:xfrm>
            <a:off x="225360" y="1670040"/>
            <a:ext cx="8693280" cy="473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bbe0"/>
                </a:solidFill>
                <a:latin typeface="Verdana"/>
              </a:rPr>
              <a:t>Test 2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all images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ually exist as an image cata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55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55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B58C0686-FBED-4AA9-85E3-5B0266E333F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5715000"/>
          <a:ext cx="8610480" cy="627120"/>
        </p:xfrm>
        <a:graphic>
          <a:graphicData uri="http://schemas.openxmlformats.org/drawingml/2006/table">
            <a:tbl>
              <a:tblPr/>
              <a:tblGrid>
                <a:gridCol w="1434960"/>
                <a:gridCol w="1703520"/>
                <a:gridCol w="1793880"/>
                <a:gridCol w="1495440"/>
                <a:gridCol w="1197000"/>
                <a:gridCol w="985680"/>
              </a:tblGrid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qu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536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,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198" name="TextBox 12"/>
          <p:cNvGrpSpPr/>
          <p:nvPr/>
        </p:nvGrpSpPr>
        <p:grpSpPr>
          <a:xfrm>
            <a:off x="378000" y="2432160"/>
            <a:ext cx="8315280" cy="3187080"/>
            <a:chOff x="378000" y="2432160"/>
            <a:chExt cx="8315280" cy="3187080"/>
          </a:xfrm>
        </p:grpSpPr>
        <p:pic>
          <p:nvPicPr>
            <p:cNvPr id="199" name="TextBox 12" descr=""/>
            <p:cNvPicPr/>
            <p:nvPr/>
          </p:nvPicPr>
          <p:blipFill>
            <a:blip r:embed="rId1"/>
            <a:stretch/>
          </p:blipFill>
          <p:spPr>
            <a:xfrm>
              <a:off x="378000" y="2432160"/>
              <a:ext cx="8315280" cy="31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80880" y="2438280"/>
              <a:ext cx="8305920" cy="31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or each fi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xquery list of image filenam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or each image nam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f image file exis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utput image xml el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xslt result to HTM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5115DEE3-0F15-471C-90C1-39CB671B2415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Chart 6" descr=""/>
          <p:cNvPicPr/>
          <p:nvPr/>
        </p:nvPicPr>
        <p:blipFill>
          <a:blip r:embed="rId1"/>
          <a:stretch/>
        </p:blipFill>
        <p:spPr>
          <a:xfrm>
            <a:off x="-6480" y="1517760"/>
            <a:ext cx="9004320" cy="46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3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mat complex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91D4A70E-F3BC-4995-8C96-F6AA3468A4F2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4114800" y="2057400"/>
            <a:ext cx="48006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TextBox 7"/>
          <p:cNvGrpSpPr/>
          <p:nvPr/>
        </p:nvGrpSpPr>
        <p:grpSpPr>
          <a:xfrm>
            <a:off x="225360" y="1901880"/>
            <a:ext cx="8925120" cy="2871720"/>
            <a:chOff x="225360" y="1901880"/>
            <a:chExt cx="8925120" cy="2871720"/>
          </a:xfrm>
        </p:grpSpPr>
        <p:pic>
          <p:nvPicPr>
            <p:cNvPr id="212" name="TextBox 7" descr=""/>
            <p:cNvPicPr/>
            <p:nvPr/>
          </p:nvPicPr>
          <p:blipFill>
            <a:blip r:embed="rId1"/>
            <a:stretch/>
          </p:blipFill>
          <p:spPr>
            <a:xfrm>
              <a:off x="225360" y="1901880"/>
              <a:ext cx="8925120" cy="28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28600" y="1905120"/>
              <a:ext cx="8915400" cy="28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for every page type (from xml pages description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for every input file (topic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f test (xpath) page applies to this fil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xquery file to intermediate for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xslt to HT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ppend html filename to topic inde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xslt topic list to html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28600" y="5715000"/>
          <a:ext cx="8610480" cy="627120"/>
        </p:xfrm>
        <a:graphic>
          <a:graphicData uri="http://schemas.openxmlformats.org/drawingml/2006/table">
            <a:tbl>
              <a:tblPr/>
              <a:tblGrid>
                <a:gridCol w="1434960"/>
                <a:gridCol w="1703520"/>
                <a:gridCol w="1585800"/>
                <a:gridCol w="1703520"/>
                <a:gridCol w="1197000"/>
                <a:gridCol w="985680"/>
              </a:tblGrid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qu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536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914,7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0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354D1B22-0301-4C1D-9727-A37CF3D1F180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Chart 6" descr=""/>
          <p:cNvPicPr/>
          <p:nvPr/>
        </p:nvPicPr>
        <p:blipFill>
          <a:blip r:embed="rId1"/>
          <a:stretch/>
        </p:blipFill>
        <p:spPr>
          <a:xfrm>
            <a:off x="225360" y="1749600"/>
            <a:ext cx="8620200" cy="45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S vs Bas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4DCD947-46C0-4D5C-AFF7-B3C2C2047F93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Chart 9" descr=""/>
          <p:cNvPicPr/>
          <p:nvPr/>
        </p:nvPicPr>
        <p:blipFill>
          <a:blip r:embed="rId1"/>
          <a:stretch/>
        </p:blipFill>
        <p:spPr>
          <a:xfrm>
            <a:off x="225360" y="1596960"/>
            <a:ext cx="86932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XProc vs Xmls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7F1E5C9-A8C2-4BEF-B563-98539BB63355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Chart 8" descr=""/>
          <p:cNvPicPr/>
          <p:nvPr/>
        </p:nvPicPr>
        <p:blipFill>
          <a:blip r:embed="rId1"/>
          <a:stretch/>
        </p:blipFill>
        <p:spPr>
          <a:xfrm>
            <a:off x="146160" y="1749600"/>
            <a:ext cx="8772480" cy="473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ime linear to number of oper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3865CF2-74C2-4170-959B-3763FB3F93D4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Chart 7" descr=""/>
          <p:cNvPicPr/>
          <p:nvPr/>
        </p:nvPicPr>
        <p:blipFill>
          <a:blip r:embed="rId1"/>
          <a:stretch/>
        </p:blipFill>
        <p:spPr>
          <a:xfrm>
            <a:off x="-12600" y="901800"/>
            <a:ext cx="894384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cripting”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y use ‘Scripting’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not easily performed by a single language or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lit into “Manageable Task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ued” together by a script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and Non-XML processing intermi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ier then writing in a normal programming langua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ke Java, C++ etc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 to use different tools for different ste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ier to develop and debug in small pie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rely the focus of performance optim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the “Black Sheep” of real world data process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0582395E-084F-4459-A573-5EC5E1FA0EF5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ing of few ope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 prob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ing of many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linear to number of oper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 Languages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ck W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/Operation hig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rily startup time of Java/VM and sub process cre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Scripting Languag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come the “Brick Wall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ice of ‘traditional’ or ‘XML based’ language sty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x 200x fa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s within the same JVM/Process as XML operations / ob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query / xpath / xslt / parsing /seralizing / d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67EB2261-30B9-41C4-A11F-AA2C47469C92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olidate operations (“One Big Program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within a single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oids startup overhea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olithic app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der to debu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ced to solve all problems in one tool/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34EE8510-A76F-4308-B5F4-90A632B163A3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Scripting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ose an “XML Scripting Language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um penalty for splitting up tasks to smaller pie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uns within the same process/JV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forced to use a single tool or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x &amp; match technologies (xslt, xquery , xpath , file/os utils et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ar app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sier to debu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oice of language for different st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ick prototy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work well enough for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more fear of the “Brick Wall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rage scripting language authors to ad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ve xml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C6FCC670-DF9E-48AF-B906-ED280BF8E6C3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hank You !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280" y="2285640"/>
            <a:ext cx="4648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A. L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ior Principal Software Engin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ocrates, In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lee@epocrate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xmlsh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8E3FF8D0-B009-49DD-86E3-149706B1546A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logo"/>
          <p:cNvPicPr/>
          <p:nvPr/>
        </p:nvPicPr>
        <p:blipFill>
          <a:blip r:embed="rId1"/>
          <a:stretch/>
        </p:blipFill>
        <p:spPr>
          <a:xfrm>
            <a:off x="228600" y="1295280"/>
            <a:ext cx="3200400" cy="41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ml_logo"/>
          <p:cNvPicPr/>
          <p:nvPr/>
        </p:nvPicPr>
        <p:blipFill>
          <a:blip r:embed="rId2"/>
          <a:stretch/>
        </p:blipFill>
        <p:spPr>
          <a:xfrm>
            <a:off x="4876920" y="838080"/>
            <a:ext cx="2895480" cy="1447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952880" y="228600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n Wal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cipal Technolog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 Logic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n.walsh@marklogic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abash (xpro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xmlcalabash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Scripting”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mon Scripting Langu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ure / Legacy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 (CMD.EX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x Shell ( sh / bash / ksh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er XML oriented scripting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pr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FE860B22-BDD5-445D-93F8-D99ACB873E7A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he “Brick Wall” of “Scripting”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rick Wa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ing works great for small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 of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 of comm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s to Minutes of run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the “Brick Wall” is h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ndreds of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s of comm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Days of run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give up on Scripting due to the “Brick Wal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5EF89166-7D6D-4AE6-9164-C2E4F290246A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Goal of this research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oals of research proje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bottlenecks and causes of performance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rick Wall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it real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causes it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it be knocked down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scripting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e experience with legacy langu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e goals of newer XML scripting langu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Operating systems and hard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tossing CPU power and $ at a problem solve it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“Real World” tests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introduce scripting as a viable techn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64426EC7-ACCE-4679-967E-8CFA8A67133D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C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n from “real world” processing at Epoc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ified somewhat to target specific ar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scripting overhe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small operations over many fil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med at problems where scripting is often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icult to solve in a single processing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sier to develop and debug as ‘manageable pieces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x of XML and non-xml proc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7854A35C-3153-4402-BA37-80BAC4ECEF4A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60 XML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0 MB to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g 100k e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world d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nical “Monographs” describe disease, causes, treat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sed in Epocrates online and handheld produ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7 distinct element t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383 Image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ts not used in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21FE572D-1978-4F13-9A1D-B95AA6A98DC2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600" y="151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bbe0"/>
                </a:solidFill>
                <a:latin typeface="Verdana"/>
              </a:rPr>
              <a:t>Test Cases</a:t>
            </a:r>
            <a:endParaRPr b="0" lang="en-US" sz="2400" spc="-1" strike="noStrike">
              <a:solidFill>
                <a:srgbClr val="a9bbe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st Descrip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eline1 – launch scripting command interpreter on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eline2 – Run a trivial xquery (&lt;empty/&gt;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 a table of contents (xquery across all fi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 a list of images depending on the existence of actual image files in th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t generation (xquery &amp; xslt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x formatting and conditional log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processes to run are data depend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362320" y="652788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CONFIDENTIAL AND PROPRIETARY © Epocrates, Inc. All rights reserved.</a:t>
            </a:r>
            <a:br>
              <a:rPr sz="800"/>
            </a:br>
            <a:r>
              <a:rPr b="0" lang="en-US" sz="800" spc="-1" strike="noStrike">
                <a:solidFill>
                  <a:srgbClr val="737f99"/>
                </a:solidFill>
                <a:latin typeface="Verdana"/>
              </a:rPr>
              <a:t>To learn more about Epocrates, please visit us at www.epocrates.com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696080" y="6502320"/>
            <a:ext cx="1020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37f99"/>
                </a:solidFill>
                <a:latin typeface="Verdana"/>
              </a:rPr>
              <a:t>Slide </a:t>
            </a:r>
            <a:fld id="{4DDD3481-336F-41E6-BAB4-BDBA383E26B0}" type="slidenum">
              <a:rPr b="0" lang="en-US" sz="1000" spc="-1" strike="noStrike">
                <a:solidFill>
                  <a:srgbClr val="737f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48:35Z</dcterms:created>
  <dc:creator>DLEE</dc:creator>
  <dc:description/>
  <dc:language>en-US</dc:language>
  <cp:lastModifiedBy>DLEE</cp:lastModifiedBy>
  <dcterms:modified xsi:type="dcterms:W3CDTF">2009-08-18T00:04:10Z</dcterms:modified>
  <cp:revision>60</cp:revision>
  <dc:subject/>
  <dc:title>EpocTemplateNov09</dc:title>
</cp:coreProperties>
</file>