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23A-43FC-40EF-9A01-C219D1F0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E75-FAAF-4E99-B788-40A6FF79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80F-0EFE-45AC-90D4-AFFE3E32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E1B-1DA4-4BDF-830D-BA87BBD8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581-87A0-4486-B1C0-CB797A08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E0111-1B21-4DBF-91A9-D63D5D0C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D5DBA-A54A-4ED4-BC20-279ED30C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BE0DD-15B2-4FAC-A6EA-9154E176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C6885-5621-436C-B1D3-151CADCE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9F9E5-B352-428D-BC4C-C65F630D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A0D-98B9-4AC9-9C5E-1596E008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1125C-FBEE-4E36-AEBC-CB2BB0FC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2C53F-8760-49A6-9B9F-B6DCA54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438FA-BAE8-4C65-864D-894CFF2F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AC2AD-621B-4180-B844-820F50F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7CFC8-0D00-4248-9CA6-D952FEAE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90054-6EC1-4AC3-B233-2BC623E6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4396F-4DC9-4AAE-B7C8-461BC400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098-974E-481E-8B65-8535952C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DC6-0D81-48FB-8D1C-A79E2EE1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3F9-25FA-4498-8FF2-02BD525E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5A2-0982-4098-8087-7DA1AD3E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E3A-5F47-4269-881E-D58AD86F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604-AB13-4750-AEDC-641BB6A2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4520" y="0"/>
            <a:ext cx="882324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629400"/>
            <a:ext cx="449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9720" y="6629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08A4E5-515A-4311-B002-E8AB0D910F8B}" type="slidenum">
              <a:rPr b="0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7640" y="6669000"/>
            <a:ext cx="4641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800" spc="-1" strike="noStrike">
                <a:solidFill>
                  <a:srgbClr val="b2b2b2"/>
                </a:solidFill>
                <a:latin typeface="Arial"/>
                <a:ea typeface="Arial"/>
              </a:rPr>
              <a:t>Copyright Charlie McCay, Mikchael Odling-Smee, Joseph Waller &amp; Ann Wrightson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0360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2514240"/>
            <a:ext cx="73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4427640" y="6668640"/>
            <a:ext cx="4641840" cy="1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800" spc="-1" strike="noStrike">
                <a:solidFill>
                  <a:srgbClr val="b2b2b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800" spc="-1" strike="noStrike">
                <a:solidFill>
                  <a:srgbClr val="b2b2b2"/>
                </a:solidFill>
                <a:latin typeface="Arial"/>
                <a:ea typeface="Arial"/>
              </a:rPr>
              <a:t>Copyright Charlie McCay, Mikchael Odling-Smee, Joseph Waller &amp; Ann Wrightson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Ann Wrightson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ramseysystems.co.uk/" TargetMode="External"/><Relationship Id="rId2" Type="http://schemas.openxmlformats.org/officeDocument/2006/relationships/hyperlink" Target="mailto:charlie@RamseySystems.co.uk" TargetMode="External"/><Relationship Id="rId3" Type="http://schemas.openxmlformats.org/officeDocument/2006/relationships/hyperlink" Target="http://www.xml-solutions.com/" TargetMode="External"/><Relationship Id="rId4" Type="http://schemas.openxmlformats.org/officeDocument/2006/relationships/hyperlink" Target="mailto:joseph@xml-solutions.com" TargetMode="External"/><Relationship Id="rId5" Type="http://schemas.openxmlformats.org/officeDocument/2006/relationships/hyperlink" Target="mailto:mike@xml-solutions.com" TargetMode="External"/><Relationship Id="rId6" Type="http://schemas.openxmlformats.org/officeDocument/2006/relationships/hyperlink" Target="http://www.wales.nhs.uk/ihc" TargetMode="External"/><Relationship Id="rId7" Type="http://schemas.openxmlformats.org/officeDocument/2006/relationships/hyperlink" Target="mailto:ann.wrightson@wales.nhs.uk" TargetMode="Externa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genomebiology.com/2005/6/5/R46" TargetMode="External"/><Relationship Id="rId2" Type="http://schemas.openxmlformats.org/officeDocument/2006/relationships/hyperlink" Target="http://www.obofoundry.org/ro/" TargetMode="External"/><Relationship Id="rId3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2420640"/>
            <a:ext cx="72738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Verdana"/>
              </a:rPr>
              <a:t>Graciously handling a level of change in a complex specifica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360" y="4571640"/>
            <a:ext cx="7923240" cy="25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rebuchet MS"/>
              </a:rPr>
              <a:t>Charlie McCay   Mike Odling-Smee</a:t>
            </a:r>
            <a:endParaRPr b="0" lang="en-US" sz="1800" spc="-1" strike="noStrike">
              <a:solidFill>
                <a:srgbClr val="80808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rebuchet MS"/>
              </a:rPr>
              <a:t>Joseph Waller   Ann Wrightson</a:t>
            </a:r>
            <a:endParaRPr b="0" lang="en-US" sz="1800" spc="-1" strike="noStrike">
              <a:solidFill>
                <a:srgbClr val="808080"/>
              </a:solidFill>
              <a:latin typeface="Lucida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1280" y="5661000"/>
            <a:ext cx="172080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6516720" y="6165720"/>
          <a:ext cx="2284560" cy="31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6165720"/>
                    <a:ext cx="228456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Representative scenario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92360" y="1454040"/>
            <a:ext cx="5570280" cy="5403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71640" y="1341360"/>
            <a:ext cx="280836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09A-9FF8-49F2-96E9-8543202A47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Extension to a value set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oudita Sans SF"/>
              </a:rPr>
              <a:t>A vocabulary (a value set specifying valid values for an attribute) needs an additional term (value), for example the name of a new organizational unit</a:t>
            </a:r>
            <a:endParaRPr b="0" lang="en-US" sz="24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oudita Sans SF"/>
              </a:rPr>
              <a:t>The structure of the message has not changed, however the change in allowed values is significant </a:t>
            </a:r>
            <a:endParaRPr b="0" lang="en-US" sz="24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central service point that receives mess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nformation systems needing to issue messages including the new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oudita Sans SF"/>
              </a:rPr>
              <a:t>However, any systems that have no need to mention the new unit are unaffected</a:t>
            </a:r>
            <a:endParaRPr b="0" lang="en-US" sz="24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ir old-style messages continue to be accepted by the central service poi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CDA-F473-4F69-AD4B-C61D856B71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Structured medication dose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Goudita Sans SF"/>
              </a:rPr>
              <a:t>Medication dosage instructions are initially represented as text</a:t>
            </a:r>
            <a:endParaRPr b="0" lang="en-US" sz="24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s meaningful for a human, but it is not machine processable for example to enable decision support for prescrib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Goudita Sans SF"/>
              </a:rPr>
              <a:t>A new message component is introduced to enable endpoints able to provide fully structured dosage instructions to do so</a:t>
            </a:r>
            <a:endParaRPr b="0" lang="en-US" sz="24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Goudita Sans SF"/>
              </a:rPr>
              <a:t>The new component replaces the old component wherever possible, and the old component will eventually become deprecated </a:t>
            </a:r>
            <a:endParaRPr b="0" lang="en-US" sz="24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cause of the long retention period of clinical records the old component may still appear in older information, even when contained in new mess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Goudita Sans SF"/>
              </a:rPr>
              <a:t>This is a systematic change to the representation of a prescription, affecting a number of messages</a:t>
            </a:r>
            <a:endParaRPr b="0" lang="en-US" sz="2400" spc="-1" strike="noStrike">
              <a:solidFill>
                <a:srgbClr val="003399"/>
              </a:solidFill>
              <a:latin typeface="Goudita Sans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E24-1213-48CA-87FB-5B0F7F4FD2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Extemporaneous Preparation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oudita Sans SF"/>
              </a:rPr>
              <a:t>Most prescriptions involve manufactured products (such as packs of tablets) that are identified using codes from a nationally managed terminology</a:t>
            </a:r>
            <a:endParaRPr b="0" lang="en-US" sz="24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oudita Sans SF"/>
              </a:rPr>
              <a:t>Occasionally a pharmacist creates a one-off preparation for a patient</a:t>
            </a:r>
            <a:endParaRPr b="0" lang="en-US" sz="24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h an extemporaneous preparation needs to be recorded differently, including its ingredi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oudita Sans SF"/>
              </a:rPr>
              <a:t>A new message component is introduced to represent extemporaneous preparations</a:t>
            </a:r>
            <a:endParaRPr b="0" lang="en-US" sz="24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tructure will be used instead of the standard prescription item structure as required (i.e. there would be a choice about which structure is us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oudita Sans SF"/>
              </a:rPr>
              <a:t>This is a systematic change to the representation of a prescription, affecting a number of messages</a:t>
            </a:r>
            <a:endParaRPr b="0" lang="en-US" sz="2400" spc="-1" strike="noStrike">
              <a:solidFill>
                <a:srgbClr val="003399"/>
              </a:solidFill>
              <a:latin typeface="Goudita Sans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37C-6FC2-4020-B64C-8CCF77AA2E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Additional error cod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To increase data quality, additional data validation is introduced on certain interfaces 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error codes are introduced to indicate the cause when a message fails the new valid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The new error codes will need to be recognized by sending systems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Implementers' testing &amp; monitoring will need to cope with new errors in previously tested interfaces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C66-82F7-49C3-8935-1A7F753D88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Change to guidance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Documentation in HL7v3 Tabular Views provides authoritative guidance to implementers 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A defect raised during testing is traced to misinterpretation of poor wording in the guidance; the wording is revised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literal change in the specification that does not include any technical change, yet does constitute a significant change for implementers with respect to con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0EB-B421-436B-82B9-A1A5D4A848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Integration defect: faulty Schema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During testing an integration defect is traced to an inconsistency between guidance wording in the Tabular View and the XML schema for the associated message 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On analysis, the guidance is found to be correct, and the schema is corrected and re-issued (using the normal HL7v3 model-driven schema generation process) 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C6B-44D4-4AB5-A87D-C0A2174C95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514240"/>
            <a:ext cx="73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Configuration items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 and dependenci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060280" y="3657600"/>
            <a:ext cx="6615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Identify Configuration Item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92360" y="1454040"/>
            <a:ext cx="5570280" cy="5403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2688600">
            <a:off x="5003640" y="2133720"/>
            <a:ext cx="280836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6FE-177C-4CB3-BBB0-D49C6AB3CD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Identifying Configuration Item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Candidate configuration items were gathered from implementers and developers of the specification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same workshop meetings as the identification and preliminary analysis of scenar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Combined knowledge of developers and implementers (and HL7v3 principles) used to develop a dependency model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2E5-BB92-40AB-AF7B-21FFC7AE42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Who are we?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Goudita Sans SF"/>
              </a:rPr>
              <a:t>Charlie McCay, Ramsey Systems Ltd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Goudita Sans SF"/>
              </a:rPr>
              <a:t>Mike Odling-Smee &amp; Joseph Waller, XML Solutions Ltd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Goudita Sans SF"/>
              </a:rPr>
              <a:t>Ann Wrightson, Informing Healthcare (NHS Wales)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Goudita Sans SF"/>
              </a:rPr>
              <a:t>We have all been at the “coal-face” of implementing HL7v3 messaging specifications in the UK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04B-A7C5-40BC-831B-EEEBB9ADD5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Build dependency mode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92360" y="1454040"/>
            <a:ext cx="5570280" cy="5403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rot="6931800">
            <a:off x="5362560" y="4509000"/>
            <a:ext cx="280836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AF3-0132-4AFA-B4B7-4F0B602319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638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588000" y="198900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ified diagram of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91D-E2CE-4D5F-9231-CDFD1A013A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638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128000" y="213372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models and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284360" y="691920"/>
            <a:ext cx="2879640" cy="1584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284360" y="2491920"/>
            <a:ext cx="2879640" cy="730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355640" y="2852640"/>
            <a:ext cx="2808360" cy="1008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227640" y="3141720"/>
            <a:ext cx="936720" cy="28872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472428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abu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term 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84360" y="4941720"/>
            <a:ext cx="574920" cy="14292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27280" y="1341000"/>
            <a:ext cx="4464000" cy="107964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DD0-4EF2-4245-BF22-D04E96FBC3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638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08720" y="1916280"/>
            <a:ext cx="15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ML ITS and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68360" y="2276640"/>
            <a:ext cx="4896000" cy="43164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268360" y="2565360"/>
            <a:ext cx="4896000" cy="158436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4437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dance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492000" y="4941720"/>
            <a:ext cx="3024360" cy="14292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5734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ssage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1979280" y="6164280"/>
            <a:ext cx="4608360" cy="144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090-FA7E-4920-8DA9-33C4AB9927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514240"/>
            <a:ext cx="73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Tools for managing change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060280" y="3657600"/>
            <a:ext cx="6615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Sans"/>
              </a:rPr>
              <a:t>Recommendations for graciously handling a level of change across a diverse implementation community </a:t>
            </a:r>
            <a:endParaRPr b="0" lang="en-US" sz="2400" spc="-1" strike="noStrike">
              <a:solidFill>
                <a:srgbClr val="80808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Configuration Matrix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92360" y="1454040"/>
            <a:ext cx="5570280" cy="5403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10800000">
            <a:off x="3347640" y="5950080"/>
            <a:ext cx="280836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9FF-23AC-4F6F-BB4B-649C198C09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705800" cy="4876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788000" y="1773360"/>
            <a:ext cx="39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ual aid for predicting and managing the impact of planned changes across the implementation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Configuration matrix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514-CFCB-4497-874C-3A7DA5E2F4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Profile Manifest and Profile ID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92360" y="1454040"/>
            <a:ext cx="5570280" cy="5403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17430000">
            <a:off x="899280" y="2564280"/>
            <a:ext cx="280836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3955400">
            <a:off x="970560" y="4913640"/>
            <a:ext cx="280836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0CD-67D4-417F-8499-D476F289EC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Version Profile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Each supported combination of configuration items published as a ‘Profile Manifest’ 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A message carries a ‘Profile ID’ referencing a profile manifest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Allows a particular permutation of configuration items to be referenced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message schema 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message in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XML example in the paper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512-2D17-4869-B311-78140097C0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Transport-profile-ID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Items for transport, security and audit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In general only relevant whilst the message is “in flight” 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Most systems discard the information (bar audit) once the message has reached its destination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At any one time there will be relatively few different transport-profile-IDs in use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817-AE4A-477A-AC1F-17530580D7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Managing change 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blem of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Finding the generators of change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Configuration items and dependencies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Tools for managing change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40C-9A1A-4D5B-99DF-F46E0256A1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Payload-profile-ID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Business payload of the message 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35880" indent="-3358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This information (in some cases the raw XML) may have a long lifetime 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ys or weeks to many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there will be an ever-growing list of profile IDs over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(Copies of) the same payload will be transmitted at different times in messages with different Transport-profile-IDs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E44-B957-480D-8CE8-52F64662B2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Putting it all together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769080" cy="521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9F8-D367-47B7-A19C-45CC0AFD7E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Thank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Goudita Sans SF"/>
              </a:rPr>
              <a:t>Charlie McCay</a:t>
            </a:r>
            <a:endParaRPr b="0" lang="en-US" sz="2800" spc="-1" strike="noStrike">
              <a:solidFill>
                <a:srgbClr val="003399"/>
              </a:solidFill>
              <a:latin typeface="Goudita Sans SF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Ramsey Systems Ltd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ramseysystems.co.uk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harlie@RamseySystems.co.uk</a:t>
            </a: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Goudita Sans SF"/>
              </a:rPr>
              <a:t>Joseph Waller &amp; Mike Odling-Smee</a:t>
            </a:r>
            <a:endParaRPr b="0" lang="en-US" sz="2800" spc="-1" strike="noStrike">
              <a:solidFill>
                <a:srgbClr val="003399"/>
              </a:solidFill>
              <a:latin typeface="Goudita Sans SF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XML Solutions Ltd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xml-solutions.com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joseph@xml-solutions.com</a:t>
            </a: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;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mike@xml-solutions.com</a:t>
            </a: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Goudita Sans SF"/>
              </a:rPr>
              <a:t>Ann Wrightson</a:t>
            </a:r>
            <a:endParaRPr b="0" lang="en-US" sz="2800" spc="-1" strike="noStrike">
              <a:solidFill>
                <a:srgbClr val="003399"/>
              </a:solidFill>
              <a:latin typeface="Goudita Sans SF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Informing Healthcare (NHS Wale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www.wales.nhs.uk/ihc</a:t>
            </a: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ann.wrightson@wales.nhs.uk</a:t>
            </a: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1908000" y="4005360"/>
            <a:ext cx="3125880" cy="7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FE1-565B-4BBC-802D-0DCE6A4323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and furthe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3CD1F-CEB7-409F-A77C-C6C67775E7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loser look at the XML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ling mechanism looks fit for purpose for HL7v3 specifications, but is specific to that method &amp; modelling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let’s take a more general look at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document structure has substructures aligned with configuration it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D2E2F-5CAC-4972-AAAE-6E8E391F7B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 CDA structure (simplifi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880" y="1816200"/>
            <a:ext cx="1024200" cy="1252440"/>
            <a:chOff x="2880" y="1816200"/>
            <a:chExt cx="1024200" cy="1252440"/>
          </a:xfrm>
        </p:grpSpPr>
        <p:sp>
          <p:nvSpPr>
            <p:cNvPr id="219" name=""/>
            <p:cNvSpPr/>
            <p:nvPr/>
          </p:nvSpPr>
          <p:spPr>
            <a:xfrm>
              <a:off x="92160" y="2131920"/>
              <a:ext cx="934920" cy="936720"/>
            </a:xfrm>
            <a:prstGeom prst="ellipse">
              <a:avLst/>
            </a:prstGeom>
            <a:solidFill>
              <a:srgbClr val="f1f8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80" y="181620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63440" y="2565360"/>
            <a:ext cx="1671840" cy="1488240"/>
            <a:chOff x="163440" y="2565360"/>
            <a:chExt cx="1671840" cy="1488240"/>
          </a:xfrm>
        </p:grpSpPr>
        <p:sp>
          <p:nvSpPr>
            <p:cNvPr id="222" name=""/>
            <p:cNvSpPr/>
            <p:nvPr/>
          </p:nvSpPr>
          <p:spPr>
            <a:xfrm>
              <a:off x="971640" y="2565360"/>
              <a:ext cx="863640" cy="1224000"/>
            </a:xfrm>
            <a:prstGeom prst="ellipse">
              <a:avLst/>
            </a:prstGeom>
            <a:solidFill>
              <a:srgbClr val="f1f8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440" y="3716280"/>
              <a:ext cx="140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H="1">
            <a:off x="523800" y="1268280"/>
            <a:ext cx="3240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63800" y="1268280"/>
            <a:ext cx="648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07800" y="2349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38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79080" y="2565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3800" y="2565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460520" y="2205000"/>
            <a:ext cx="2951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27080" y="2637000"/>
            <a:ext cx="433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387080" y="2637000"/>
            <a:ext cx="73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0520" y="263700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341800" y="2565360"/>
            <a:ext cx="3093840" cy="1628640"/>
            <a:chOff x="2341800" y="2565360"/>
            <a:chExt cx="3093840" cy="1628640"/>
          </a:xfrm>
        </p:grpSpPr>
        <p:sp>
          <p:nvSpPr>
            <p:cNvPr id="235" name=""/>
            <p:cNvSpPr/>
            <p:nvPr/>
          </p:nvSpPr>
          <p:spPr>
            <a:xfrm>
              <a:off x="3419640" y="2565360"/>
              <a:ext cx="2016000" cy="1628640"/>
            </a:xfrm>
            <a:prstGeom prst="ellipse">
              <a:avLst/>
            </a:prstGeom>
            <a:solidFill>
              <a:srgbClr val="f1f8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41800" y="3070080"/>
              <a:ext cx="102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uma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da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564000" y="2854080"/>
              <a:ext cx="115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140000" y="2854080"/>
              <a:ext cx="576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16720" y="2854080"/>
              <a:ext cx="4316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24452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019840" y="2997360"/>
            <a:ext cx="4124880" cy="3671280"/>
            <a:chOff x="5019840" y="2997360"/>
            <a:chExt cx="4124880" cy="3671280"/>
          </a:xfrm>
        </p:grpSpPr>
        <p:sp>
          <p:nvSpPr>
            <p:cNvPr id="242" name=""/>
            <p:cNvSpPr/>
            <p:nvPr/>
          </p:nvSpPr>
          <p:spPr>
            <a:xfrm>
              <a:off x="5019840" y="3429000"/>
              <a:ext cx="3889440" cy="3239640"/>
            </a:xfrm>
            <a:prstGeom prst="ellipse">
              <a:avLst/>
            </a:prstGeom>
            <a:solidFill>
              <a:srgbClr val="f1f8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5589360"/>
              <a:ext cx="1079280" cy="93636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78200" y="299736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utable clinical 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09080" y="5229000"/>
              <a:ext cx="792000" cy="64908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579640" y="3933720"/>
              <a:ext cx="2016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516360" y="3933720"/>
              <a:ext cx="107964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235640" y="3933720"/>
              <a:ext cx="36036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96360" y="3933720"/>
              <a:ext cx="50472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96360" y="3933720"/>
              <a:ext cx="107928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020000" y="4797360"/>
              <a:ext cx="21600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36000" y="4797360"/>
              <a:ext cx="36036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380360" y="5445000"/>
              <a:ext cx="216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524360" y="5445000"/>
              <a:ext cx="71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96360" y="5445000"/>
              <a:ext cx="1443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6360" y="5445000"/>
              <a:ext cx="2887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588000" y="5661000"/>
              <a:ext cx="431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720" y="5661000"/>
              <a:ext cx="7128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732720" y="5949720"/>
              <a:ext cx="216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48720" y="59497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48720" y="5949720"/>
              <a:ext cx="2156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20000" y="6310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2160" y="537372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68360" y="494028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411800" y="2205000"/>
            <a:ext cx="3045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16360" y="2854440"/>
            <a:ext cx="2880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25472-D4DC-49DE-8738-663A2E4E1B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71640" y="2565360"/>
            <a:ext cx="863640" cy="1224000"/>
          </a:xfrm>
          <a:prstGeom prst="ellipse">
            <a:avLst/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2160" y="2131920"/>
            <a:ext cx="934920" cy="936720"/>
          </a:xfrm>
          <a:prstGeom prst="ellipse">
            <a:avLst/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 CDA structure (simplifi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80" y="18162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3440" y="37162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23800" y="1268280"/>
            <a:ext cx="3240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3800" y="1268280"/>
            <a:ext cx="648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07800" y="2349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38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79080" y="2565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3800" y="2565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460520" y="2205000"/>
            <a:ext cx="2951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027080" y="2637000"/>
            <a:ext cx="433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387080" y="2637000"/>
            <a:ext cx="73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60520" y="263700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341800" y="2565360"/>
            <a:ext cx="3093840" cy="1628640"/>
            <a:chOff x="2341800" y="2565360"/>
            <a:chExt cx="3093840" cy="1628640"/>
          </a:xfrm>
        </p:grpSpPr>
        <p:sp>
          <p:nvSpPr>
            <p:cNvPr id="283" name=""/>
            <p:cNvSpPr/>
            <p:nvPr/>
          </p:nvSpPr>
          <p:spPr>
            <a:xfrm>
              <a:off x="3419640" y="2565360"/>
              <a:ext cx="2016000" cy="1628640"/>
            </a:xfrm>
            <a:prstGeom prst="ellipse">
              <a:avLst/>
            </a:prstGeom>
            <a:solidFill>
              <a:srgbClr val="f1f8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41800" y="3070080"/>
              <a:ext cx="102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uma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da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564000" y="2854080"/>
              <a:ext cx="115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140000" y="2854080"/>
              <a:ext cx="576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6720" y="2854080"/>
              <a:ext cx="4316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24452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019840" y="2997360"/>
            <a:ext cx="4124880" cy="3671280"/>
            <a:chOff x="5019840" y="2997360"/>
            <a:chExt cx="4124880" cy="3671280"/>
          </a:xfrm>
        </p:grpSpPr>
        <p:sp>
          <p:nvSpPr>
            <p:cNvPr id="290" name=""/>
            <p:cNvSpPr/>
            <p:nvPr/>
          </p:nvSpPr>
          <p:spPr>
            <a:xfrm>
              <a:off x="5019840" y="3429000"/>
              <a:ext cx="3889440" cy="3239640"/>
            </a:xfrm>
            <a:prstGeom prst="ellipse">
              <a:avLst/>
            </a:prstGeom>
            <a:solidFill>
              <a:srgbClr val="f1f8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72360" y="5589360"/>
              <a:ext cx="1079280" cy="93636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78200" y="299736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utable clinical 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9080" y="5229000"/>
              <a:ext cx="792000" cy="64908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579640" y="3933720"/>
              <a:ext cx="2016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516360" y="3933720"/>
              <a:ext cx="107964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235640" y="3933720"/>
              <a:ext cx="36036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96360" y="3933720"/>
              <a:ext cx="50472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96360" y="3933720"/>
              <a:ext cx="107928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020000" y="4797360"/>
              <a:ext cx="21600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36000" y="4797360"/>
              <a:ext cx="36036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380360" y="5445000"/>
              <a:ext cx="216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524360" y="5445000"/>
              <a:ext cx="71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96360" y="5445000"/>
              <a:ext cx="1443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96360" y="5445000"/>
              <a:ext cx="2887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661000"/>
              <a:ext cx="431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948720" y="5661000"/>
              <a:ext cx="7128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732720" y="5949720"/>
              <a:ext cx="216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48720" y="59497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48720" y="5949720"/>
              <a:ext cx="2156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20000" y="6310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82160" y="537372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68360" y="494028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411800" y="2205000"/>
            <a:ext cx="3045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16360" y="2854440"/>
            <a:ext cx="2880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936720" y="3573360"/>
            <a:ext cx="2968200" cy="1459800"/>
            <a:chOff x="936720" y="3573360"/>
            <a:chExt cx="2968200" cy="1459800"/>
          </a:xfrm>
        </p:grpSpPr>
        <p:sp>
          <p:nvSpPr>
            <p:cNvPr id="316" name=""/>
            <p:cNvSpPr/>
            <p:nvPr/>
          </p:nvSpPr>
          <p:spPr>
            <a:xfrm>
              <a:off x="936720" y="4695840"/>
              <a:ext cx="29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Vocabulary:Organization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1387440" y="3573360"/>
              <a:ext cx="727200" cy="11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025640" y="6141960"/>
            <a:ext cx="5922720" cy="337320"/>
            <a:chOff x="1025640" y="6141960"/>
            <a:chExt cx="5922720" cy="337320"/>
          </a:xfrm>
        </p:grpSpPr>
        <p:sp>
          <p:nvSpPr>
            <p:cNvPr id="319" name=""/>
            <p:cNvSpPr/>
            <p:nvPr/>
          </p:nvSpPr>
          <p:spPr>
            <a:xfrm>
              <a:off x="1025640" y="614196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nical terminology: SnCT ex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37160" y="6310440"/>
              <a:ext cx="23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B7ED5-E485-43D4-B94C-E548B486E9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further at the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document structure has substructures aligned with configuration it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all structure is born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dicates significant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s internal structure of significant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&amp; payload isn’t the same as substructure-in-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EBC15-FFAE-4F11-B9D2-DD7BA956E5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handle this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who understands what’s going on can “see” the significant parts in the XML, can document them in the schema &amp; example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66ACD-A56A-48E5-8992-388EB2B9C2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instance from CDA spec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1600" y="1133640"/>
            <a:ext cx="894240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ClinicalDocument xmlns="urn:hl7-org:v3" xmlns:voc="urn:hl7-org:v3/voc" xmlns:xsi="http://www.w3.org/2001/XMLSchema-instance" xsi:schemaLocation="urn:hl7-org:v3 CDA.xsd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!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DA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typeId root="2.16.840.1.113883.1.3" extension="POCD_HD000040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templateId root="2.16.840.1.113883.3.27.1776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id extension="c266" root="2.16.840.1.113883.19.4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code code="11488-4" codeSystem="2.16.840.1.113883.6.1" codeSystemName="LOINC" displayName="Consultation note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Courier New"/>
              </a:rPr>
              <a:t>...lots more header goes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!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DA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structured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!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History of Present Illne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&lt;se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1600" y="1746360"/>
            <a:ext cx="8704440" cy="901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600" y="4100400"/>
            <a:ext cx="8704440" cy="9018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1600" y="5418000"/>
            <a:ext cx="8704440" cy="9018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11AEC-1819-4564-95E0-9CBE7D423E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514240"/>
            <a:ext cx="73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Managing change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– a problem of succes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60280" y="3657600"/>
            <a:ext cx="6615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handle this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uman who understands what’s going on can “see” the significant parts in the XML, can document them in the schem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you don’t realize how much you’re depending on this until whoever it is leaves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the XML as an opaque program-to-program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ell for some uses of 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7v3 XML ITS lesson learn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XML structure designed to carry a model instance faithfully WILL be processed in other ways within a diverse implementation commun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its is used as the basis for a “Clinical Document Architecture”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EA6A6-F856-436A-A31E-E573943E181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’s structure…&amp;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XML (or similar) document structure often has substructures aligned with configuration items or other significant par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s, entrie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per &amp; payload in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all structure is born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ndicates boundaries of significan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uch doe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ructure in an XML document, unlike content, is not self-descri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084640"/>
            <a:ext cx="8704080" cy="9018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8A7E3-625E-4122-AD81-60E39360B8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 an idea from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dmark p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 in Biomedical Ont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enomebiology.com/2005/6/5/R4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bofoundry.org/ro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points of the pap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need to pay full attention to the semantics of the structural relations in a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structural relationships in ontology artefacts just to build stuff leads to messy, long-term problems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explicit, common ontology of relations enables ontologies from related subject areas to “play together nicel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852E0-5DFC-4B0B-AA6A-75089D2391D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 structure of HL7v3 C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71640" y="2565360"/>
            <a:ext cx="863640" cy="1224000"/>
          </a:xfrm>
          <a:prstGeom prst="ellipse">
            <a:avLst/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3440" y="37162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2160" y="2131920"/>
            <a:ext cx="934920" cy="936720"/>
          </a:xfrm>
          <a:prstGeom prst="ellipse">
            <a:avLst/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80" y="18162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23800" y="1268280"/>
            <a:ext cx="3240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07800" y="2349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38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79080" y="2565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3800" y="2565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027080" y="1268280"/>
            <a:ext cx="2736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387080" y="1268280"/>
            <a:ext cx="2376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747800" y="1268280"/>
            <a:ext cx="201600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62280" y="3724200"/>
            <a:ext cx="2016000" cy="1629000"/>
          </a:xfrm>
          <a:prstGeom prst="ellipse">
            <a:avLst/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84440" y="4229280"/>
            <a:ext cx="102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906640" y="4013280"/>
            <a:ext cx="1152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482640" y="401328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59360" y="4013280"/>
            <a:ext cx="431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4452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19840" y="2824200"/>
            <a:ext cx="3889080" cy="3240000"/>
          </a:xfrm>
          <a:prstGeom prst="ellipse">
            <a:avLst/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4984920"/>
            <a:ext cx="1079280" cy="936360"/>
          </a:xfrm>
          <a:prstGeom prst="ellipse">
            <a:avLst/>
          </a:prstGeom>
          <a:solidFill>
            <a:srgbClr val="d0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21000" y="6227640"/>
            <a:ext cx="26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ble clinical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82160" y="476892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61880" y="529596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059000" y="3328920"/>
            <a:ext cx="35370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235640" y="332892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96360" y="3328920"/>
            <a:ext cx="1079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020000" y="419256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308720" y="4624560"/>
            <a:ext cx="792360" cy="649080"/>
            <a:chOff x="7308720" y="4624560"/>
            <a:chExt cx="792360" cy="649080"/>
          </a:xfrm>
        </p:grpSpPr>
        <p:sp>
          <p:nvSpPr>
            <p:cNvPr id="366" name=""/>
            <p:cNvSpPr/>
            <p:nvPr/>
          </p:nvSpPr>
          <p:spPr>
            <a:xfrm>
              <a:off x="7308720" y="4624560"/>
              <a:ext cx="792360" cy="64908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380360" y="484020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7524360" y="4840200"/>
              <a:ext cx="71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96360" y="4840200"/>
              <a:ext cx="144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6360" y="4840200"/>
              <a:ext cx="288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 flipH="1">
            <a:off x="6588000" y="5056200"/>
            <a:ext cx="432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948000" y="5056200"/>
            <a:ext cx="7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732360" y="534528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48360" y="5345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48360" y="534528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020000" y="5705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37160" y="1638360"/>
            <a:ext cx="2959200" cy="16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37160" y="1638360"/>
            <a:ext cx="27432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63800" y="1268280"/>
            <a:ext cx="87336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812000" y="3975120"/>
            <a:ext cx="792360" cy="649080"/>
            <a:chOff x="7812000" y="3975120"/>
            <a:chExt cx="792360" cy="649080"/>
          </a:xfrm>
        </p:grpSpPr>
        <p:sp>
          <p:nvSpPr>
            <p:cNvPr id="381" name=""/>
            <p:cNvSpPr/>
            <p:nvPr/>
          </p:nvSpPr>
          <p:spPr>
            <a:xfrm>
              <a:off x="7812000" y="3975120"/>
              <a:ext cx="792360" cy="64908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883640" y="41907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8027640" y="4190760"/>
              <a:ext cx="71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99640" y="4190760"/>
              <a:ext cx="144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99640" y="4190760"/>
              <a:ext cx="288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7596360" y="332892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36000" y="419256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37160" y="1638360"/>
            <a:ext cx="310356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37160" y="1638360"/>
            <a:ext cx="2959200" cy="73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191280" y="3830760"/>
            <a:ext cx="792000" cy="649080"/>
            <a:chOff x="6191280" y="3830760"/>
            <a:chExt cx="792000" cy="649080"/>
          </a:xfrm>
        </p:grpSpPr>
        <p:sp>
          <p:nvSpPr>
            <p:cNvPr id="391" name=""/>
            <p:cNvSpPr/>
            <p:nvPr/>
          </p:nvSpPr>
          <p:spPr>
            <a:xfrm>
              <a:off x="6191280" y="3830760"/>
              <a:ext cx="792000" cy="64908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262200" y="4046400"/>
              <a:ext cx="215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406920" y="4046400"/>
              <a:ext cx="71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78560" y="4046400"/>
              <a:ext cx="144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78560" y="4046400"/>
              <a:ext cx="288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H="1">
            <a:off x="6516360" y="3328920"/>
            <a:ext cx="10796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B0A28-3F7F-4E59-AC0F-43578FF9267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ificant subtrees and bouqu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16000" y="1738440"/>
            <a:ext cx="8459640" cy="5319720"/>
            <a:chOff x="216000" y="1738440"/>
            <a:chExt cx="8459640" cy="5319720"/>
          </a:xfrm>
        </p:grpSpPr>
        <p:sp>
          <p:nvSpPr>
            <p:cNvPr id="399" name=""/>
            <p:cNvSpPr/>
            <p:nvPr/>
          </p:nvSpPr>
          <p:spPr>
            <a:xfrm flipH="1">
              <a:off x="523800" y="2620800"/>
              <a:ext cx="3240000" cy="10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07800" y="370188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3800" y="3701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79080" y="39178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3800" y="39178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027080" y="2620800"/>
              <a:ext cx="273672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387080" y="2620800"/>
              <a:ext cx="2376360" cy="21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747800" y="2620800"/>
              <a:ext cx="2016000" cy="201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906640" y="5365800"/>
              <a:ext cx="115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482640" y="5365800"/>
              <a:ext cx="576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59360" y="5365800"/>
              <a:ext cx="43164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44520" y="48531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059000" y="4681440"/>
              <a:ext cx="3537000" cy="68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235640" y="4681440"/>
              <a:ext cx="36036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96360" y="4681440"/>
              <a:ext cx="107928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020000" y="5545080"/>
              <a:ext cx="21600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380360" y="619272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524360" y="6192720"/>
              <a:ext cx="71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96360" y="6192720"/>
              <a:ext cx="144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96360" y="6192720"/>
              <a:ext cx="288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588000" y="6408720"/>
              <a:ext cx="432000" cy="7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948000" y="6408720"/>
              <a:ext cx="71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732360" y="6697800"/>
              <a:ext cx="21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48360" y="66978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48360" y="6697800"/>
              <a:ext cx="216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20000" y="70581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37160" y="2990880"/>
              <a:ext cx="2959200" cy="16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37160" y="2990880"/>
              <a:ext cx="274320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63800" y="2620800"/>
              <a:ext cx="87336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883280" y="5543640"/>
              <a:ext cx="21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028000" y="5543640"/>
              <a:ext cx="71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99280" y="5543640"/>
              <a:ext cx="144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99280" y="5543640"/>
              <a:ext cx="289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96360" y="4681440"/>
              <a:ext cx="50472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36000" y="554508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7160" y="2990880"/>
              <a:ext cx="3103560" cy="26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37160" y="2990880"/>
              <a:ext cx="2959200" cy="73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262560" y="539892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407280" y="5398920"/>
              <a:ext cx="71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8560" y="5398920"/>
              <a:ext cx="144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8560" y="5398920"/>
              <a:ext cx="289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516360" y="4681440"/>
              <a:ext cx="107964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14640" y="3484440"/>
              <a:ext cx="853920" cy="21744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48360" y="4853160"/>
              <a:ext cx="1357560" cy="217440"/>
            </a:xfrm>
            <a:prstGeom prst="ellipse">
              <a:avLst/>
            </a:pr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12440" y="4062240"/>
              <a:ext cx="21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utable entr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73880" y="4233960"/>
              <a:ext cx="1662120" cy="61920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25720" y="180972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DA 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327040" y="2176560"/>
              <a:ext cx="344520" cy="130788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44400" y="173844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DA 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636800" y="2104920"/>
              <a:ext cx="198360" cy="88596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000" y="2166840"/>
              <a:ext cx="11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ssage 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23440" y="2859120"/>
              <a:ext cx="104760" cy="84276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4F93F-8A73-4D1F-BFAC-2B4BAFA7F52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4724280" y="6172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0" y="5056200"/>
            <a:ext cx="4762440" cy="1801800"/>
            <a:chOff x="0" y="5056200"/>
            <a:chExt cx="4762440" cy="1801800"/>
          </a:xfrm>
        </p:grpSpPr>
        <p:sp>
          <p:nvSpPr>
            <p:cNvPr id="453" name=""/>
            <p:cNvSpPr/>
            <p:nvPr/>
          </p:nvSpPr>
          <p:spPr>
            <a:xfrm>
              <a:off x="0" y="5056200"/>
              <a:ext cx="4762440" cy="1801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0" y="5056200"/>
              <a:ext cx="4163040" cy="1739880"/>
              <a:chOff x="0" y="5056200"/>
              <a:chExt cx="4163040" cy="173988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5056200"/>
                <a:ext cx="35384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Key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ubtree is significant compon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Bouquet” is significant compon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mple part-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3100320" y="6008400"/>
                <a:ext cx="1062720" cy="384120"/>
                <a:chOff x="3100320" y="6008400"/>
                <a:chExt cx="1062720" cy="384120"/>
              </a:xfrm>
            </p:grpSpPr>
            <p:sp>
              <p:nvSpPr>
                <p:cNvPr id="457" name=""/>
                <p:cNvSpPr/>
                <p:nvPr/>
              </p:nvSpPr>
              <p:spPr>
                <a:xfrm flipV="1">
                  <a:off x="3100320" y="6008400"/>
                  <a:ext cx="975960" cy="33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222360" y="6129360"/>
                  <a:ext cx="853560" cy="21744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>
                  <a:off x="3187080" y="6054480"/>
                  <a:ext cx="975960" cy="33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0" name=""/>
            <p:cNvSpPr/>
            <p:nvPr/>
          </p:nvSpPr>
          <p:spPr>
            <a:xfrm>
              <a:off x="3538440" y="5769000"/>
              <a:ext cx="975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01800" y="6634080"/>
              <a:ext cx="9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880" y="1268280"/>
            <a:ext cx="8906040" cy="5296680"/>
            <a:chOff x="2880" y="1268280"/>
            <a:chExt cx="8906040" cy="5296680"/>
          </a:xfrm>
        </p:grpSpPr>
        <p:sp>
          <p:nvSpPr>
            <p:cNvPr id="463" name=""/>
            <p:cNvSpPr/>
            <p:nvPr/>
          </p:nvSpPr>
          <p:spPr>
            <a:xfrm>
              <a:off x="971640" y="2565360"/>
              <a:ext cx="863640" cy="1224000"/>
            </a:xfrm>
            <a:prstGeom prst="ellipse">
              <a:avLst/>
            </a:prstGeom>
            <a:solidFill>
              <a:srgbClr val="f1f8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3440" y="3716280"/>
              <a:ext cx="140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2160" y="2131920"/>
              <a:ext cx="934920" cy="936720"/>
            </a:xfrm>
            <a:prstGeom prst="ellipse">
              <a:avLst/>
            </a:prstGeom>
            <a:solidFill>
              <a:srgbClr val="f1f8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80" y="181620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23800" y="1268280"/>
              <a:ext cx="3240000" cy="10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07800" y="234936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3800" y="2349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379080" y="256536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3800" y="256536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1027080" y="1268280"/>
              <a:ext cx="273672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387080" y="1268280"/>
              <a:ext cx="2376360" cy="21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747800" y="1268280"/>
              <a:ext cx="2016000" cy="201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684440" y="3724200"/>
              <a:ext cx="3093840" cy="1628640"/>
              <a:chOff x="1684440" y="3724200"/>
              <a:chExt cx="3093840" cy="1628640"/>
            </a:xfrm>
          </p:grpSpPr>
          <p:sp>
            <p:nvSpPr>
              <p:cNvPr id="476" name=""/>
              <p:cNvSpPr/>
              <p:nvPr/>
            </p:nvSpPr>
            <p:spPr>
              <a:xfrm>
                <a:off x="2762280" y="3724200"/>
                <a:ext cx="2016000" cy="1628640"/>
              </a:xfrm>
              <a:prstGeom prst="ellipse">
                <a:avLst/>
              </a:prstGeom>
              <a:solidFill>
                <a:srgbClr val="f1f8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84440" y="4228920"/>
                <a:ext cx="10267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um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adabl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2906280" y="4013280"/>
                <a:ext cx="115236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3483000" y="4013280"/>
                <a:ext cx="57600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59000" y="4013280"/>
                <a:ext cx="43200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244520" y="35002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19840" y="2824200"/>
              <a:ext cx="3889080" cy="3240000"/>
            </a:xfrm>
            <a:prstGeom prst="ellipse">
              <a:avLst/>
            </a:prstGeom>
            <a:solidFill>
              <a:srgbClr val="f1f8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72360" y="4984920"/>
              <a:ext cx="1079280" cy="93636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21000" y="622764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utable clinical 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82160" y="476892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61880" y="529596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4059000" y="3328920"/>
              <a:ext cx="3537000" cy="68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7235640" y="3328920"/>
              <a:ext cx="36036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96360" y="3328920"/>
              <a:ext cx="107928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7020000" y="4192560"/>
              <a:ext cx="21600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7308720" y="4624560"/>
              <a:ext cx="792360" cy="649080"/>
              <a:chOff x="7308720" y="4624560"/>
              <a:chExt cx="792360" cy="649080"/>
            </a:xfrm>
          </p:grpSpPr>
          <p:sp>
            <p:nvSpPr>
              <p:cNvPr id="492" name=""/>
              <p:cNvSpPr/>
              <p:nvPr/>
            </p:nvSpPr>
            <p:spPr>
              <a:xfrm>
                <a:off x="7308720" y="4624560"/>
                <a:ext cx="792360" cy="649080"/>
              </a:xfrm>
              <a:prstGeom prst="ellipse">
                <a:avLst/>
              </a:prstGeom>
              <a:solidFill>
                <a:srgbClr val="d0ea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7380360" y="4840200"/>
                <a:ext cx="216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7524360" y="4840200"/>
                <a:ext cx="7164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596360" y="4840200"/>
                <a:ext cx="14436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596360" y="4840200"/>
                <a:ext cx="28872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 flipH="1">
              <a:off x="6588000" y="5056200"/>
              <a:ext cx="432000" cy="7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948000" y="5056200"/>
              <a:ext cx="71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732360" y="5345280"/>
              <a:ext cx="21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48360" y="53452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48360" y="5345280"/>
              <a:ext cx="216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20000" y="5705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37160" y="1638360"/>
              <a:ext cx="2959200" cy="16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37160" y="1638360"/>
              <a:ext cx="274320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63800" y="1268280"/>
              <a:ext cx="87336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7812000" y="3975120"/>
              <a:ext cx="792360" cy="649080"/>
              <a:chOff x="7812000" y="3975120"/>
              <a:chExt cx="792360" cy="649080"/>
            </a:xfrm>
          </p:grpSpPr>
          <p:sp>
            <p:nvSpPr>
              <p:cNvPr id="507" name=""/>
              <p:cNvSpPr/>
              <p:nvPr/>
            </p:nvSpPr>
            <p:spPr>
              <a:xfrm>
                <a:off x="7812000" y="3975120"/>
                <a:ext cx="792360" cy="649080"/>
              </a:xfrm>
              <a:prstGeom prst="ellipse">
                <a:avLst/>
              </a:prstGeom>
              <a:solidFill>
                <a:srgbClr val="d0ea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7883640" y="4190760"/>
                <a:ext cx="216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8027640" y="4190760"/>
                <a:ext cx="7164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099640" y="4190760"/>
                <a:ext cx="14436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099640" y="4190760"/>
                <a:ext cx="28872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7596360" y="3328920"/>
              <a:ext cx="50472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36000" y="41925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37160" y="1638360"/>
              <a:ext cx="3103560" cy="26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37160" y="1638360"/>
              <a:ext cx="2959200" cy="73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6191280" y="3830760"/>
              <a:ext cx="792000" cy="649080"/>
              <a:chOff x="6191280" y="3830760"/>
              <a:chExt cx="792000" cy="649080"/>
            </a:xfrm>
          </p:grpSpPr>
          <p:sp>
            <p:nvSpPr>
              <p:cNvPr id="517" name=""/>
              <p:cNvSpPr/>
              <p:nvPr/>
            </p:nvSpPr>
            <p:spPr>
              <a:xfrm>
                <a:off x="6191280" y="3830760"/>
                <a:ext cx="792000" cy="649080"/>
              </a:xfrm>
              <a:prstGeom prst="ellipse">
                <a:avLst/>
              </a:prstGeom>
              <a:solidFill>
                <a:srgbClr val="d0ea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6262200" y="4046400"/>
                <a:ext cx="2156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6406920" y="4046400"/>
                <a:ext cx="7128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78560" y="4046400"/>
                <a:ext cx="14400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78560" y="4046400"/>
                <a:ext cx="28836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flipH="1">
              <a:off x="6516360" y="3328920"/>
              <a:ext cx="107964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14640" y="2131920"/>
              <a:ext cx="853920" cy="21744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34320" y="3505320"/>
              <a:ext cx="1357200" cy="217440"/>
            </a:xfrm>
            <a:prstGeom prst="ellipse">
              <a:avLst/>
            </a:pr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of structural rel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00BD1-546B-4417-B5EB-0B6B6585064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ight this be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ich data sel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dditional information to help with some downstream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elp with some of the issues in th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hints on how to store or process big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latform-independent performance characteristics of interoperabilit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D90AC-00CE-4D31-949D-30FA36FA04E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8D697-9160-4866-9E61-7C230CDB528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A problem of success!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Sustaining a complex interoperability specification for the long term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L7v3 messaging specific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hieved a significant level of acceptance and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s to continue to evolve in response to changes in business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Accommodating change “graciously”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t is, with the minimum necessary impact on established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AFD-8E22-4218-8094-132F1E171E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Managing change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92360" y="1454040"/>
            <a:ext cx="5570280" cy="54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D65-081E-4EDA-A751-C2899D0B2D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514240"/>
            <a:ext cx="73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Finding the generators of change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60280" y="3657600"/>
            <a:ext cx="6615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Identifying kinds of chan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Goudita Sans SF"/>
              </a:rPr>
              <a:t>Workshops with experienced implementers</a:t>
            </a:r>
            <a:endParaRPr b="0" lang="en-US" sz="28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Goudita Sans SF"/>
              </a:rPr>
              <a:t>Systematic collection of examples</a:t>
            </a:r>
            <a:endParaRPr b="0" lang="en-US" sz="28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ual past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requests for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kely future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Goudita Sans SF"/>
              </a:rPr>
              <a:t>Comprehensive collection narrowed down to a representative set</a:t>
            </a:r>
            <a:endParaRPr b="0" lang="en-US" sz="28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suring coverage of the main types of change within a manageable selection for detailed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ing when change needs to “break” an interfa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C92-19FF-41CF-A0C2-AD787FC2C1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Analysis of representative scenario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18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All the selected scenarios were analysed as if they were isolated requirements for change against an established, tested baseline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Goudita Sans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oudita Sans SF"/>
              </a:rPr>
              <a:t>Assumed that all change scenarios are independent</a:t>
            </a:r>
            <a:endParaRPr b="0" lang="en-US" sz="3200" spc="-1" strike="noStrike">
              <a:solidFill>
                <a:srgbClr val="003399"/>
              </a:solidFill>
              <a:latin typeface="Goudita Sans SF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ual past changes and other scenarios treated on an equal ba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D70-F699-4683-8060-00FF438DB1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21:08:19Z</dcterms:created>
  <dc:creator>Ann Wrightson</dc:creator>
  <dc:description/>
  <dc:language>en-US</dc:language>
  <cp:lastModifiedBy>an000379</cp:lastModifiedBy>
  <dcterms:modified xsi:type="dcterms:W3CDTF">2009-08-12T22:18:17Z</dcterms:modified>
  <cp:revision>180</cp:revision>
  <dc:subject/>
  <dc:title>PowerPoint Presentation</dc:title>
</cp:coreProperties>
</file>