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55F-6AE2-48EB-AB32-E9379523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95BC-C40D-44FF-8FB3-F9529FFB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067-4FEC-456E-BD21-7BDED617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994-0A59-460A-9873-DB3F24CC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9EC-0E3B-4816-83E2-E6F304D0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8E9-52C6-40BC-9B84-414CF569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801-8B91-4A6B-BA30-E0034130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236-846E-440B-A974-2FEA841E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9FB-EB6F-4BF6-90C4-20C79D4A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F70-6377-4620-9844-1D70CEC6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6EE-ADB3-46D6-A09D-4F95A8D5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251-879A-47DA-8380-3B6C7CC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8AFB-6354-42D6-B45F-399BCCB5B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umenting and Implementing Guidelines with Schemat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hua Lub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4B57-1014-4C88-AD18-2F2489BFD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idating a schema against an ND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al2009lube040804"/>
          <p:cNvPicPr/>
          <p:nvPr/>
        </p:nvPicPr>
        <p:blipFill>
          <a:blip r:embed="rId1"/>
          <a:stretch/>
        </p:blipFill>
        <p:spPr>
          <a:xfrm>
            <a:off x="1371600" y="1828800"/>
            <a:ext cx="62913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 implementation method for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a schema using Xpath expressions instead of gram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assertions about arbitrary patterns in XML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nforce constraints grammar-based languages 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, rule-based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guidelin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tron processors ignore foreign mar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8E3B-4DB4-427E-A042-5F181F01B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869A-577C-4CB7-8F5D-9876FE49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all fits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Bal2009lube040801"/>
          <p:cNvPicPr/>
          <p:nvPr/>
        </p:nvPicPr>
        <p:blipFill>
          <a:blip r:embed="rId1"/>
          <a:stretch/>
        </p:blipFill>
        <p:spPr>
          <a:xfrm>
            <a:off x="1143000" y="2133720"/>
            <a:ext cx="6754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e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by Donald Kn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s equality between coding and human though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and code co-mingled in a “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roduce human-readabl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arrange source to produce compilabl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and Schematron are good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EFF4-C073-42E1-87EF-D8B6A9A51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matron schema with two busine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icy’s status must be eith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a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r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prec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pproved policy must specify an effective d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85800" y="380880"/>
            <a:ext cx="77724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schema xmlns:sch="http://purl.oclc.org/dsdl/schematr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mlns="http://www.w3.org/1999/xhtml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title&gt;Business Rules&lt;/sch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patter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rule context="policy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h3&gt;Rule 1&lt;/h3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p&gt;A policy's status must be either &lt;strong&gt;draft&lt;/strong&gt;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strong&gt;approved&lt;/strong&gt;, or &lt;strong&gt;deprecated&lt;/strong&gt;.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assert test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@status = 'draft' or @status = 'approved' or @status = 'deprecated'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 for attribute 'status' of element 'policy' is not on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'draft', 'approved', 'deprecated'.&lt;/sch:asser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ch:ru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rule context="policy/@status[. = 'approved']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h3&gt;Rule 2&lt;/h3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p&gt;An approved policy must specify an effective date.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assert test="../@effectiveDat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lue for attribute 'status' of element 'policy' is 'approved', 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tribute 'effectiveDate' is not present.&lt;/sch:asser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ch:rule&gt;&lt;/sch:pattern&gt;&lt;/sch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Bal2009lube040803"/>
          <p:cNvPicPr/>
          <p:nvPr/>
        </p:nvPicPr>
        <p:blipFill>
          <a:blip r:embed="rId1"/>
          <a:stretch/>
        </p:blipFill>
        <p:spPr>
          <a:xfrm>
            <a:off x="1295280" y="609480"/>
            <a:ext cx="647712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R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exchange schema for ND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R auth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sharing between schema testing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/export format for Quality of Design app (http://www.nist.gov/q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terate Programm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ta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 implementations are unpa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-cen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85800" y="228600"/>
            <a:ext cx="792468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DRProfile NDRProfileID="prd-UBL-NDR-2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DRTitle&gt;Universal Business Language Naming and Design Rules&lt;/NDR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rganizationInform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rganizationName&gt;OASIS&lt;/Organization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URI&gt;http://www.oasis-open.org&lt;/ContactUR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rganizationInform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Guidance guidanceID="UBL-2.0-GXS-8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lassification&gt;General&lt;/Classificati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nforcementLevel&gt;Mandatory&lt;/EnforcementLev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atus&gt;Draft&lt;/Stat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Testability&gt;Fully-Testable&lt;/Testabili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GuidanceText&gt;xsd:all MUST NOT be used.&lt;/GuidanceTex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TestCase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TestCase testCaseID="UBL-2.0-GXS-8-1" ruleType="ISO-Schematr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TestName&gt;GXS8&lt;/Test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ript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gt;&lt;![CDATA[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schema xmlns="http://purl.oclc.org/dsdl/schematron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ns uri="http://www.w3.org/3301/XMLSchema" prefix="xsd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pattern id="UBL-2.0-GSX-8"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rule context="xsd:all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&lt;report test="true()"&gt;Error: The xsd:all element M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NOT be used.&lt;/report&gt;&lt;/rule&gt;&lt;/pattern&gt;&lt;/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]]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cript&gt;&lt;/TestCase&gt;&lt;/TestCases&gt;&lt;/Guidance&gt;&lt;/NDRProfi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DRProfile 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markup not per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extraction of Schema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econd class to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its own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ustom tools fo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language-agno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chematron actually i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C1E9-14A4-4223-B5AE-789BE6A7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170D-4164-4A2B-85A0-36992366B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4495680" y="457200"/>
            <a:ext cx="381024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your return to shore was not part of our negotiations nor our agreement so I must do nothing. And secondly, you must be a pirate for the pirate's code to apply and you're not. And thirdly, the code is more what you'd cal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idel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actual rules. Welcome aboard the Black Pearl, Miss Tur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ain Barbossa.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irates of the Caribbean, The Curse of the Black Pear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Walt Disney Pictures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y did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mindset for ND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sioned variety of implementation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XML vocabulary mind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e Programming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XHTML-enhanced Schema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tributes as needed for NDRProfile semantic 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RProfile disadvantages mostly reme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533520" y="838080"/>
            <a:ext cx="8076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schema xmlns:sch="http://purl.oclc.org/dsdl/schematr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mlns="http://www.w3.org/1999/xhtml" id="prd-UBL-NDR-2.0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title&gt;Universal Business Language Naming and Design Rules&lt;/sch: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ns uri="http://www.w3.org/2001/XMLSchema" prefix="xsd"/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p class="schemaType"&gt;NDRProfile&lt;/sch: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 class="OrganizationInformati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pan class="OrganizationName"&gt;OASIS&lt;/spa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 class="ContactURI" href="http://www.oasis-open.org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oasis-open.org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pattern id="UBL-2.0-GXS-8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rule context="xsd:all" id="UBL-2.0-GXS-8-1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 class="Classification"&gt;General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 class="EnforcementLevel"&gt;Mandatory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 class="Status"&gt;Draft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 class="Testability"&gt;Fully-Testable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p class="GuidanceText"&gt;&lt;strong&gt;GXS8&lt;/strong&gt;: xsd:all MUST NOT be used.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ch:report test="true()"&gt;Error: The xsd:all element M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T be used.&lt;/sch:report&gt;&lt;/sch:rule&gt;&lt;/sch:pattern&gt;&lt;/sch:schem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-vocabulary XML docu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 from a single vocabulary that can be processed multiple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iginated from the ISO Architectural Form Definition Requirements (AF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relevant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tron-based approach may not be appropriate for all XML literate programming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vocabulary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amespace-based Validation Dispatching Language (NV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uthoring schema combining normative Schematron language grammar with definitions for foreign mar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DEF2-C4D9-4676-BD0C-3234B7C1C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VDL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447920"/>
            <a:ext cx="746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rules xmln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http://purl.oclc.org/dsdl/nvdl/ns/structure/1.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Mode="sch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mode name="sch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namespace ns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http://purl.oclc.org/dsdl/schematron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validate schema="iso-schematron.r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Mode="xhtmlpara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namespa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m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mode name="xhtmlpara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namespace ns="http://www.w3.org/1999/xhtml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validate schema="p.rng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namespa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mo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rul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kinds of guidelines (business rules, NDR) needed for effective data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tron-based literate programming approach can document/implement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preconceived notions about code versus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XML document can incorporate multiple vocabul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enabler of thi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(solvable) validation and author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3A3A-9ED4-4E3C-981B-41875870C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5274-7BAF-4BCB-B293-EA1EC6AA8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the “pirate’s code” is not a data exchange stand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-business data exchange, guidelin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actual rul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xchange guidelines should ideally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mbig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ML 1.0 W3C Rec approval (199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deluge of proposed schema languag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which no longer exist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learned: too many non-interoperable languages hinders rather than helps systems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9A2E-6EB9-4378-B18E-FE9E8021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ML schema +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, rigidly-specified schemas don’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hard to design a good XML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, loosely-specified schemas require guideline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stomiz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 enable interoperable extensions to b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lusiv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o facilitate use in multiple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F94A-EB38-4C1E-ABD8-DE0BBC7E6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types of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lus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ema to be more tightly constrained for specific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erminology for the vocabulary defined by the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and Design Rules (N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ustomiz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ema to be extended while maintaining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erminology from the schema’s definition language, i.e., the “schema for schem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 of busin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business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olicy’s status must be eith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ra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prov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precat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n XML schema with an el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li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ttribu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sd: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ule constr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one of a set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5BB1-91DB-477C-B1CB-1788408B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idating an instance against business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al2009lube040802"/>
          <p:cNvPicPr/>
          <p:nvPr/>
        </p:nvPicPr>
        <p:blipFill>
          <a:blip r:embed="rId1"/>
          <a:stretch/>
        </p:blipFill>
        <p:spPr>
          <a:xfrm>
            <a:off x="2133720" y="1371600"/>
            <a:ext cx="480204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NDR guid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xsd: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ment MUST NOT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modifications or extensions to an existing XML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data exchange standards adopt this guid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pplications Group Integration Specification (OAG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Business Language (UB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Information Exchange Model (NI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h</dc:creator>
  <dc:description/>
  <dc:language>en-US</dc:language>
  <cp:lastModifiedBy>Joshua Lubell</cp:lastModifiedBy>
  <dcterms:modified xsi:type="dcterms:W3CDTF">2009-08-14T11:44:40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