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7253-E446-4CED-9A41-82E09681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8DF-46F3-4EA6-A8E1-5368808D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12D7-6621-40D5-991F-CAABEE70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D29-3086-408E-ABCA-F241904F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7C3-FC70-4FA9-9E5F-7A48822E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0D1-EED3-4424-B208-634FC607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938-5249-4A1F-8FF0-AC51744C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365-82AE-4F8F-85AB-4018D7CE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ACCB-19BB-4D65-B85A-7062E52A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429D-AFF9-487C-81CF-FB4B29F4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2B70-6436-4505-B48E-DE48814D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609-F617-4E8D-B2B3-CF1B33E2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5B5E6-8507-4223-8D07-556261B3F3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ema-based transform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al forms for the 21st Centu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Co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isNe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 2013 by John Co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sed under the GNU G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ut the poems are fair 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1C2-7B54-40DC-A11E-C6BFEDE8744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quint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quinte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&gt;I sat next to the Duchess for tea: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&gt;It was just as I feared it would be.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&gt;Her rumblings abdominal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&gt;Were simply phenomenal—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&gt;And everyone thought it was me!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quinte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176-CBED-462F-98B3-A99F38DF4B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49D-77C0-44E9-B14A-4C65B7859F2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erick schema: biling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limerick quintet="[quintet]" estrofa="[estrofa]" 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a quintet="[line]" estrofa="[línea]" eg:define="line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in text allowed 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a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a eg:content="line"/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b eg:content="line"/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b eg:content="line"/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a eg:content="line"/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limerick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660-8614-453C-9719-BC39105D71C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lingual target quint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estrof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ínea&gt;Había un hombre de Aztlán,&lt;/líne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ínea&gt;que vivía con mucho elán.&lt;/líne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ínea&gt;Comentó su amiga:&lt;/líne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ínea&gt;que Diós te bendiga&lt;/líne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ínea&gt;y te cuide, como dice el refrán.&lt;/líne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estrof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3D2-0F2C-4EAF-A9A7-0FF21DE1084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such lu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estrof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ínea&gt;I sat next to the Duchess for tea:&lt;/líne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ínea&gt;It was just as I feared it would be.&lt;/líne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ínea&gt;Her rumblings abdominal&lt;/líne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ínea&gt;Were simply phenomenal—&lt;/líne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ínea&gt;And everyone thought it was me!&lt;/líne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estrof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8E2-80A3-4ED4-90C7-2D878BFDED9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cur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50F-83D6-4C98-9FD7-6E8BF98A774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ed lime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merick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&gt;There was a young man from Bengal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&gt;Who had no phone manners at all.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b&gt;He'd yak and he'd yak&lt;/b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b&gt;And you'd have to lean back&lt;/b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&gt;And position yourself by the wall,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&gt;And wait for the end of the call.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limerick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94BA-D577-450F-B443-7D5024C4769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ncated quintet, unfortunat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quinte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&gt;There was a young man from Bengal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&gt;Who had no phone manners at all.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b&gt;He'd yak and he'd yak&lt;/b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b&gt;And you'd have to lean back&lt;/b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&gt;And position yourself by the wall,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quinte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48B-1364-47A1-BB48-0471756814D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ncated lime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merick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&gt;There was an old man from Peru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&gt;Whose limericks stopped at line two.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merick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A40-6449-4BB2-9645-49EC63E6F96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ed quintet sc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quinte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 eg:occurs="?"&gt;[MISSING!]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 eg:occurs="?"&gt;[MISSING!]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 eg:occurs="?"&gt;[MISSING!]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 eg:occurs="?"&gt;[MISSING!]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 eg:occurs="?"&gt;[MISSING!]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quinte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3B0-F3A2-47F1-B02E-9D4FBC49911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ly we validate, transform, and validat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skip either or both vali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transformations can and should be deduced from the sch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al forms did this for SG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ody does this in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397-61D2-4B04-9128-FB6AEC42717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st we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quinte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line&gt;There was an old man from Peru&lt;/lin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line&gt;Whose limericks stopped at line two.&lt;/lin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line&gt;MISSING!&lt;/lin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line&gt;MISSING!&lt;/lin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line&gt;MISSING!&lt;/lin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quinte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A39-07DF-4E49-A6C7-03353124D23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y truncated limeri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328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merick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&gt;There was a young man from Verdun,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limerick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merick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!-- This limerick is about the Emperor Ner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's not possible to actually quote it. --&gt; &lt;/limerick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222-A813-4E7E-8042-403337C88B0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za sc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stanz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 eg:occurs="+"&gt;Line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!-- eg:occurs allows one or more lines 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stanz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9BD-00D1-4F17-9536-4BD565ADC06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erick schema: st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merick stanza="[stanza]"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 stanza="[line]"&gt;A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 stanza="[line]"&gt;A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b stanza="[line]"&gt;B&lt;/b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b stanza="[line]"&gt;B&lt;/b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 stanza="[line]"&gt;A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limerick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F868-F653-47C9-9A3D-8554A117897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st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stanz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&gt;I sat next to the Duchess for tea: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&gt;It was just as I feared it would be.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&gt;Her rumblings abdominal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&gt;Were simply phenomenal—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&gt;And everyone thought it was me!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stanz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783-52A8-4F84-A115-DBF88468537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or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526-0BED-487C-B1BE-CAD4252363B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iku target sc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haik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first&gt;Just five syllables&lt;/firs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middle&gt;Plus seven can't say much, but&lt;/middl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last&gt;That's haiku for you.&lt;/las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haik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ACCE-9825-4A0B-A593-C3A2610E452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rse haiku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haiku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ast&gt;Abolishing traditions&lt;/las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middle&gt;Create a new style&lt;/middl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first&gt;Reflection of the old one&lt;/firs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haiku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C53-65BD-4280-93AB-EAD56037254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iku tar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haiku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first&gt;Reflection of the old one&lt;/firs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middle&gt;Create a new style&lt;/middl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ast&gt;Abolishing traditions&lt;/las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haiku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A0A-EFF2-41E5-A760-E880F034DA6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ed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02C-2640-41A9-ACAA-66AB51C0C78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schema with deco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ptional) Name of renaming attribute (aka form attribu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ptional) Names of renaming attributes that we want to be ign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C33-5A2B-4C32-8AC3-E20BE5EB29C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ed content lime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limerick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a&gt;Said a widow whose singular vice&lt;/a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a&gt;Was to keep her dead husband on ice:&lt;/a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b&gt;&lt;q&gt;"It's been hard since I lost him,&lt;/q&gt;&lt;/b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b&gt;&lt;q&gt;I'll &lt;i&gt;never&lt;/i&gt; defrost him.&lt;/q&gt;&lt;/b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a&gt;&lt;q&gt;Cold comfort, but cheap at the price."&lt;/q&gt;&lt;/a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limerick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9FF-9D59-4F25-B814-B3638D87F3A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ed content limerick sc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2920" y="1680840"/>
            <a:ext cx="90709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merick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 eg:define="qandi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q&gt;Quotes&lt;/q&gt; and &lt;i&gt;italics&lt;/i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 eg:content="qandi"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b eg:content="qandi"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b eg:content="qandi"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 eg:content="qandi"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limerick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D4BC-117D-4B89-88C4-38F3B93E957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za schema with emph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stanz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 eg:occurs="+"&gt;&lt;i&gt;Italics&lt;/i&gt; roman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!-- eg:occurs allows any number of lines 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stanz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9D4F-749B-46F2-B368-8FCCE0B9C25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ed content st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stanza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line&gt;Said a widow whose singular vice&lt;/lin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line&gt;Was to keep her dead husband on ice:&lt;/lin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line&gt;"It's been hard since I lost him,&lt;/lin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line&gt;I'll &lt;i&gt;never&lt;/i&gt; defrost him.&lt;/lin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line&gt;Cold comfort, but cheap at the price."&lt;/lin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stanza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CD8-C87D-4D94-AC79-4BB27D63ABC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wanted character content and unwanted or unrenamable child elements are disca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 names can be changed by placing pairs of tokens in the renaming at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 content can become an attribute or vice ve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ens in attribute values can b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otron allows XPath asse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654-C10E-48B8-9CBB-C634534259B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content lime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merick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&gt;XQuery ampersand DOM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&gt;Entity parser dot-com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b&gt;Abstract schemata&lt;/b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b&gt;XPointer errata&lt;/b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&gt;Infoset Unicode BOM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limerick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C208-987E-4C88-9CCE-C33A3E2E6DF4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ot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3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mas are Russian doll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elements, attributes, and mixed content all model themselves (attributes are 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bracketed text is a prototype (string, number, date); text in {braces} is an XSD type; [bracketed] text is a default value (new in Examplotron 0.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rence types:  0, 1, ?, *,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model definitions and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ACB-F637-42F4-8CE3-E59EB03C1A9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 ren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8C4A-9221-4240-847A-E105931A86A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 lime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merick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&gt;I sat next to the Duchess for tea: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&gt;It was just as I feared it would be.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b&gt;Her rumblings abdominal&lt;/b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b&gt;Were simply phenomenal—&lt;/b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&gt;And everyone thought it was me!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merick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004E-3A84-4DE7-893A-682D8F95ADF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erick sc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merick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&gt;There once was a (person) from (place)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&gt;Whose (body part) was (special case).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b&gt;When (event) would occur&lt;/b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b&gt;It would cause (him or her)&lt;/b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&gt;To violate (law of time/space).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limerick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1DA-7C12-4C6C-96BD-3C1F2537AED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ntet sc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quinte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&gt;Line 1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&gt;Line 2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&gt;Line 3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&gt;Line 4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ne&gt;Line 5&lt;/lin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quinte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B57-98F7-4FFB-8C0C-0542EA03628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erick schema: quint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imerick quintet="[quintet]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 quintet="[line]"&gt;There once ...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 quintet="[line]"&gt;Whose ...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b quintet="[line]"&gt;When ...&lt;/b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b quintet="[line]"&gt;It would ...&lt;/b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 quintet="[line]"&gt;To violate ...&lt;/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limerick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005-5AA7-4833-BCC4-AA19CCFBB39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00:40:37Z</dcterms:created>
  <dc:creator/>
  <dc:description/>
  <dc:language>en-US</dc:language>
  <cp:lastModifiedBy/>
  <cp:revision>0</cp:revision>
  <dc:subject/>
  <dc:title/>
</cp:coreProperties>
</file>