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9A065-C4D8-4AFF-B8CE-78C9ED0E73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SIS is Element Structure Information S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XPAT is the basis for XML processing in several scripting langu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ach capability is additive in complexity and amount of work required to imp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1616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5120" y="14097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161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75120" y="40161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720" y="140976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60480" y="140976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1616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720" y="401616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60480" y="401616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0976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75120" y="140976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8120" y="264600"/>
            <a:ext cx="906804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5120" y="140976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161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5120" y="14097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75120" y="40161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5120" y="140976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1616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8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0976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28600" y="6935760"/>
            <a:ext cx="938160" cy="3747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104840" y="6935760"/>
            <a:ext cx="2095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8, SAIC,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967520" y="6934320"/>
            <a:ext cx="1893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lisage2008-R00C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t Modified: 05/31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935760"/>
            <a:ext cx="1793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91C21B9E-1537-45E0-81A4-3980EDB6178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057400" y="1484280"/>
            <a:ext cx="6101280" cy="1699200"/>
            <a:chOff x="2057400" y="1484280"/>
            <a:chExt cx="6101280" cy="1699200"/>
          </a:xfrm>
        </p:grpSpPr>
        <p:sp>
          <p:nvSpPr>
            <p:cNvPr id="50" name=""/>
            <p:cNvSpPr/>
            <p:nvPr/>
          </p:nvSpPr>
          <p:spPr>
            <a:xfrm>
              <a:off x="3435480" y="2882880"/>
              <a:ext cx="3070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7080" bIns="37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From Science To Solutions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333600" y="1484280"/>
              <a:ext cx="329256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057400" y="2523960"/>
              <a:ext cx="610128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7080" bIns="37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100" spc="-1" strike="noStrike">
                  <a:solidFill>
                    <a:srgbClr val="000000"/>
                  </a:solidFill>
                  <a:latin typeface="Arial"/>
                </a:rPr>
                <a:t>Science Applications International Corpor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86000" y="3660840"/>
            <a:ext cx="5451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ser Possi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Write A Markup Pars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simplfy parsing by restricting markup synt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e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tributes, not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ent, not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element per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no licensing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ort unconventional fe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a non-standard A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something other than '&lt;' and '&gt;' as delimi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Live Conten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 able to nest par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n database queries on the f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external programs to generate information to include in the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oad To ml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rted in SGML in 199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GML tools were exp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GMLS was free and produced ESIS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ily processed by Perl scri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tended the 1996 SGML Conference where XML was publicly announc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GML without DTD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ied to interchange SGML/XML tools, i.e. Process the same file with SGML tools and XML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te two simple parsers, one in Forth and one in Per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te integrated Software Documentation system that started out as pure SGML and now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many legacy SGML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some mixed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L Input an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270160"/>
            <a:ext cx="36576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RECOR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RECOR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NAME&gt;John Doe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PHONE&gt;555-123-4567&lt;/PHON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EMAIL&gt;JDoe@anymail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STATE&gt;Confusion&lt;/STA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RECOR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RECOR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NAME&gt;Jane Smith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PHONE&gt;555-345-9876&lt;/PHON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EMAIL&gt;smithj@anymail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STATE&gt;Nirvana&lt;/STA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RECOR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RECOR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27432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2828880"/>
            <a:ext cx="4114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: John Doe   Email: JDoe@any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: Jane Smith   Email: smithj@any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IS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mlParser (c) Science Applications International Corporation, 2002, 2006, 2007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John D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555-123-45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JDoe@any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Con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1960560"/>
            <a:ext cx="205740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Jane 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555-345-98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mithj@any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Nirv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1828800"/>
            <a:ext cx="1440" cy="4343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ser Implemented In F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6760" y="4143240"/>
            <a:ext cx="425484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ing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&lt;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 Name:"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ent collect ;  \ Read the content for &lt;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ent print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&lt;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 E-Mail: "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ent collect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ent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 \n" print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 test.xml" c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2760" y="11811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th is a Stack Oriented Threaded Interpreter with Infix synt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attributes, no mixed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e machine in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ction name cannot contain white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rt tag functions “ate” content up to end t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document executes itse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for the s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l 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r expression 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t_XML_field()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t_next_XML_field()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t_attribute()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rks well for record oriented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ad record at a time by setting Perl's EOL string to end of record tag, then us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t_XML_field(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t_attribute(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s necessary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ad whole file into a string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use get_next_XML_record(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xtract each record to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in specific inst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library is used in several production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Perl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1600200"/>
            <a:ext cx="594360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quire "xml.p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y $fi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y $recor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y $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y $emai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y $template ="Name: \$name   Email: \$email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/ = "&lt;/RECORD&gt;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le(&lt;STDIN&gt;){   # Read a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record = $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name   = &amp;get_XML_field($record,"NAM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email  = &amp;get_XML_field($record,"EMAIL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al("print \"$template\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l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needed to be fluent in Java for a project in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had done a little Java maintenance, but never written Java from scr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ided on a “non-trivial” program where I already knew the subject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decided to write a non-validating SGML par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 reasons evolved over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00600" y="1143000"/>
            <a:ext cx="1440" cy="5486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lParser Design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44244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n-valida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ple meta-markup langu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d entity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marked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DATA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p or continue parsing on e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GML empty elements hand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5120" y="1409760"/>
            <a:ext cx="4726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ML empty elements hand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am-based inpu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S events are basis for A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ser runs stand alone or embed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sing engine is based on the state machine described i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actical Guide to SGML/XML Fil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Write A Markup Pars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a Markup Parser anywa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y write a pars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oad to mlPar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lParser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lParser to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79628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46240" y="1498680"/>
            <a:ext cx="745668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lParser Cla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 Cod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471680"/>
            <a:ext cx="708660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hMap element = new HashMa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ing  content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void writeStartTag(String sTag) // Callback for start tag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ing tag     = sTag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(tag.equals("record"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ment.clear();    // Wipe the hash for each reco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void writeEndTag(String eTag)  // Callback for end tag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ing tag     = eTag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(tag.equals("record")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.out.print("Name: "    + element.get("name") 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  Email: " + element.get("email")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ment.put(tag, content);  // Collect all element content in a 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lParser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d in several production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ndles mixed SGML/XML/WordML markup transpar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ication development framework has grown up around mlPar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fills the “SGML without DTDs” 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lParser is an integral part of my markup tool 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lked about reasons to and not to write a markup par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iewed my road to writing and extending mlPar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owed a simple example application code with parsers prior to mlPar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iewed the design decisions that shape mlPar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lParser is mature and used in several production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n Smith - smithno@saic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mature and robust SGML and XML parsers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rly days of XML, there seemed to be a new parser every we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ventually, SAX then DOM became standard parser AP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parsers transparently handle multiple markup meta-langu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0% - 90% applications handled by event-based APIs, such as S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% - 10% applications can be handled by either event-based or object-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last 5% really needs an object-based API, like D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GML Par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SGM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mni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GMLS</a:t>
            </a:r>
            <a:r>
              <a:rPr b="1" lang="en-GB" sz="18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msterdam SGML Parser</a:t>
            </a:r>
            <a:r>
              <a:rPr b="1" lang="en-GB" sz="18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-SGML</a:t>
            </a:r>
            <a:r>
              <a:rPr b="1" lang="en-GB" sz="18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ML Par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AT1</a:t>
            </a:r>
            <a:r>
              <a:rPr b="1" lang="en-GB" sz="18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erces</a:t>
            </a:r>
            <a:r>
              <a:rPr b="1" lang="en-GB" sz="1800" spc="-1" strike="noStrike" baseline="33000">
                <a:solidFill>
                  <a:srgbClr val="000000"/>
                </a:solidFill>
                <a:latin typeface="Arial"/>
              </a:rPr>
              <a:t>2,3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XML</a:t>
            </a:r>
            <a:r>
              <a:rPr b="1" lang="en-GB" sz="1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elfred</a:t>
            </a:r>
            <a:r>
              <a:rPr b="1" lang="en-GB" sz="1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ML.com lists 32 XML pars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3621240"/>
            <a:ext cx="34290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longer widely available/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45240" y="5483160"/>
            <a:ext cx="1812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valid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and C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's A Markup Parser Any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kipedia says, “A markup language is an artificial language using a set of annotations to text that describe how text is to be structured, laid out, or formatted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 definition is a parser that handles SGML, XML, WordML, etc transpar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y text that uses '&lt;' '&gt;' delimited mark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times that handling different types of markup interchangeably is a very handy cap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a practical standpoint, a markup parser is probably not a validating parser, only well-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4916520"/>
            <a:ext cx="1143000" cy="914400"/>
          </a:xfrm>
          <a:prstGeom prst="flowChartDocumen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r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4916520"/>
            <a:ext cx="914400" cy="914400"/>
          </a:xfrm>
          <a:prstGeom prst="flowChartConnec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4687920"/>
            <a:ext cx="1371600" cy="16002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5145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145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5830920"/>
            <a:ext cx="1143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6288120"/>
            <a:ext cx="1143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sing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Write A Parser?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sons Not T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iting a basic parser is a lot of wor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iting a validating parser is a lot more work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lementing XSL/XSLT/X-Path/XQuery, etc., support is not practical for most individual developer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iting a parser, even a non-validating parser that implements SAX and/or DOM, is a huge eff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multiple, structure definition languages, such as DTD, Schema, RelaxNG, etc., needed for validation, which means mor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ly parsing one markup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existing parser works for your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Write A Markup Pars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learning experie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existing parser meets your specific requiremen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have complete control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can mix and match markup languages., i.e., SGML, XML, etc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tied to existing API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create documents with "live" conte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rn about Markup Langu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mbination of details and variations is amazing assuming that you use lots of varying tes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rn about software state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on implementation approa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e machines are a good match for implementing par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hicle to learn a new programming langu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was my original goal in writing mlPar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ch is complicated enough that more than one new item at a time is not recomme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8120" y="264600"/>
            <a:ext cx="90694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Existing Parser Meets Y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0976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ndle mixed mark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extra light weight par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ing language not compatible with existing par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bed in a commercial product that is not open 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rman Smith</dc:creator>
  <dc:description/>
  <dc:language>en-US</dc:language>
  <cp:lastModifiedBy/>
  <cp:revision>0</cp:revision>
  <dc:subject/>
  <dc:title/>
</cp:coreProperties>
</file>