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8913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891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667800"/>
            <a:ext cx="4456080" cy="334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233600"/>
            <a:ext cx="54864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4643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464320"/>
            <a:ext cx="29718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7FD6-C613-41CB-BE3E-6D88081B7B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233600"/>
            <a:ext cx="54864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hould have 33 minutes of presentation and 12 minutes of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L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233600"/>
            <a:ext cx="54864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IS IS THE DEFINITION OF "CORRESPONDENCE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233600"/>
            <a:ext cx="54864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RRESPO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233600"/>
            <a:ext cx="54864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TE: DIRECTED ARROWS &amp;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asoning in terms of trees is the same as reasoning in terms of well-formed XML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00240" y="668160"/>
            <a:ext cx="4456080" cy="3341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233600"/>
            <a:ext cx="5486400" cy="40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PECIALLY: MULTIPLE POINTS OF VIEW ON SAME 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6E61-09AD-44AF-88D0-216B16378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5CA-7038-46C4-B872-56D15F91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7ADC-F3F0-4DC0-BA3A-A319D4E42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B389-D184-4DFC-8A66-32CF2E2F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C124-99CB-46BD-AE1D-55366DD6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CDFE-E562-4DE4-B367-98D14945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9CD-A609-4833-ABED-19B13921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CC4-4882-4E60-9E4D-56C7BC4EC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AB1-D22C-4624-BE75-5B5C00F3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DB0-91AD-4911-88B5-F3912FA5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AB84-3CEA-4A06-B99A-04B9CC04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C65-3F86-4C67-8814-61AB56E8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244920"/>
            <a:ext cx="4876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E138-E860-4CFE-87C5-23EF2AC20DE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Graph characterization of overlap-only TexMECS and other overlapping markup formal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ves MARCO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5520" y="5029200"/>
            <a:ext cx="32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DS – EB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é de Montré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00800" y="5029200"/>
            <a:ext cx="309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ting resear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etet i Be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495680" y="51055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6184-15A6-44CD-82E2-DA02803B2B4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901800"/>
            <a:ext cx="9144000" cy="4968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Ove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6720" y="4343400"/>
            <a:ext cx="4038480" cy="114300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BC92-A18F-4DBF-8F7D-98587759A8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wo views of ove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Geometric view: overlapping </a:t>
            </a:r>
            <a:r>
              <a:rPr b="0" i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mar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ommon contents view: 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n-tree </a:t>
            </a:r>
            <a:r>
              <a:rPr b="0" i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graph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1B4A-BF43-45E6-9F90-C2D9F3F176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xample (marku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11440" y="1704960"/>
            <a:ext cx="58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(Peer) Hvorfor bande? (Åse) Tvi, du t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ør ej!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lt ihob er tøv og t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3363840"/>
            <a:ext cx="764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&lt;vers&gt;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 &lt;peer&gt;Hvorfor bande?&lt;/peer&gt;</a:t>
            </a:r>
            <a:r>
              <a:rPr b="1" lang="fr-CA" sz="2000" spc="-1" strike="noStrike">
                <a:solidFill>
                  <a:srgbClr val="ff6600"/>
                </a:solidFill>
                <a:latin typeface="Courier New"/>
              </a:rPr>
              <a:t>&lt;</a:t>
            </a:r>
            <a:r>
              <a:rPr b="1" lang="nb-NO" sz="2000" spc="-1" strike="noStrike">
                <a:solidFill>
                  <a:srgbClr val="ff6600"/>
                </a:solidFill>
                <a:latin typeface="Courier New"/>
              </a:rPr>
              <a:t>åse</a:t>
            </a:r>
            <a:r>
              <a:rPr b="1" lang="fr-CA" sz="2000" spc="-1" strike="noStrike">
                <a:solidFill>
                  <a:srgbClr val="ff6600"/>
                </a:solidFill>
                <a:latin typeface="Courier New"/>
              </a:rPr>
              <a:t>&gt;Tvi, du </a:t>
            </a:r>
            <a:r>
              <a:rPr b="1" lang="da-DK" sz="2000" spc="-1" strike="noStrike">
                <a:solidFill>
                  <a:srgbClr val="ff6600"/>
                </a:solidFill>
                <a:latin typeface="Courier New"/>
              </a:rPr>
              <a:t>tør ej!</a:t>
            </a:r>
            <a:br>
              <a:rPr sz="2000"/>
            </a:b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&lt;/vers&gt;</a:t>
            </a:r>
            <a:br>
              <a:rPr sz="2000"/>
            </a:b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&lt;vers&gt;</a:t>
            </a:r>
            <a:br>
              <a:rPr sz="2000"/>
            </a:b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000" spc="-1" strike="noStrike">
                <a:solidFill>
                  <a:srgbClr val="ff6600"/>
                </a:solidFill>
                <a:latin typeface="Courier New"/>
              </a:rPr>
              <a:t>Alt ihob er tøv og tant!&lt;/</a:t>
            </a:r>
            <a:r>
              <a:rPr b="1" lang="nb-NO" sz="2000" spc="-1" strike="noStrike">
                <a:solidFill>
                  <a:srgbClr val="ff6600"/>
                </a:solidFill>
                <a:latin typeface="Courier New"/>
              </a:rPr>
              <a:t>åse&gt;</a:t>
            </a:r>
            <a:br>
              <a:rPr sz="2000"/>
            </a:br>
            <a:r>
              <a:rPr b="1" lang="nb-NO" sz="2000" spc="-1" strike="noStrike">
                <a:solidFill>
                  <a:srgbClr val="000000"/>
                </a:solidFill>
                <a:latin typeface="Courier New"/>
              </a:rPr>
              <a:t>&lt;/ver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B68B-54B7-4C6A-A3A8-2B894ACFA4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xample (grap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11440" y="1704960"/>
            <a:ext cx="589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(Peer) Hvorfor bande? (Åse) Tvi, du t</a:t>
            </a: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ør ej!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Arial"/>
              </a:rPr>
              <a:t>Alt ihob er tøv og t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20440" y="3236040"/>
            <a:ext cx="111708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35440" y="3159720"/>
            <a:ext cx="111708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6480" y="4074120"/>
            <a:ext cx="111708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91880" y="3921840"/>
            <a:ext cx="9014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6600"/>
                </a:solidFill>
                <a:latin typeface="Courier New"/>
              </a:rPr>
              <a:t>å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76800" y="5235840"/>
            <a:ext cx="3838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6600"/>
                </a:solidFill>
                <a:latin typeface="Courier New"/>
              </a:rPr>
              <a:t>Alt ihob er tøv og ta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8520" y="5235840"/>
            <a:ext cx="2314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Hvorfor ban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76520" y="5235840"/>
            <a:ext cx="246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6600"/>
                </a:solidFill>
                <a:latin typeface="Courier New"/>
              </a:rPr>
              <a:t>Tvi, du </a:t>
            </a:r>
            <a:r>
              <a:rPr b="1" lang="da-DK" sz="2000" spc="-1" strike="noStrike">
                <a:solidFill>
                  <a:srgbClr val="ff6600"/>
                </a:solidFill>
                <a:latin typeface="Courier New"/>
              </a:rPr>
              <a:t>tør ej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9" idx="3"/>
            <a:endCxn id="111" idx="0"/>
          </p:cNvCxnSpPr>
          <p:nvPr/>
        </p:nvCxnSpPr>
        <p:spPr>
          <a:xfrm flipH="1">
            <a:off x="1285920" y="3706920"/>
            <a:ext cx="621000" cy="38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1" idx="4"/>
            <a:endCxn id="114" idx="0"/>
          </p:cNvCxnSpPr>
          <p:nvPr/>
        </p:nvCxnSpPr>
        <p:spPr>
          <a:xfrm>
            <a:off x="1285560" y="462240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5"/>
            <a:endCxn id="115" idx="0"/>
          </p:cNvCxnSpPr>
          <p:nvPr/>
        </p:nvCxnSpPr>
        <p:spPr>
          <a:xfrm>
            <a:off x="2650680" y="3706560"/>
            <a:ext cx="1159560" cy="152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2" idx="3"/>
            <a:endCxn id="115" idx="0"/>
          </p:cNvCxnSpPr>
          <p:nvPr/>
        </p:nvCxnSpPr>
        <p:spPr>
          <a:xfrm flipH="1">
            <a:off x="3809520" y="4392720"/>
            <a:ext cx="10375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2" idx="5"/>
            <a:endCxn id="113" idx="0"/>
          </p:cNvCxnSpPr>
          <p:nvPr/>
        </p:nvCxnSpPr>
        <p:spPr>
          <a:xfrm>
            <a:off x="5438520" y="4392720"/>
            <a:ext cx="165780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0" idx="4"/>
            <a:endCxn id="113" idx="0"/>
          </p:cNvCxnSpPr>
          <p:nvPr/>
        </p:nvCxnSpPr>
        <p:spPr>
          <a:xfrm>
            <a:off x="7094520" y="3708000"/>
            <a:ext cx="21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3463-EBB0-4173-8CF7-194CA15CDA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mbedding </a:t>
            </a:r>
            <a:r>
              <a:rPr b="0" lang="en-CA" sz="4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Child</a:t>
            </a: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-pa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0440" y="3540960"/>
            <a:ext cx="111708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35440" y="3464640"/>
            <a:ext cx="111708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6480" y="4379040"/>
            <a:ext cx="111708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91880" y="4226760"/>
            <a:ext cx="9014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6600"/>
                </a:solidFill>
                <a:latin typeface="Courier New"/>
              </a:rPr>
              <a:t>å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176800" y="5540760"/>
            <a:ext cx="3838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6600"/>
                </a:solidFill>
                <a:latin typeface="Courier New"/>
              </a:rPr>
              <a:t>Alt ihob er tøv og ta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8520" y="5540760"/>
            <a:ext cx="2314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Hvorfor ban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76520" y="5540760"/>
            <a:ext cx="246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6600"/>
                </a:solidFill>
                <a:latin typeface="Courier New"/>
              </a:rPr>
              <a:t>Tvi, du </a:t>
            </a:r>
            <a:r>
              <a:rPr b="1" lang="da-DK" sz="2000" spc="-1" strike="noStrike">
                <a:solidFill>
                  <a:srgbClr val="ff6600"/>
                </a:solidFill>
                <a:latin typeface="Courier New"/>
              </a:rPr>
              <a:t>tør ej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3" idx="3"/>
            <a:endCxn id="125" idx="0"/>
          </p:cNvCxnSpPr>
          <p:nvPr/>
        </p:nvCxnSpPr>
        <p:spPr>
          <a:xfrm flipH="1">
            <a:off x="1285920" y="4011120"/>
            <a:ext cx="621000" cy="383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5" idx="4"/>
            <a:endCxn id="128" idx="0"/>
          </p:cNvCxnSpPr>
          <p:nvPr/>
        </p:nvCxnSpPr>
        <p:spPr>
          <a:xfrm>
            <a:off x="1285560" y="492732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3" idx="5"/>
            <a:endCxn id="129" idx="0"/>
          </p:cNvCxnSpPr>
          <p:nvPr/>
        </p:nvCxnSpPr>
        <p:spPr>
          <a:xfrm>
            <a:off x="2650680" y="4011480"/>
            <a:ext cx="1159560" cy="1526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6" idx="3"/>
            <a:endCxn id="129" idx="0"/>
          </p:cNvCxnSpPr>
          <p:nvPr/>
        </p:nvCxnSpPr>
        <p:spPr>
          <a:xfrm flipH="1">
            <a:off x="3809520" y="4696920"/>
            <a:ext cx="103752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6" idx="5"/>
            <a:endCxn id="127" idx="0"/>
          </p:cNvCxnSpPr>
          <p:nvPr/>
        </p:nvCxnSpPr>
        <p:spPr>
          <a:xfrm>
            <a:off x="5438520" y="4696920"/>
            <a:ext cx="1657800" cy="840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4" idx="4"/>
            <a:endCxn id="127" idx="0"/>
          </p:cNvCxnSpPr>
          <p:nvPr/>
        </p:nvCxnSpPr>
        <p:spPr>
          <a:xfrm>
            <a:off x="7094520" y="4012920"/>
            <a:ext cx="21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900000" y="1447920"/>
            <a:ext cx="764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&lt;vers&gt;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  &lt;peer&gt;Hvorfor bande?&lt;/peer&gt;</a:t>
            </a:r>
            <a:r>
              <a:rPr b="1" lang="fr-CA" sz="2000" spc="-1" strike="noStrike">
                <a:solidFill>
                  <a:srgbClr val="ff6600"/>
                </a:solidFill>
                <a:latin typeface="Courier New"/>
              </a:rPr>
              <a:t>&lt;</a:t>
            </a:r>
            <a:r>
              <a:rPr b="1" lang="nb-NO" sz="2000" spc="-1" strike="noStrike">
                <a:solidFill>
                  <a:srgbClr val="ff6600"/>
                </a:solidFill>
                <a:latin typeface="Courier New"/>
              </a:rPr>
              <a:t>åse</a:t>
            </a:r>
            <a:r>
              <a:rPr b="1" lang="fr-CA" sz="2000" spc="-1" strike="noStrike">
                <a:solidFill>
                  <a:srgbClr val="ff6600"/>
                </a:solidFill>
                <a:latin typeface="Courier New"/>
              </a:rPr>
              <a:t>&gt;Tvi, du </a:t>
            </a:r>
            <a:r>
              <a:rPr b="1" lang="da-DK" sz="2000" spc="-1" strike="noStrike">
                <a:solidFill>
                  <a:srgbClr val="ff6600"/>
                </a:solidFill>
                <a:latin typeface="Courier New"/>
              </a:rPr>
              <a:t>tør ej!</a:t>
            </a:r>
            <a:br>
              <a:rPr sz="2000"/>
            </a:b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&lt;/vers&gt;</a:t>
            </a:r>
            <a:br>
              <a:rPr sz="2000"/>
            </a:b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&lt;vers&gt;</a:t>
            </a:r>
            <a:br>
              <a:rPr sz="2000"/>
            </a:b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2000" spc="-1" strike="noStrike">
                <a:solidFill>
                  <a:srgbClr val="ff6600"/>
                </a:solidFill>
                <a:latin typeface="Courier New"/>
              </a:rPr>
              <a:t>Alt ihob er tøv og tant!&lt;/</a:t>
            </a:r>
            <a:r>
              <a:rPr b="1" lang="nb-NO" sz="2000" spc="-1" strike="noStrike">
                <a:solidFill>
                  <a:srgbClr val="ff6600"/>
                </a:solidFill>
                <a:latin typeface="Courier New"/>
              </a:rPr>
              <a:t>åse&gt;</a:t>
            </a:r>
            <a:br>
              <a:rPr sz="2000"/>
            </a:br>
            <a:r>
              <a:rPr b="1" lang="nb-NO" sz="2000" spc="-1" strike="noStrike">
                <a:solidFill>
                  <a:srgbClr val="000000"/>
                </a:solidFill>
                <a:latin typeface="Courier New"/>
              </a:rPr>
              <a:t>&lt;/ver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B52E-38BB-48BC-BEC5-3633E844F0D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till perfect isomorph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Not for graphs in general... cycles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aybe for </a:t>
            </a:r>
            <a:r>
              <a:rPr b="0" i="1" lang="fr-CA" sz="3200" spc="-1" strike="noStrike">
                <a:solidFill>
                  <a:srgbClr val="000000"/>
                </a:solidFill>
                <a:latin typeface="Arial"/>
              </a:rPr>
              <a:t>acyclic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 graph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Let's try more example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D7EB-7BF1-4CF1-A27A-5F4BA788CF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at if the last verse is said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n chorus by Peer &amp; </a:t>
            </a: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Åse</a:t>
            </a: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20440" y="2499480"/>
            <a:ext cx="111708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535440" y="2423160"/>
            <a:ext cx="111708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6480" y="3337560"/>
            <a:ext cx="111708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91880" y="3185280"/>
            <a:ext cx="9014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6600"/>
                </a:solidFill>
                <a:latin typeface="Courier New"/>
              </a:rPr>
              <a:t>å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76800" y="4499280"/>
            <a:ext cx="3838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9900"/>
                </a:solidFill>
                <a:latin typeface="Courier New"/>
              </a:rPr>
              <a:t>Alt ihob er tøv og ta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8520" y="4499280"/>
            <a:ext cx="2314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Hvorfor ban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6520" y="4499280"/>
            <a:ext cx="246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6600"/>
                </a:solidFill>
                <a:latin typeface="Courier New"/>
              </a:rPr>
              <a:t>Tvi, du </a:t>
            </a:r>
            <a:r>
              <a:rPr b="1" lang="da-DK" sz="2000" spc="-1" strike="noStrike">
                <a:solidFill>
                  <a:srgbClr val="ff6600"/>
                </a:solidFill>
                <a:latin typeface="Courier New"/>
              </a:rPr>
              <a:t>tør ej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>
            <a:stCxn id="140" idx="3"/>
            <a:endCxn id="142" idx="0"/>
          </p:cNvCxnSpPr>
          <p:nvPr/>
        </p:nvCxnSpPr>
        <p:spPr>
          <a:xfrm flipH="1">
            <a:off x="1285920" y="2970360"/>
            <a:ext cx="621000" cy="383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2" idx="4"/>
            <a:endCxn id="145" idx="0"/>
          </p:cNvCxnSpPr>
          <p:nvPr/>
        </p:nvCxnSpPr>
        <p:spPr>
          <a:xfrm>
            <a:off x="1285560" y="3885840"/>
            <a:ext cx="10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0" idx="5"/>
            <a:endCxn id="146" idx="0"/>
          </p:cNvCxnSpPr>
          <p:nvPr/>
        </p:nvCxnSpPr>
        <p:spPr>
          <a:xfrm>
            <a:off x="2650680" y="2970000"/>
            <a:ext cx="1159560" cy="152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3" idx="3"/>
            <a:endCxn id="146" idx="0"/>
          </p:cNvCxnSpPr>
          <p:nvPr/>
        </p:nvCxnSpPr>
        <p:spPr>
          <a:xfrm flipH="1">
            <a:off x="3809520" y="3656160"/>
            <a:ext cx="10375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3" idx="5"/>
            <a:endCxn id="144" idx="0"/>
          </p:cNvCxnSpPr>
          <p:nvPr/>
        </p:nvCxnSpPr>
        <p:spPr>
          <a:xfrm>
            <a:off x="5438520" y="3656160"/>
            <a:ext cx="165780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1" idx="4"/>
            <a:endCxn id="144" idx="0"/>
          </p:cNvCxnSpPr>
          <p:nvPr/>
        </p:nvCxnSpPr>
        <p:spPr>
          <a:xfrm>
            <a:off x="7094520" y="2971440"/>
            <a:ext cx="21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2" idx="5"/>
            <a:endCxn id="144" idx="0"/>
          </p:cNvCxnSpPr>
          <p:nvPr/>
        </p:nvCxnSpPr>
        <p:spPr>
          <a:xfrm>
            <a:off x="1657080" y="3808080"/>
            <a:ext cx="5439240" cy="6879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A59C-1CDA-4ED9-BEC4-6CCA8A8C59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What if the last verse is said</a:t>
            </a:r>
            <a:br>
              <a:rPr sz="4000"/>
            </a:b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in chorus by Peer &amp; </a:t>
            </a: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Åse</a:t>
            </a: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20440" y="2499480"/>
            <a:ext cx="111708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35440" y="2423160"/>
            <a:ext cx="111708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64920" y="3185280"/>
            <a:ext cx="111708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91880" y="3185280"/>
            <a:ext cx="901440" cy="563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6600"/>
                </a:solidFill>
                <a:latin typeface="Courier New"/>
              </a:rPr>
              <a:t>å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76800" y="4499280"/>
            <a:ext cx="3838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9900"/>
                </a:solidFill>
                <a:latin typeface="Courier New"/>
              </a:rPr>
              <a:t>Alt ihob er tøv og ta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8520" y="4499280"/>
            <a:ext cx="2314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Courier New"/>
              </a:rPr>
              <a:t>Hvorfor ban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76520" y="4499280"/>
            <a:ext cx="246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6600"/>
                </a:solidFill>
                <a:latin typeface="Courier New"/>
              </a:rPr>
              <a:t>Tvi, du </a:t>
            </a:r>
            <a:r>
              <a:rPr b="1" lang="da-DK" sz="2000" spc="-1" strike="noStrike">
                <a:solidFill>
                  <a:srgbClr val="ff6600"/>
                </a:solidFill>
                <a:latin typeface="Courier New"/>
              </a:rPr>
              <a:t>tør ej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5" idx="3"/>
            <a:endCxn id="160" idx="0"/>
          </p:cNvCxnSpPr>
          <p:nvPr/>
        </p:nvCxnSpPr>
        <p:spPr>
          <a:xfrm flipH="1">
            <a:off x="1285920" y="2970000"/>
            <a:ext cx="621000" cy="152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57" idx="3"/>
            <a:endCxn id="160" idx="0"/>
          </p:cNvCxnSpPr>
          <p:nvPr/>
        </p:nvCxnSpPr>
        <p:spPr>
          <a:xfrm flipH="1">
            <a:off x="1285560" y="3656160"/>
            <a:ext cx="226584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5" idx="5"/>
            <a:endCxn id="161" idx="0"/>
          </p:cNvCxnSpPr>
          <p:nvPr/>
        </p:nvCxnSpPr>
        <p:spPr>
          <a:xfrm>
            <a:off x="2650680" y="2970000"/>
            <a:ext cx="1159560" cy="152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8" idx="3"/>
            <a:endCxn id="161" idx="0"/>
          </p:cNvCxnSpPr>
          <p:nvPr/>
        </p:nvCxnSpPr>
        <p:spPr>
          <a:xfrm flipH="1">
            <a:off x="3809520" y="3656160"/>
            <a:ext cx="103752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8" idx="5"/>
            <a:endCxn id="159" idx="0"/>
          </p:cNvCxnSpPr>
          <p:nvPr/>
        </p:nvCxnSpPr>
        <p:spPr>
          <a:xfrm>
            <a:off x="5438520" y="3656160"/>
            <a:ext cx="1657800" cy="840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4"/>
            <a:endCxn id="159" idx="0"/>
          </p:cNvCxnSpPr>
          <p:nvPr/>
        </p:nvCxnSpPr>
        <p:spPr>
          <a:xfrm>
            <a:off x="7094520" y="2971440"/>
            <a:ext cx="216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7" idx="5"/>
            <a:endCxn id="159" idx="0"/>
          </p:cNvCxnSpPr>
          <p:nvPr/>
        </p:nvCxnSpPr>
        <p:spPr>
          <a:xfrm>
            <a:off x="4295880" y="3656160"/>
            <a:ext cx="2800800" cy="840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1304280" y="5410080"/>
            <a:ext cx="653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Arial"/>
              </a:rPr>
              <a:t>Still acyclic, but no corresponding markup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C42-1CE5-416C-8DA2-D57DAA01B8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i="1" lang="fr-CA" sz="4400" spc="-1" strike="noStrike">
                <a:solidFill>
                  <a:srgbClr val="000000"/>
                </a:solidFill>
                <a:latin typeface="Arial"/>
              </a:rPr>
              <a:t>imperfect</a:t>
            </a: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 isomorph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ome acyclic graphs have corresponding documents (i.e., are </a:t>
            </a:r>
            <a:r>
              <a:rPr b="0" i="1" lang="fr-CA" sz="3200" spc="-1" strike="noStrike">
                <a:solidFill>
                  <a:srgbClr val="000000"/>
                </a:solidFill>
                <a:latin typeface="Arial"/>
              </a:rPr>
              <a:t>serializable</a:t>
            </a: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Some (apparently) don't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anipulations of the graph (DOM) may leave it non-serializabl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Arial"/>
              </a:rPr>
              <a:t>Which acyclic graphs are serializ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DC0A-DA53-4BB5-91DA-83F12C04F5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-TexM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63E3-027A-4098-A7AE-5243744B48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of the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representations of structured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lap, in markup and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O-TexMECS (N.B.: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verlap-O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;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de-ordered DAGs (noD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and 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B7E1-08D1-4CBE-8213-89AB6DD186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TexM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 particular proposal to address the overlap problem </a:t>
            </a:r>
            <a:r>
              <a:rPr b="0" i="1" lang="fr-CA" sz="3200" spc="-1" strike="noStrike">
                <a:solidFill>
                  <a:srgbClr val="000000"/>
                </a:solidFill>
                <a:latin typeface="Arial"/>
              </a:rPr>
              <a:t>with overlapping mar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MECS (Huitfeldt 1992-19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ulti-element cod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exMECS (Huitfeldt &amp; SMcQ 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"Trivially extended MEC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arkup Languages for Complex Documents (MLCD)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C6D6-6E75-4EEF-B4C0-78AC48B2AF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Overlap-only TexME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TexMECS allows overlapping markup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but also much 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virtual elements, interrupted element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O-TexMECS 1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tart-tag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&lt;a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End-tags: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Courier New"/>
              </a:rPr>
              <a:t>|a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verlapping elements allo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atural notion of well-form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E25C-1F0F-4EF9-9E15-5C7F1333AA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de-ordered DAGs (noDAG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CCF9-8BAA-49D7-B2D7-4E22E23702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ntents o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a serialized document, contents appears in some 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order is often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cedure steps, verses in a poe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us, the order must be present in graph re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XML: children ordered in the t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1C31-EA59-4013-ADEF-D40D330499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Node-ordered D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Node-ordered directed acyclic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ssentially a DAG with children or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hy "node-ordered" (and not "child-ordered"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visions for further ordering of 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BCB7-8EF1-47C9-A8B3-DB1BD3F4256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08240" y="2565360"/>
            <a:ext cx="576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35160" y="3141720"/>
            <a:ext cx="7207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71880" y="3141720"/>
            <a:ext cx="6476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5" idx="2"/>
            <a:endCxn id="186" idx="0"/>
          </p:cNvCxnSpPr>
          <p:nvPr/>
        </p:nvCxnSpPr>
        <p:spPr>
          <a:xfrm flipH="1">
            <a:off x="1595160" y="2746440"/>
            <a:ext cx="61344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5" idx="4"/>
            <a:endCxn id="187" idx="0"/>
          </p:cNvCxnSpPr>
          <p:nvPr/>
        </p:nvCxnSpPr>
        <p:spPr>
          <a:xfrm flipH="1">
            <a:off x="2495160" y="292572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6" idx="3"/>
            <a:endCxn id="191" idx="0"/>
          </p:cNvCxnSpPr>
          <p:nvPr/>
        </p:nvCxnSpPr>
        <p:spPr>
          <a:xfrm flipH="1">
            <a:off x="1184400" y="3449160"/>
            <a:ext cx="155880" cy="70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6" idx="5"/>
            <a:endCxn id="193" idx="0"/>
          </p:cNvCxnSpPr>
          <p:nvPr/>
        </p:nvCxnSpPr>
        <p:spPr>
          <a:xfrm>
            <a:off x="1851120" y="3449160"/>
            <a:ext cx="28152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966960" y="4151160"/>
            <a:ext cx="4348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14480" y="4149720"/>
            <a:ext cx="434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28880" y="4149720"/>
            <a:ext cx="3650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76680" y="4149720"/>
            <a:ext cx="4381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"/>
          <p:cNvCxnSpPr>
            <a:stCxn id="187" idx="5"/>
            <a:endCxn id="194" idx="0"/>
          </p:cNvCxnSpPr>
          <p:nvPr/>
        </p:nvCxnSpPr>
        <p:spPr>
          <a:xfrm>
            <a:off x="2724120" y="3449160"/>
            <a:ext cx="28800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3106800" y="3141720"/>
            <a:ext cx="6476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5" idx="6"/>
            <a:endCxn id="197" idx="0"/>
          </p:cNvCxnSpPr>
          <p:nvPr/>
        </p:nvCxnSpPr>
        <p:spPr>
          <a:xfrm>
            <a:off x="2784600" y="2746440"/>
            <a:ext cx="64656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7" idx="3"/>
            <a:endCxn id="193" idx="0"/>
          </p:cNvCxnSpPr>
          <p:nvPr/>
        </p:nvCxnSpPr>
        <p:spPr>
          <a:xfrm flipH="1">
            <a:off x="2131560" y="3449160"/>
            <a:ext cx="107064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7" idx="4"/>
            <a:endCxn id="194" idx="0"/>
          </p:cNvCxnSpPr>
          <p:nvPr/>
        </p:nvCxnSpPr>
        <p:spPr>
          <a:xfrm flipH="1">
            <a:off x="3011040" y="3501720"/>
            <a:ext cx="4197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"/>
          <p:cNvCxnSpPr>
            <a:stCxn id="197" idx="5"/>
            <a:endCxn id="195" idx="0"/>
          </p:cNvCxnSpPr>
          <p:nvPr/>
        </p:nvCxnSpPr>
        <p:spPr>
          <a:xfrm>
            <a:off x="3658680" y="3449160"/>
            <a:ext cx="23724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6" idx="6"/>
            <a:endCxn id="187" idx="2"/>
          </p:cNvCxnSpPr>
          <p:nvPr/>
        </p:nvCxnSpPr>
        <p:spPr>
          <a:xfrm>
            <a:off x="1955880" y="3322440"/>
            <a:ext cx="216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7" idx="6"/>
            <a:endCxn id="197" idx="2"/>
          </p:cNvCxnSpPr>
          <p:nvPr/>
        </p:nvCxnSpPr>
        <p:spPr>
          <a:xfrm>
            <a:off x="2819520" y="3322440"/>
            <a:ext cx="2880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91" idx="3"/>
            <a:endCxn id="193" idx="1"/>
          </p:cNvCxnSpPr>
          <p:nvPr/>
        </p:nvCxnSpPr>
        <p:spPr>
          <a:xfrm flipV="1">
            <a:off x="1401840" y="4293360"/>
            <a:ext cx="51336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3" idx="3"/>
            <a:endCxn id="194" idx="1"/>
          </p:cNvCxnSpPr>
          <p:nvPr/>
        </p:nvCxnSpPr>
        <p:spPr>
          <a:xfrm>
            <a:off x="2349360" y="4293720"/>
            <a:ext cx="4802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4" idx="3"/>
            <a:endCxn id="195" idx="1"/>
          </p:cNvCxnSpPr>
          <p:nvPr/>
        </p:nvCxnSpPr>
        <p:spPr>
          <a:xfrm>
            <a:off x="3193560" y="4293720"/>
            <a:ext cx="4834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87" idx="3"/>
            <a:endCxn id="193" idx="0"/>
          </p:cNvCxnSpPr>
          <p:nvPr/>
        </p:nvCxnSpPr>
        <p:spPr>
          <a:xfrm flipH="1">
            <a:off x="2131200" y="3449160"/>
            <a:ext cx="13572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5329080" y="3429000"/>
            <a:ext cx="50328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345440" y="2924280"/>
            <a:ext cx="50328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21440" y="3789360"/>
            <a:ext cx="50328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626160" y="4581360"/>
            <a:ext cx="50328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9" idx="3"/>
            <a:endCxn id="210" idx="7"/>
          </p:cNvCxnSpPr>
          <p:nvPr/>
        </p:nvCxnSpPr>
        <p:spPr>
          <a:xfrm flipH="1">
            <a:off x="6551280" y="3362040"/>
            <a:ext cx="86760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08" idx="4"/>
            <a:endCxn id="211" idx="1"/>
          </p:cNvCxnSpPr>
          <p:nvPr/>
        </p:nvCxnSpPr>
        <p:spPr>
          <a:xfrm>
            <a:off x="5581800" y="3940200"/>
            <a:ext cx="1117800" cy="707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stCxn id="209" idx="4"/>
            <a:endCxn id="211" idx="7"/>
          </p:cNvCxnSpPr>
          <p:nvPr/>
        </p:nvCxnSpPr>
        <p:spPr>
          <a:xfrm flipH="1">
            <a:off x="7056000" y="3435480"/>
            <a:ext cx="542160" cy="121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6408720" y="2205000"/>
            <a:ext cx="503280" cy="5032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"/>
          <p:cNvCxnSpPr>
            <a:stCxn id="215" idx="3"/>
            <a:endCxn id="208" idx="0"/>
          </p:cNvCxnSpPr>
          <p:nvPr/>
        </p:nvCxnSpPr>
        <p:spPr>
          <a:xfrm flipH="1">
            <a:off x="5581440" y="2642760"/>
            <a:ext cx="900720" cy="77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5" idx="5"/>
            <a:endCxn id="209" idx="0"/>
          </p:cNvCxnSpPr>
          <p:nvPr/>
        </p:nvCxnSpPr>
        <p:spPr>
          <a:xfrm>
            <a:off x="6838920" y="2642760"/>
            <a:ext cx="759600" cy="27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"/>
          <p:cNvCxnSpPr>
            <a:stCxn id="208" idx="7"/>
            <a:endCxn id="209" idx="2"/>
          </p:cNvCxnSpPr>
          <p:nvPr/>
        </p:nvCxnSpPr>
        <p:spPr>
          <a:xfrm flipV="1">
            <a:off x="5759280" y="3176640"/>
            <a:ext cx="1578960" cy="3178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19" name=""/>
          <p:cNvCxnSpPr>
            <a:stCxn id="210" idx="5"/>
            <a:endCxn id="211" idx="0"/>
          </p:cNvCxnSpPr>
          <p:nvPr/>
        </p:nvCxnSpPr>
        <p:spPr>
          <a:xfrm>
            <a:off x="6551640" y="4227120"/>
            <a:ext cx="327600" cy="34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C85-E143-4D76-B367-8EBF8084C29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5. Results and 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A25B-4023-4AF6-A6D7-BDC341F9488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Main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noDAG is serializable in OO-TexMECS iff it is </a:t>
            </a: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completion-acyclic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(essenti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y OO-TexMECS well-formed document can be obtained by serializing some completion-acyclic no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You don't gain any expressivity by allowing node-ordering over and above children-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34E-4A80-45E1-A89A-C9262081C50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now know how to define a DOM for overlapping mar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 DOM-based editor is </a:t>
            </a:r>
            <a:r>
              <a:rPr b="0" i="1" lang="en-CA" sz="3200" spc="-1" strike="noStrike" u="sng">
                <a:solidFill>
                  <a:srgbClr val="000000"/>
                </a:solidFill>
                <a:uFillTx/>
                <a:latin typeface="Arial"/>
              </a:rPr>
              <a:t>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ound-tripping is possible between noDAGs and OO-TexME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sults also apply to similar formal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xMECS with more features </a:t>
            </a:r>
            <a:r>
              <a:rPr b="0" i="1" lang="en-CA" sz="2800" spc="-1" strike="noStrike" u="sng">
                <a:solidFill>
                  <a:srgbClr val="000000"/>
                </a:solidFill>
                <a:uFillTx/>
                <a:latin typeface="Arial"/>
              </a:rPr>
              <a:t>except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virtual and interrupted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FE1-C81F-4691-8070-AEF7FCBC600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mple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uition: combination of parent-child relationships &amp; children-ordering informs on the relative positioning of tags in an eventual ser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contradictory information is derivable: the graph is not serializ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6C7-8067-4448-95D4-D4D51E845F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Graph representations of structured doc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30B-23C1-4769-A997-19FCE678C46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xample: "starts-before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289400" y="2565360"/>
            <a:ext cx="576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316320" y="3141720"/>
            <a:ext cx="7207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53040" y="3141720"/>
            <a:ext cx="6476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29" idx="2"/>
            <a:endCxn id="230" idx="0"/>
          </p:cNvCxnSpPr>
          <p:nvPr/>
        </p:nvCxnSpPr>
        <p:spPr>
          <a:xfrm flipH="1">
            <a:off x="3676320" y="2746440"/>
            <a:ext cx="61344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9" idx="4"/>
            <a:endCxn id="231" idx="0"/>
          </p:cNvCxnSpPr>
          <p:nvPr/>
        </p:nvCxnSpPr>
        <p:spPr>
          <a:xfrm flipH="1">
            <a:off x="4575960" y="292572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30" idx="3"/>
            <a:endCxn id="235" idx="0"/>
          </p:cNvCxnSpPr>
          <p:nvPr/>
        </p:nvCxnSpPr>
        <p:spPr>
          <a:xfrm flipH="1">
            <a:off x="3265560" y="3449160"/>
            <a:ext cx="155880" cy="70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0" idx="5"/>
            <a:endCxn id="237" idx="0"/>
          </p:cNvCxnSpPr>
          <p:nvPr/>
        </p:nvCxnSpPr>
        <p:spPr>
          <a:xfrm>
            <a:off x="3932280" y="3449160"/>
            <a:ext cx="28152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3048120" y="4151160"/>
            <a:ext cx="4348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95640" y="4149720"/>
            <a:ext cx="4352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910040" y="4149720"/>
            <a:ext cx="3654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757840" y="4149720"/>
            <a:ext cx="4381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>
            <a:stCxn id="231" idx="5"/>
            <a:endCxn id="238" idx="0"/>
          </p:cNvCxnSpPr>
          <p:nvPr/>
        </p:nvCxnSpPr>
        <p:spPr>
          <a:xfrm>
            <a:off x="4805280" y="3449160"/>
            <a:ext cx="28800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187960" y="3141720"/>
            <a:ext cx="6476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2" name=""/>
          <p:cNvCxnSpPr>
            <a:stCxn id="229" idx="6"/>
            <a:endCxn id="241" idx="0"/>
          </p:cNvCxnSpPr>
          <p:nvPr/>
        </p:nvCxnSpPr>
        <p:spPr>
          <a:xfrm>
            <a:off x="4865400" y="2746440"/>
            <a:ext cx="64692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3"/>
            <a:endCxn id="237" idx="0"/>
          </p:cNvCxnSpPr>
          <p:nvPr/>
        </p:nvCxnSpPr>
        <p:spPr>
          <a:xfrm flipH="1">
            <a:off x="4212360" y="3449160"/>
            <a:ext cx="107100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"/>
          <p:cNvCxnSpPr>
            <a:stCxn id="241" idx="4"/>
            <a:endCxn id="238" idx="0"/>
          </p:cNvCxnSpPr>
          <p:nvPr/>
        </p:nvCxnSpPr>
        <p:spPr>
          <a:xfrm flipH="1">
            <a:off x="5091840" y="3501720"/>
            <a:ext cx="4201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41" idx="5"/>
            <a:endCxn id="239" idx="0"/>
          </p:cNvCxnSpPr>
          <p:nvPr/>
        </p:nvCxnSpPr>
        <p:spPr>
          <a:xfrm>
            <a:off x="5740200" y="3449160"/>
            <a:ext cx="23724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0" idx="6"/>
            <a:endCxn id="231" idx="2"/>
          </p:cNvCxnSpPr>
          <p:nvPr/>
        </p:nvCxnSpPr>
        <p:spPr>
          <a:xfrm>
            <a:off x="4037040" y="3322440"/>
            <a:ext cx="216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31" idx="6"/>
            <a:endCxn id="241" idx="2"/>
          </p:cNvCxnSpPr>
          <p:nvPr/>
        </p:nvCxnSpPr>
        <p:spPr>
          <a:xfrm>
            <a:off x="4900680" y="3322440"/>
            <a:ext cx="2880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35" idx="3"/>
            <a:endCxn id="237" idx="1"/>
          </p:cNvCxnSpPr>
          <p:nvPr/>
        </p:nvCxnSpPr>
        <p:spPr>
          <a:xfrm flipV="1">
            <a:off x="3483000" y="4293360"/>
            <a:ext cx="51336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49" name=""/>
          <p:cNvCxnSpPr>
            <a:stCxn id="237" idx="3"/>
            <a:endCxn id="238" idx="1"/>
          </p:cNvCxnSpPr>
          <p:nvPr/>
        </p:nvCxnSpPr>
        <p:spPr>
          <a:xfrm>
            <a:off x="4430520" y="4293720"/>
            <a:ext cx="4798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0" name=""/>
          <p:cNvCxnSpPr>
            <a:stCxn id="238" idx="3"/>
            <a:endCxn id="239" idx="1"/>
          </p:cNvCxnSpPr>
          <p:nvPr/>
        </p:nvCxnSpPr>
        <p:spPr>
          <a:xfrm>
            <a:off x="5275440" y="4293720"/>
            <a:ext cx="4831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51" name=""/>
          <p:cNvCxnSpPr>
            <a:stCxn id="231" idx="3"/>
            <a:endCxn id="237" idx="0"/>
          </p:cNvCxnSpPr>
          <p:nvPr/>
        </p:nvCxnSpPr>
        <p:spPr>
          <a:xfrm flipH="1">
            <a:off x="4212360" y="3449160"/>
            <a:ext cx="13572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endCxn id="231" idx="3"/>
          </p:cNvCxnSpPr>
          <p:nvPr/>
        </p:nvCxnSpPr>
        <p:spPr>
          <a:xfrm flipV="1">
            <a:off x="3479760" y="3449160"/>
            <a:ext cx="869040" cy="7041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79A6-0337-43AE-975C-0D012506A03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xample: "ends-after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89400" y="2565360"/>
            <a:ext cx="576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316320" y="3141720"/>
            <a:ext cx="7207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53040" y="3141720"/>
            <a:ext cx="6476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7" name=""/>
          <p:cNvCxnSpPr>
            <a:stCxn id="254" idx="2"/>
            <a:endCxn id="255" idx="0"/>
          </p:cNvCxnSpPr>
          <p:nvPr/>
        </p:nvCxnSpPr>
        <p:spPr>
          <a:xfrm flipH="1">
            <a:off x="3676320" y="2746440"/>
            <a:ext cx="61344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54" idx="4"/>
            <a:endCxn id="256" idx="0"/>
          </p:cNvCxnSpPr>
          <p:nvPr/>
        </p:nvCxnSpPr>
        <p:spPr>
          <a:xfrm flipH="1">
            <a:off x="4575960" y="2925720"/>
            <a:ext cx="252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55" idx="3"/>
            <a:endCxn id="260" idx="0"/>
          </p:cNvCxnSpPr>
          <p:nvPr/>
        </p:nvCxnSpPr>
        <p:spPr>
          <a:xfrm flipH="1">
            <a:off x="3265560" y="3449160"/>
            <a:ext cx="155880" cy="70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5" idx="5"/>
            <a:endCxn id="262" idx="0"/>
          </p:cNvCxnSpPr>
          <p:nvPr/>
        </p:nvCxnSpPr>
        <p:spPr>
          <a:xfrm>
            <a:off x="3932280" y="3449160"/>
            <a:ext cx="28152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0" name=""/>
          <p:cNvSpPr/>
          <p:nvPr/>
        </p:nvSpPr>
        <p:spPr>
          <a:xfrm>
            <a:off x="3048120" y="4151160"/>
            <a:ext cx="4348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995640" y="4149720"/>
            <a:ext cx="4352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10040" y="4149720"/>
            <a:ext cx="3654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57840" y="4149720"/>
            <a:ext cx="4381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"/>
          <p:cNvCxnSpPr>
            <a:stCxn id="256" idx="5"/>
            <a:endCxn id="263" idx="0"/>
          </p:cNvCxnSpPr>
          <p:nvPr/>
        </p:nvCxnSpPr>
        <p:spPr>
          <a:xfrm>
            <a:off x="4805280" y="3449160"/>
            <a:ext cx="28800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"/>
          <p:cNvSpPr/>
          <p:nvPr/>
        </p:nvSpPr>
        <p:spPr>
          <a:xfrm>
            <a:off x="5187960" y="3141720"/>
            <a:ext cx="6476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54" idx="6"/>
            <a:endCxn id="266" idx="0"/>
          </p:cNvCxnSpPr>
          <p:nvPr/>
        </p:nvCxnSpPr>
        <p:spPr>
          <a:xfrm>
            <a:off x="4865400" y="2746440"/>
            <a:ext cx="64692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"/>
          <p:cNvCxnSpPr>
            <a:stCxn id="266" idx="3"/>
            <a:endCxn id="262" idx="0"/>
          </p:cNvCxnSpPr>
          <p:nvPr/>
        </p:nvCxnSpPr>
        <p:spPr>
          <a:xfrm flipH="1">
            <a:off x="4212360" y="3449160"/>
            <a:ext cx="107100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6" idx="4"/>
            <a:endCxn id="263" idx="0"/>
          </p:cNvCxnSpPr>
          <p:nvPr/>
        </p:nvCxnSpPr>
        <p:spPr>
          <a:xfrm flipH="1">
            <a:off x="5091840" y="3501720"/>
            <a:ext cx="42012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66" idx="5"/>
            <a:endCxn id="264" idx="0"/>
          </p:cNvCxnSpPr>
          <p:nvPr/>
        </p:nvCxnSpPr>
        <p:spPr>
          <a:xfrm>
            <a:off x="5740200" y="3449160"/>
            <a:ext cx="23724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5" idx="6"/>
            <a:endCxn id="256" idx="2"/>
          </p:cNvCxnSpPr>
          <p:nvPr/>
        </p:nvCxnSpPr>
        <p:spPr>
          <a:xfrm>
            <a:off x="4037040" y="3322440"/>
            <a:ext cx="2167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72" name=""/>
          <p:cNvCxnSpPr>
            <a:stCxn id="256" idx="6"/>
            <a:endCxn id="266" idx="2"/>
          </p:cNvCxnSpPr>
          <p:nvPr/>
        </p:nvCxnSpPr>
        <p:spPr>
          <a:xfrm>
            <a:off x="4900680" y="3322440"/>
            <a:ext cx="2880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73" name=""/>
          <p:cNvCxnSpPr>
            <a:stCxn id="260" idx="3"/>
            <a:endCxn id="262" idx="1"/>
          </p:cNvCxnSpPr>
          <p:nvPr/>
        </p:nvCxnSpPr>
        <p:spPr>
          <a:xfrm flipV="1">
            <a:off x="3483000" y="4293360"/>
            <a:ext cx="51336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74" name=""/>
          <p:cNvCxnSpPr>
            <a:stCxn id="262" idx="3"/>
            <a:endCxn id="263" idx="1"/>
          </p:cNvCxnSpPr>
          <p:nvPr/>
        </p:nvCxnSpPr>
        <p:spPr>
          <a:xfrm>
            <a:off x="4430520" y="4293720"/>
            <a:ext cx="4798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75" name=""/>
          <p:cNvCxnSpPr>
            <a:stCxn id="263" idx="3"/>
            <a:endCxn id="264" idx="1"/>
          </p:cNvCxnSpPr>
          <p:nvPr/>
        </p:nvCxnSpPr>
        <p:spPr>
          <a:xfrm>
            <a:off x="5275440" y="4293720"/>
            <a:ext cx="48312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cxnSp>
        <p:nvCxnSpPr>
          <p:cNvPr id="276" name=""/>
          <p:cNvCxnSpPr>
            <a:stCxn id="256" idx="3"/>
            <a:endCxn id="262" idx="0"/>
          </p:cNvCxnSpPr>
          <p:nvPr/>
        </p:nvCxnSpPr>
        <p:spPr>
          <a:xfrm flipH="1">
            <a:off x="4212360" y="3449160"/>
            <a:ext cx="13572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64" idx="0"/>
            <a:endCxn id="256" idx="5"/>
          </p:cNvCxnSpPr>
          <p:nvPr/>
        </p:nvCxnSpPr>
        <p:spPr>
          <a:xfrm flipH="1" flipV="1">
            <a:off x="4804560" y="3448800"/>
            <a:ext cx="1172520" cy="700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3" idx="0"/>
            <a:endCxn id="255" idx="5"/>
          </p:cNvCxnSpPr>
          <p:nvPr/>
        </p:nvCxnSpPr>
        <p:spPr>
          <a:xfrm flipH="1" flipV="1">
            <a:off x="3931560" y="3448800"/>
            <a:ext cx="1161000" cy="700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BE2-412A-4734-A932-6E8BA6165F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Contradiction = cycle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284720" y="2565360"/>
            <a:ext cx="57636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11640" y="3141720"/>
            <a:ext cx="72072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48000" y="3141720"/>
            <a:ext cx="64800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"/>
          <p:cNvCxnSpPr>
            <a:stCxn id="280" idx="2"/>
            <a:endCxn id="281" idx="0"/>
          </p:cNvCxnSpPr>
          <p:nvPr/>
        </p:nvCxnSpPr>
        <p:spPr>
          <a:xfrm flipH="1">
            <a:off x="3671640" y="2746440"/>
            <a:ext cx="61344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80" idx="4"/>
            <a:endCxn id="282" idx="0"/>
          </p:cNvCxnSpPr>
          <p:nvPr/>
        </p:nvCxnSpPr>
        <p:spPr>
          <a:xfrm flipH="1">
            <a:off x="4571640" y="2925720"/>
            <a:ext cx="216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81" idx="3"/>
            <a:endCxn id="286" idx="0"/>
          </p:cNvCxnSpPr>
          <p:nvPr/>
        </p:nvCxnSpPr>
        <p:spPr>
          <a:xfrm flipH="1">
            <a:off x="3260880" y="3449160"/>
            <a:ext cx="155880" cy="70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1" idx="5"/>
            <a:endCxn id="288" idx="0"/>
          </p:cNvCxnSpPr>
          <p:nvPr/>
        </p:nvCxnSpPr>
        <p:spPr>
          <a:xfrm>
            <a:off x="3927600" y="3449160"/>
            <a:ext cx="28152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>
            <a:off x="3043080" y="4151160"/>
            <a:ext cx="43524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90960" y="4149720"/>
            <a:ext cx="4348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905360" y="4149720"/>
            <a:ext cx="3650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53160" y="4149720"/>
            <a:ext cx="4381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"/>
          <p:cNvCxnSpPr>
            <a:stCxn id="282" idx="4"/>
            <a:endCxn id="289" idx="0"/>
          </p:cNvCxnSpPr>
          <p:nvPr/>
        </p:nvCxnSpPr>
        <p:spPr>
          <a:xfrm>
            <a:off x="4571640" y="3501720"/>
            <a:ext cx="51660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5183280" y="3141720"/>
            <a:ext cx="647640" cy="36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3" name=""/>
          <p:cNvCxnSpPr>
            <a:stCxn id="280" idx="6"/>
            <a:endCxn id="292" idx="0"/>
          </p:cNvCxnSpPr>
          <p:nvPr/>
        </p:nvCxnSpPr>
        <p:spPr>
          <a:xfrm>
            <a:off x="4861080" y="2746440"/>
            <a:ext cx="646560" cy="3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4" name=""/>
          <p:cNvCxnSpPr>
            <a:stCxn id="292" idx="3"/>
            <a:endCxn id="288" idx="0"/>
          </p:cNvCxnSpPr>
          <p:nvPr/>
        </p:nvCxnSpPr>
        <p:spPr>
          <a:xfrm flipH="1">
            <a:off x="4208040" y="3449160"/>
            <a:ext cx="107064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5" name=""/>
          <p:cNvCxnSpPr>
            <a:stCxn id="292" idx="4"/>
            <a:endCxn id="289" idx="0"/>
          </p:cNvCxnSpPr>
          <p:nvPr/>
        </p:nvCxnSpPr>
        <p:spPr>
          <a:xfrm flipH="1">
            <a:off x="5087520" y="3501720"/>
            <a:ext cx="4197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"/>
          <p:cNvCxnSpPr>
            <a:stCxn id="292" idx="5"/>
            <a:endCxn id="290" idx="0"/>
          </p:cNvCxnSpPr>
          <p:nvPr/>
        </p:nvCxnSpPr>
        <p:spPr>
          <a:xfrm>
            <a:off x="5735160" y="3449160"/>
            <a:ext cx="237240" cy="700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81" idx="6"/>
            <a:endCxn id="282" idx="2"/>
          </p:cNvCxnSpPr>
          <p:nvPr/>
        </p:nvCxnSpPr>
        <p:spPr>
          <a:xfrm>
            <a:off x="4032000" y="3322440"/>
            <a:ext cx="21636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82" idx="6"/>
            <a:endCxn id="292" idx="2"/>
          </p:cNvCxnSpPr>
          <p:nvPr/>
        </p:nvCxnSpPr>
        <p:spPr>
          <a:xfrm>
            <a:off x="4896000" y="3322440"/>
            <a:ext cx="2880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88" idx="0"/>
            <a:endCxn id="282" idx="3"/>
          </p:cNvCxnSpPr>
          <p:nvPr/>
        </p:nvCxnSpPr>
        <p:spPr>
          <a:xfrm flipV="1">
            <a:off x="4208040" y="3448800"/>
            <a:ext cx="135720" cy="700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86" idx="3"/>
            <a:endCxn id="288" idx="1"/>
          </p:cNvCxnSpPr>
          <p:nvPr/>
        </p:nvCxnSpPr>
        <p:spPr>
          <a:xfrm flipV="1">
            <a:off x="3478320" y="4293360"/>
            <a:ext cx="51336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88" idx="3"/>
            <a:endCxn id="289" idx="1"/>
          </p:cNvCxnSpPr>
          <p:nvPr/>
        </p:nvCxnSpPr>
        <p:spPr>
          <a:xfrm>
            <a:off x="4425840" y="4293720"/>
            <a:ext cx="4802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302" name=""/>
          <p:cNvCxnSpPr>
            <a:stCxn id="289" idx="3"/>
            <a:endCxn id="290" idx="1"/>
          </p:cNvCxnSpPr>
          <p:nvPr/>
        </p:nvCxnSpPr>
        <p:spPr>
          <a:xfrm>
            <a:off x="5270040" y="4293720"/>
            <a:ext cx="48348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973440" y="5140440"/>
            <a:ext cx="72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Completion-acyclic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 each completion is acyc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B7F-8F55-4095-8D64-D6E1F89B21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ptimal algorithm for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Optimal serializ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laxing conditions on the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Relationships with GODDAGs (SMcQ &amp; Huitfeldt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nd, ye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tertextual semantics of overlap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1662-232B-4E64-B1ED-9FC73C413EB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&lt;yves.marcoux@umontreal.ca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B83D-93EF-45AB-89AD-9884179E655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XML document = tre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665760" y="2209680"/>
            <a:ext cx="682920" cy="68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94200" y="4064040"/>
            <a:ext cx="682920" cy="682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496280" y="3048120"/>
            <a:ext cx="682560" cy="682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61880" y="2563920"/>
            <a:ext cx="140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to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b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c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/to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13440" y="2924280"/>
            <a:ext cx="563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"/>
          <p:cNvCxnSpPr>
            <a:stCxn id="64" idx="4"/>
            <a:endCxn id="59" idx="0"/>
          </p:cNvCxnSpPr>
          <p:nvPr/>
        </p:nvCxnSpPr>
        <p:spPr>
          <a:xfrm>
            <a:off x="6132240" y="3733560"/>
            <a:ext cx="3960" cy="330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65" name=""/>
          <p:cNvCxnSpPr>
            <a:stCxn id="58" idx="5"/>
            <a:endCxn id="60" idx="1"/>
          </p:cNvCxnSpPr>
          <p:nvPr/>
        </p:nvCxnSpPr>
        <p:spPr>
          <a:xfrm>
            <a:off x="7248600" y="2792160"/>
            <a:ext cx="348480" cy="35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4" name=""/>
          <p:cNvSpPr/>
          <p:nvPr/>
        </p:nvSpPr>
        <p:spPr>
          <a:xfrm>
            <a:off x="5791320" y="3051000"/>
            <a:ext cx="682560" cy="68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58" idx="3"/>
            <a:endCxn id="64" idx="7"/>
          </p:cNvCxnSpPr>
          <p:nvPr/>
        </p:nvCxnSpPr>
        <p:spPr>
          <a:xfrm flipH="1">
            <a:off x="6373080" y="2792520"/>
            <a:ext cx="392760" cy="358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7" name=""/>
          <p:cNvSpPr/>
          <p:nvPr/>
        </p:nvSpPr>
        <p:spPr>
          <a:xfrm>
            <a:off x="474480" y="5241960"/>
            <a:ext cx="80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Embedding in markup </a:t>
            </a:r>
            <a:r>
              <a:rPr b="1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Child-parent in tree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304-B866-4805-B80E-6662044541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y tree </a:t>
            </a:r>
            <a:r>
              <a:rPr b="0" lang="en-CA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an XML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65760" y="2209680"/>
            <a:ext cx="682920" cy="68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4200" y="4064040"/>
            <a:ext cx="682920" cy="682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496280" y="3048120"/>
            <a:ext cx="682560" cy="682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61880" y="2563920"/>
            <a:ext cx="140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to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b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c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/to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13440" y="2924280"/>
            <a:ext cx="563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"/>
          <p:cNvCxnSpPr>
            <a:stCxn id="75" idx="4"/>
            <a:endCxn id="70" idx="0"/>
          </p:cNvCxnSpPr>
          <p:nvPr/>
        </p:nvCxnSpPr>
        <p:spPr>
          <a:xfrm>
            <a:off x="6132240" y="3733560"/>
            <a:ext cx="3960" cy="330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76" name=""/>
          <p:cNvCxnSpPr>
            <a:stCxn id="69" idx="5"/>
            <a:endCxn id="71" idx="1"/>
          </p:cNvCxnSpPr>
          <p:nvPr/>
        </p:nvCxnSpPr>
        <p:spPr>
          <a:xfrm>
            <a:off x="7248600" y="2792160"/>
            <a:ext cx="348480" cy="35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75" name=""/>
          <p:cNvSpPr/>
          <p:nvPr/>
        </p:nvSpPr>
        <p:spPr>
          <a:xfrm>
            <a:off x="5791320" y="3051000"/>
            <a:ext cx="682560" cy="68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>
            <a:stCxn id="69" idx="3"/>
            <a:endCxn id="75" idx="7"/>
          </p:cNvCxnSpPr>
          <p:nvPr/>
        </p:nvCxnSpPr>
        <p:spPr>
          <a:xfrm flipH="1">
            <a:off x="6373080" y="2792520"/>
            <a:ext cx="392760" cy="358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AFA-2764-4910-AAB6-4A3A33B8C3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Any tree </a:t>
            </a:r>
            <a:r>
              <a:rPr b="0" lang="en-CA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 an XML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65760" y="2209680"/>
            <a:ext cx="682920" cy="68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94200" y="4064040"/>
            <a:ext cx="682920" cy="682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96280" y="3048120"/>
            <a:ext cx="682560" cy="682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61880" y="2563920"/>
            <a:ext cx="247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to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b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fr-FR" sz="2000" spc="-1" strike="noStrike">
                <a:solidFill>
                  <a:srgbClr val="ff0000"/>
                </a:solidFill>
                <a:latin typeface="Courier New"/>
              </a:rPr>
              <a:t>&lt;d&gt;&lt;e/&gt;&lt;/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/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c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</a:rPr>
              <a:t>&lt;/to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13440" y="2924280"/>
            <a:ext cx="563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85" idx="4"/>
            <a:endCxn id="80" idx="0"/>
          </p:cNvCxnSpPr>
          <p:nvPr/>
        </p:nvCxnSpPr>
        <p:spPr>
          <a:xfrm>
            <a:off x="6132240" y="3733560"/>
            <a:ext cx="3960" cy="330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86" name=""/>
          <p:cNvCxnSpPr>
            <a:stCxn id="79" idx="5"/>
            <a:endCxn id="81" idx="1"/>
          </p:cNvCxnSpPr>
          <p:nvPr/>
        </p:nvCxnSpPr>
        <p:spPr>
          <a:xfrm>
            <a:off x="7248600" y="2792160"/>
            <a:ext cx="348480" cy="3560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5" name=""/>
          <p:cNvSpPr/>
          <p:nvPr/>
        </p:nvSpPr>
        <p:spPr>
          <a:xfrm>
            <a:off x="5791320" y="3051000"/>
            <a:ext cx="682560" cy="682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79" idx="3"/>
            <a:endCxn id="85" idx="7"/>
          </p:cNvCxnSpPr>
          <p:nvPr/>
        </p:nvCxnSpPr>
        <p:spPr>
          <a:xfrm flipH="1">
            <a:off x="6373080" y="2792520"/>
            <a:ext cx="392760" cy="358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88" name=""/>
          <p:cNvSpPr/>
          <p:nvPr/>
        </p:nvSpPr>
        <p:spPr>
          <a:xfrm>
            <a:off x="6784920" y="5108400"/>
            <a:ext cx="682560" cy="682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90" idx="4"/>
            <a:endCxn id="88" idx="0"/>
          </p:cNvCxnSpPr>
          <p:nvPr/>
        </p:nvCxnSpPr>
        <p:spPr>
          <a:xfrm>
            <a:off x="7122600" y="4777920"/>
            <a:ext cx="3960" cy="33084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90" name=""/>
          <p:cNvSpPr/>
          <p:nvPr/>
        </p:nvSpPr>
        <p:spPr>
          <a:xfrm>
            <a:off x="6781680" y="4095720"/>
            <a:ext cx="682920" cy="682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5" idx="5"/>
            <a:endCxn id="90" idx="1"/>
          </p:cNvCxnSpPr>
          <p:nvPr/>
        </p:nvCxnSpPr>
        <p:spPr>
          <a:xfrm>
            <a:off x="6373440" y="3633480"/>
            <a:ext cx="508680" cy="5626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sm" type="triangle" w="sm"/>
          </a:ln>
        </p:spPr>
      </p:cxnSp>
      <p:sp>
        <p:nvSpPr>
          <p:cNvPr id="92" name=""/>
          <p:cNvSpPr/>
          <p:nvPr/>
        </p:nvSpPr>
        <p:spPr>
          <a:xfrm>
            <a:off x="902160" y="5246640"/>
            <a:ext cx="393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Perfect isomorphism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680B-A878-4300-A57F-0303B02D40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Document Objec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Ms are essentially graph representations of structured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"Patched" for attributes, namespac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DOM manipulations = graph mod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t suffices to make sure that the graph remains a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8198-6529-4475-B95E-5F2584FF8F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2. Overlap, in markup and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66C-7E74-428D-8399-E250CB86AA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Problem of overl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real life (outside of XML documents!), information is often not purely hierarch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lassical 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verse structur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sente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peech structure </a:t>
            </a:r>
            <a:r>
              <a:rPr b="0" i="1" lang="en-CA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lin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 general: multiple structures applied (at least in part) to same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ves Marcoux - Balisage 200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2E0-4752-4829-8898-D1BACA831A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ves MARCOUX</dc:creator>
  <dc:description>Balisage 2008</dc:description>
  <cp:keywords/>
  <dc:language>en-US</dc:language>
  <cp:lastModifiedBy>marcoux</cp:lastModifiedBy>
  <dcterms:modified xsi:type="dcterms:W3CDTF">2008-09-01T01:55:46Z</dcterms:modified>
  <cp:revision>1454</cp:revision>
  <dc:subject/>
  <dc:title>Graph characterization of overlap-only TexMECS and other overlapping markup formalis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