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0CFC-1B51-40BD-9CE9-39F23134F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8141-7244-4C2E-85B9-284D24D96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88B5-C290-4E81-B9FA-42CBC3A2A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A6C-C132-40AC-87F4-DE2BE7AC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91F-0F0A-45DD-AB28-68208452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5C1-7DC6-4EE3-A58D-1BB6C6B4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32E-4D8B-46E2-B3F3-C9B69CC8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7BE-DC04-4E3D-AB64-22AB6456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2A2-B87F-40B8-833F-40437193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27A-AF03-4A57-81D6-7894885C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43A-ED0C-448A-ABF5-BEEB1220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8BA-9D90-4A8A-87CE-76249926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F47-7918-46C0-B96E-52966AEA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52E-96E5-49BD-93EC-97512B38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D27-5F0A-4B0F-996F-763A0BBF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A78B-8815-4CC9-8ECB-F5F406AFE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5335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Semantic Web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 Pierre Le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low of the Royal Society of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a Research Chair in Collective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Otta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819520"/>
            <a:ext cx="8686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lisage Conference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2008 Montré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proof of concept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urrently under constr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) Dictionary IEML / french / english / portugese, managed by versavant topic-maps, open source in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) IEML Parser and automatic translator in XML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) IEML-oriented customizable semantic database, created and used through a brow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4) semi-automatic translation tool of del.icio.us tags into IEML ta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) Python-based IEML semantic network construction to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ervice-oriented architecture based on the exchange of XML-IEML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303"/>
                </a:solidFill>
                <a:latin typeface="Times New Roman"/>
              </a:rPr>
              <a:t>A semantic agent is a set of IEML service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Layers of Symbolic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57520" y="1219320"/>
            <a:ext cx="5877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(From 2000) Ubiquity, interconnection and animation of cultural signs (software) in cyberspace. Socio-semantic computation. Toward new signs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2362320"/>
            <a:ext cx="6096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(From 1500) massive technical self-reproduction and diffusion of the alphabet and other cultural signs. New languages (animated images, etc.) Scientific notatio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3733920"/>
            <a:ext cx="5867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(From - 1000) Digitization and universalization of writing reduced to thirty phonetic signs. Notation of numbers by position,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43120" y="4800600"/>
            <a:ext cx="54104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(From - 3000) Autonomous technical memory of language. Ideographic Signs. Numerals, measurement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5791320"/>
            <a:ext cx="53341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(From - 300 000) myths, rites, oral transmission, memory inscribed in matter. Icons. Arts of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840" y="5638680"/>
            <a:ext cx="1388880" cy="838440"/>
            <a:chOff x="609840" y="5638680"/>
            <a:chExt cx="1388880" cy="838440"/>
          </a:xfrm>
        </p:grpSpPr>
        <p:sp>
          <p:nvSpPr>
            <p:cNvPr id="58" name=""/>
            <p:cNvSpPr/>
            <p:nvPr/>
          </p:nvSpPr>
          <p:spPr>
            <a:xfrm>
              <a:off x="609840" y="5638680"/>
              <a:ext cx="133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000000"/>
                  </a:solidFill>
                  <a:latin typeface="Times New Roman"/>
                </a:rPr>
                <a:t>Oral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3440" y="6019920"/>
              <a:ext cx="1295280" cy="457200"/>
            </a:xfrm>
            <a:custGeom>
              <a:avLst/>
              <a:gdLst>
                <a:gd name="textAreaLeft" fmla="*/ 202320 w 1295280"/>
                <a:gd name="textAreaRight" fmla="*/ 1133640 w 129528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57560" y="4495680"/>
            <a:ext cx="1523520" cy="914400"/>
            <a:chOff x="457560" y="4495680"/>
            <a:chExt cx="1523520" cy="914400"/>
          </a:xfrm>
        </p:grpSpPr>
        <p:sp>
          <p:nvSpPr>
            <p:cNvPr id="61" name=""/>
            <p:cNvSpPr/>
            <p:nvPr/>
          </p:nvSpPr>
          <p:spPr>
            <a:xfrm>
              <a:off x="457560" y="449568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000000"/>
                  </a:solidFill>
                  <a:latin typeface="Times New Roman"/>
                </a:rPr>
                <a:t>Wri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800" y="4952880"/>
              <a:ext cx="1295280" cy="457200"/>
            </a:xfrm>
            <a:custGeom>
              <a:avLst/>
              <a:gdLst>
                <a:gd name="textAreaLeft" fmla="*/ 202320 w 1295280"/>
                <a:gd name="textAreaRight" fmla="*/ 1133640 w 129528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81600" y="3382920"/>
            <a:ext cx="1675800" cy="884160"/>
            <a:chOff x="381600" y="3382920"/>
            <a:chExt cx="1675800" cy="884160"/>
          </a:xfrm>
        </p:grpSpPr>
        <p:sp>
          <p:nvSpPr>
            <p:cNvPr id="64" name=""/>
            <p:cNvSpPr/>
            <p:nvPr/>
          </p:nvSpPr>
          <p:spPr>
            <a:xfrm>
              <a:off x="381600" y="3382920"/>
              <a:ext cx="167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000000"/>
                  </a:solidFill>
                  <a:latin typeface="Times New Roman"/>
                </a:rPr>
                <a:t>Alphab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800" y="3809880"/>
              <a:ext cx="1295280" cy="457200"/>
            </a:xfrm>
            <a:custGeom>
              <a:avLst/>
              <a:gdLst>
                <a:gd name="textAreaLeft" fmla="*/ 202320 w 1295280"/>
                <a:gd name="textAreaRight" fmla="*/ 1133640 w 129528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25880" y="2286000"/>
            <a:ext cx="2139120" cy="914400"/>
            <a:chOff x="425880" y="2286000"/>
            <a:chExt cx="2139120" cy="914400"/>
          </a:xfrm>
        </p:grpSpPr>
        <p:sp>
          <p:nvSpPr>
            <p:cNvPr id="67" name=""/>
            <p:cNvSpPr/>
            <p:nvPr/>
          </p:nvSpPr>
          <p:spPr>
            <a:xfrm>
              <a:off x="425880" y="2286000"/>
              <a:ext cx="21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000000"/>
                  </a:solidFill>
                  <a:latin typeface="Times New Roman"/>
                </a:rPr>
                <a:t>Mass med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800" y="2743200"/>
              <a:ext cx="1295280" cy="457200"/>
            </a:xfrm>
            <a:custGeom>
              <a:avLst/>
              <a:gdLst>
                <a:gd name="textAreaLeft" fmla="*/ 202320 w 1295280"/>
                <a:gd name="textAreaRight" fmla="*/ 1133640 w 129528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e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24720" y="1219320"/>
            <a:ext cx="2084040" cy="914400"/>
            <a:chOff x="324720" y="1219320"/>
            <a:chExt cx="2084040" cy="914400"/>
          </a:xfrm>
        </p:grpSpPr>
        <p:sp>
          <p:nvSpPr>
            <p:cNvPr id="70" name=""/>
            <p:cNvSpPr/>
            <p:nvPr/>
          </p:nvSpPr>
          <p:spPr>
            <a:xfrm>
              <a:off x="324720" y="1219320"/>
              <a:ext cx="208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000000"/>
                  </a:solidFill>
                  <a:latin typeface="Times New Roman"/>
                </a:rPr>
                <a:t>Cyberspa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1676520"/>
              <a:ext cx="1295280" cy="457200"/>
            </a:xfrm>
            <a:custGeom>
              <a:avLst/>
              <a:gdLst>
                <a:gd name="textAreaLeft" fmla="*/ 202320 w 1295280"/>
                <a:gd name="textAreaRight" fmla="*/ 1133640 w 129528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5e04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096240" cy="5333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59277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the digital conversation ! But what about semantic interoperability: different languages, folksonomies, classifications, ontologies..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60480"/>
            <a:ext cx="899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n.0, Social Computing, Crowdsourcing : A Global Conversation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819520" y="2590920"/>
            <a:ext cx="3504960" cy="1981080"/>
          </a:xfrm>
          <a:prstGeom prst="ellipse">
            <a:avLst/>
          </a:prstGeom>
          <a:solidFill>
            <a:srgbClr val="b2ce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ward an Inter-Cloud Collective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-3114360" y="3306600"/>
            <a:ext cx="66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u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istributed databases for socio-semiotic computing of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160400">
            <a:off x="1218960" y="1675800"/>
            <a:ext cx="1676520" cy="1371600"/>
          </a:xfrm>
          <a:prstGeom prst="cloudCallout">
            <a:avLst>
              <a:gd name="adj1" fmla="val -53745"/>
              <a:gd name="adj2" fmla="val 63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1181200">
            <a:off x="6172200" y="1599840"/>
            <a:ext cx="1676520" cy="1371600"/>
          </a:xfrm>
          <a:prstGeom prst="cloudCallout">
            <a:avLst>
              <a:gd name="adj1" fmla="val -53745"/>
              <a:gd name="adj2" fmla="val 63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12000">
            <a:off x="3733920" y="685800"/>
            <a:ext cx="1676160" cy="1371600"/>
          </a:xfrm>
          <a:prstGeom prst="cloudCallout">
            <a:avLst>
              <a:gd name="adj1" fmla="val -53745"/>
              <a:gd name="adj2" fmla="val 63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 rot="5439600">
            <a:off x="1218960" y="4418280"/>
            <a:ext cx="1676520" cy="1371600"/>
          </a:xfrm>
          <a:prstGeom prst="cloudCallout">
            <a:avLst>
              <a:gd name="adj1" fmla="val -71199"/>
              <a:gd name="adj2" fmla="val 51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 rot="418800">
            <a:off x="6172200" y="4343040"/>
            <a:ext cx="1676520" cy="1371600"/>
          </a:xfrm>
          <a:prstGeom prst="cloudCallout">
            <a:avLst>
              <a:gd name="adj1" fmla="val -56055"/>
              <a:gd name="adj2" fmla="val 70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 rot="2688000">
            <a:off x="3733920" y="5257800"/>
            <a:ext cx="1676160" cy="1371600"/>
          </a:xfrm>
          <a:prstGeom prst="cloudCallout">
            <a:avLst>
              <a:gd name="adj1" fmla="val -69430"/>
              <a:gd name="adj2" fmla="val 67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472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990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ic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19494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60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48006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2971800"/>
            <a:ext cx="2438640" cy="1219320"/>
          </a:xfrm>
          <a:prstGeom prst="ellipse">
            <a:avLst/>
          </a:prstGeom>
          <a:solidFill>
            <a:srgbClr val="43ae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MANTIC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form Semantic Lo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95760" y="2666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95760" y="411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8760" y="6491160"/>
            <a:ext cx="38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ntic t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ame in cloud / U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715240" y="407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75960"/>
            <a:ext cx="624852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Digital Memory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15200" y="542304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905120" y="5486400"/>
            <a:ext cx="670536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terconnection between transis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r memory = bits address</a:t>
            </a:r>
            <a:r>
              <a:rPr b="0" lang="en-US" sz="2200" spc="-1" strike="noStrike">
                <a:solidFill>
                  <a:srgbClr val="000000"/>
                </a:solidFill>
                <a:latin typeface="Baskerville"/>
              </a:rPr>
              <a:t>.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Baskerville"/>
              </a:rPr>
              <a:t>Operating systems, programming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"/>
              </a:rPr>
              <a:t>Augmentation of arithmetical and logical processin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266760" y="5803920"/>
            <a:ext cx="1035000" cy="517680"/>
          </a:xfrm>
          <a:prstGeom prst="pie">
            <a:avLst/>
          </a:prstGeom>
          <a:solidFill>
            <a:srgbClr val="ff1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6600" y="38098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905120" y="3886200"/>
            <a:ext cx="624816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terconnection between computers.</a:t>
            </a:r>
            <a:r>
              <a:rPr b="0" lang="en-US" sz="2200" spc="-1" strike="noStrike">
                <a:solidFill>
                  <a:srgbClr val="000000"/>
                </a:solidFill>
                <a:latin typeface="Baskervil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Protocol = server address.</a:t>
            </a:r>
            <a:r>
              <a:rPr b="0" lang="en-US" sz="2200" spc="-1" strike="noStrike">
                <a:solidFill>
                  <a:srgbClr val="000000"/>
                </a:solidFill>
                <a:latin typeface="Baskervil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askerville"/>
              </a:rPr>
              <a:t>Routers, user-friendly PC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"/>
              </a:rPr>
              <a:t>Personal computing. Virtual communities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Baskerville"/>
              </a:rPr>
              <a:t>Digital media converge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266760" y="4194000"/>
            <a:ext cx="1035000" cy="517680"/>
          </a:xfrm>
          <a:prstGeom prst="pie">
            <a:avLst/>
          </a:prstGeom>
          <a:solidFill>
            <a:srgbClr val="ffce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905120" y="2438280"/>
            <a:ext cx="60958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terconnection between documents.</a:t>
            </a:r>
            <a:r>
              <a:rPr b="0" lang="en-US" sz="2200" spc="-1" strike="noStrike">
                <a:solidFill>
                  <a:srgbClr val="000000"/>
                </a:solidFill>
                <a:latin typeface="Baskervil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L = http:// page address.</a:t>
            </a:r>
            <a:r>
              <a:rPr b="0" lang="en-US" sz="2200" spc="-1" strike="noStrike">
                <a:solidFill>
                  <a:srgbClr val="000000"/>
                </a:solidFill>
                <a:latin typeface="Baskervil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askerville"/>
              </a:rPr>
              <a:t>Centralized search engines, brows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"/>
              </a:rPr>
              <a:t>Global multimedia public sphe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17080" y="2438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266760" y="2743200"/>
            <a:ext cx="1035000" cy="549360"/>
          </a:xfrm>
          <a:prstGeom prst="pie">
            <a:avLst/>
          </a:prstGeom>
          <a:solidFill>
            <a:srgbClr val="14bd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52280" y="819000"/>
            <a:ext cx="1981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mantic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905120" y="981000"/>
            <a:ext cx="723888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terconnection between semantic tags.</a:t>
            </a:r>
            <a:r>
              <a:rPr b="0" lang="en-US" sz="2200" spc="-1" strike="noStrike">
                <a:solidFill>
                  <a:srgbClr val="000000"/>
                </a:solidFill>
                <a:latin typeface="Baskerville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L</a:t>
            </a:r>
            <a:r>
              <a:rPr b="0" lang="en-US" sz="2200" spc="-1" strike="noStrike">
                <a:solidFill>
                  <a:srgbClr val="000000"/>
                </a:solidFill>
                <a:latin typeface="Baskerville"/>
              </a:rPr>
              <a:t> = 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ML&gt; *concept address** &lt;/IEML&gt;.</a:t>
            </a:r>
            <a:r>
              <a:rPr b="0" lang="en-US" sz="2200" spc="-1" strike="noStrike">
                <a:solidFill>
                  <a:srgbClr val="000000"/>
                </a:solidFill>
                <a:latin typeface="Baskervil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askerville"/>
              </a:rPr>
              <a:t>Collaborative network of semantic agents, subject-centric computation.</a:t>
            </a:r>
            <a:r>
              <a:rPr b="0" lang="en-US" sz="2200" spc="-1" strike="noStrike">
                <a:solidFill>
                  <a:srgbClr val="000000"/>
                </a:solidFill>
                <a:latin typeface="Baskerville"/>
              </a:rPr>
              <a:t> Collective intelligence growth. Augmentation of sense-ma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266760" y="1346040"/>
            <a:ext cx="1036440" cy="490680"/>
          </a:xfrm>
          <a:prstGeom prst="pie">
            <a:avLst/>
          </a:prstGeom>
          <a:solidFill>
            <a:srgbClr val="050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273960" y="6283440"/>
            <a:ext cx="631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273960" y="4675320"/>
            <a:ext cx="631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273960" y="3227400"/>
            <a:ext cx="631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273960" y="1825560"/>
            <a:ext cx="631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ML Semantic Space: the meta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ML is a finite regular language in Chomsky’s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IEML U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4 semantic characters (one semantic character = six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formal concepts of 6 layers of recursive complexity combining 6 primi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yptographic quant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IEML US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pretability in natural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yers and compositionality: roots, words, phrases, paragraphs, text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rammatical functions: subject, verb, objec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jugations, cases, prepositions, adverb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lti-lingual IEML dictionary is built in such a way that </a:t>
            </a:r>
            <a:r>
              <a:rPr b="0" i="1" lang="en-US" sz="1800" spc="-1" strike="noStrike">
                <a:solidFill>
                  <a:srgbClr val="ff0303"/>
                </a:solidFill>
                <a:latin typeface="Arial"/>
              </a:rPr>
              <a:t>the semantic relationships between signifieds (concepts) are reflected into the syntactic relationships between signifiers (IEML USL cod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38520" y="1959120"/>
            <a:ext cx="0" cy="2960640"/>
          </a:xfrm>
          <a:prstGeom prst="line">
            <a:avLst/>
          </a:prstGeom>
          <a:ln w="28440">
            <a:solidFill>
              <a:srgbClr val="a1c2c5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2944800"/>
            <a:ext cx="0" cy="922320"/>
          </a:xfrm>
          <a:prstGeom prst="line">
            <a:avLst/>
          </a:prstGeom>
          <a:ln w="28440">
            <a:solidFill>
              <a:srgbClr val="a1c2c5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6880" y="2944800"/>
            <a:ext cx="0" cy="987480"/>
          </a:xfrm>
          <a:prstGeom prst="line">
            <a:avLst/>
          </a:prstGeom>
          <a:ln w="28440">
            <a:solidFill>
              <a:srgbClr val="a1c2c5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110760" y="1613880"/>
            <a:ext cx="970920" cy="556920"/>
          </a:xfrm>
          <a:prstGeom prst="line">
            <a:avLst/>
          </a:prstGeom>
          <a:ln w="28440">
            <a:solidFill>
              <a:srgbClr val="a1c2c5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033520" y="1595160"/>
            <a:ext cx="1019160" cy="533520"/>
          </a:xfrm>
          <a:prstGeom prst="line">
            <a:avLst/>
          </a:prstGeom>
          <a:ln w="28440">
            <a:solidFill>
              <a:srgbClr val="a1c2c5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053520" y="4804920"/>
            <a:ext cx="960840" cy="589680"/>
          </a:xfrm>
          <a:prstGeom prst="line">
            <a:avLst/>
          </a:prstGeom>
          <a:ln w="28440">
            <a:solidFill>
              <a:srgbClr val="a1c2c5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93200" y="4838040"/>
            <a:ext cx="970920" cy="556920"/>
          </a:xfrm>
          <a:prstGeom prst="line">
            <a:avLst/>
          </a:prstGeom>
          <a:ln w="28440">
            <a:solidFill>
              <a:srgbClr val="a1c2c5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89160" y="2352600"/>
            <a:ext cx="2832120" cy="0"/>
          </a:xfrm>
          <a:prstGeom prst="line">
            <a:avLst/>
          </a:prstGeom>
          <a:ln w="28440">
            <a:solidFill>
              <a:srgbClr val="a1c2c5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89160" y="4591080"/>
            <a:ext cx="2832120" cy="0"/>
          </a:xfrm>
          <a:prstGeom prst="line">
            <a:avLst/>
          </a:prstGeom>
          <a:ln w="28440">
            <a:solidFill>
              <a:srgbClr val="a1c2c5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73880" y="2813040"/>
            <a:ext cx="1280520" cy="2041560"/>
          </a:xfrm>
          <a:prstGeom prst="line">
            <a:avLst/>
          </a:prstGeom>
          <a:ln w="28440">
            <a:solidFill>
              <a:srgbClr val="9fc2d1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892760" y="2833920"/>
            <a:ext cx="1282320" cy="2041200"/>
          </a:xfrm>
          <a:prstGeom prst="line">
            <a:avLst/>
          </a:prstGeom>
          <a:ln w="28440">
            <a:solidFill>
              <a:srgbClr val="9fc2d1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851920" y="1872360"/>
            <a:ext cx="3301560" cy="2356560"/>
            <a:chOff x="2851920" y="1872360"/>
            <a:chExt cx="3301560" cy="2356560"/>
          </a:xfrm>
        </p:grpSpPr>
        <p:sp>
          <p:nvSpPr>
            <p:cNvPr id="126" name=""/>
            <p:cNvSpPr/>
            <p:nvPr/>
          </p:nvSpPr>
          <p:spPr>
            <a:xfrm>
              <a:off x="3083400" y="2598480"/>
              <a:ext cx="2899080" cy="1581840"/>
            </a:xfrm>
            <a:prstGeom prst="line">
              <a:avLst/>
            </a:prstGeom>
            <a:ln w="28440">
              <a:solidFill>
                <a:srgbClr val="a1c2c5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040920" y="2533680"/>
              <a:ext cx="2989800" cy="1695240"/>
            </a:xfrm>
            <a:prstGeom prst="line">
              <a:avLst/>
            </a:prstGeom>
            <a:ln w="28440">
              <a:solidFill>
                <a:srgbClr val="a1c2c5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51920" y="1872360"/>
              <a:ext cx="3301560" cy="2059560"/>
              <a:chOff x="2851920" y="1872360"/>
              <a:chExt cx="3301560" cy="2059560"/>
            </a:xfrm>
          </p:grpSpPr>
          <p:sp>
            <p:nvSpPr>
              <p:cNvPr id="129" name=""/>
              <p:cNvSpPr/>
              <p:nvPr/>
            </p:nvSpPr>
            <p:spPr>
              <a:xfrm flipV="1">
                <a:off x="2851920" y="1892160"/>
                <a:ext cx="1280880" cy="2039760"/>
              </a:xfrm>
              <a:prstGeom prst="line">
                <a:avLst/>
              </a:prstGeom>
              <a:ln w="28440">
                <a:solidFill>
                  <a:srgbClr val="a1c2c5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flipV="1">
                <a:off x="4872600" y="1872360"/>
                <a:ext cx="1280880" cy="2039400"/>
              </a:xfrm>
              <a:prstGeom prst="line">
                <a:avLst/>
              </a:prstGeom>
              <a:ln w="28440">
                <a:solidFill>
                  <a:srgbClr val="a1c2c5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5943600" y="1447920"/>
            <a:ext cx="25146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inanc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petenc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Power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304920"/>
            <a:ext cx="2895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Governance /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ights / du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Will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447920"/>
            <a:ext cx="28195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rt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Knowledge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4657680"/>
            <a:ext cx="2667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dia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ocumentary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5803920"/>
            <a:ext cx="29718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ust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ocial role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Personal network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648320"/>
            <a:ext cx="28958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quipment / technolog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Health / environment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odily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7640" y="3043080"/>
            <a:ext cx="1300320" cy="72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3aee3"/>
                </a:solidFill>
                <a:latin typeface="Times New Roman"/>
              </a:rPr>
              <a:t>Collective</a:t>
            </a:r>
            <a:br>
              <a:rPr sz="1800"/>
            </a:br>
            <a:r>
              <a:rPr b="1" lang="fr-FR" sz="1800" spc="-1" strike="noStrike">
                <a:solidFill>
                  <a:srgbClr val="43aee3"/>
                </a:solidFill>
                <a:latin typeface="Times New Roman"/>
              </a:rPr>
              <a:t>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32080" y="4087800"/>
            <a:ext cx="98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07160" y="4087800"/>
            <a:ext cx="120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PHYSIC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36880" y="92556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33880" y="225900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STEM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4960" y="2259000"/>
            <a:ext cx="103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1752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343400" y="1447920"/>
            <a:ext cx="457200" cy="0"/>
            <a:chOff x="4343400" y="1447920"/>
            <a:chExt cx="457200" cy="0"/>
          </a:xfrm>
        </p:grpSpPr>
        <p:sp>
          <p:nvSpPr>
            <p:cNvPr id="145" name=""/>
            <p:cNvSpPr/>
            <p:nvPr/>
          </p:nvSpPr>
          <p:spPr>
            <a:xfrm>
              <a:off x="4343400" y="14479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47960" y="14479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343400" y="1600200"/>
            <a:ext cx="457200" cy="0"/>
            <a:chOff x="4343400" y="1600200"/>
            <a:chExt cx="457200" cy="0"/>
          </a:xfrm>
        </p:grpSpPr>
        <p:sp>
          <p:nvSpPr>
            <p:cNvPr id="148" name=""/>
            <p:cNvSpPr/>
            <p:nvPr/>
          </p:nvSpPr>
          <p:spPr>
            <a:xfrm>
              <a:off x="4343400" y="16002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47960" y="160020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343400" y="1676520"/>
            <a:ext cx="457200" cy="0"/>
            <a:chOff x="4343400" y="1676520"/>
            <a:chExt cx="457200" cy="0"/>
          </a:xfrm>
        </p:grpSpPr>
        <p:sp>
          <p:nvSpPr>
            <p:cNvPr id="151" name=""/>
            <p:cNvSpPr/>
            <p:nvPr/>
          </p:nvSpPr>
          <p:spPr>
            <a:xfrm>
              <a:off x="4343400" y="16765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7960" y="16765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343400" y="1828800"/>
            <a:ext cx="457200" cy="0"/>
            <a:chOff x="4343400" y="1828800"/>
            <a:chExt cx="457200" cy="0"/>
          </a:xfrm>
        </p:grpSpPr>
        <p:sp>
          <p:nvSpPr>
            <p:cNvPr id="154" name=""/>
            <p:cNvSpPr/>
            <p:nvPr/>
          </p:nvSpPr>
          <p:spPr>
            <a:xfrm>
              <a:off x="4343400" y="18288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7960" y="182880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343400" y="1523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172200" y="2286000"/>
            <a:ext cx="457200" cy="0"/>
            <a:chOff x="6172200" y="2286000"/>
            <a:chExt cx="457200" cy="0"/>
          </a:xfrm>
        </p:grpSpPr>
        <p:sp>
          <p:nvSpPr>
            <p:cNvPr id="159" name=""/>
            <p:cNvSpPr/>
            <p:nvPr/>
          </p:nvSpPr>
          <p:spPr>
            <a:xfrm>
              <a:off x="617220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6760" y="228600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172200" y="2438280"/>
            <a:ext cx="457200" cy="0"/>
            <a:chOff x="6172200" y="2438280"/>
            <a:chExt cx="457200" cy="0"/>
          </a:xfrm>
        </p:grpSpPr>
        <p:sp>
          <p:nvSpPr>
            <p:cNvPr id="162" name=""/>
            <p:cNvSpPr/>
            <p:nvPr/>
          </p:nvSpPr>
          <p:spPr>
            <a:xfrm>
              <a:off x="6172200" y="2438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76760" y="24382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172200" y="2514600"/>
            <a:ext cx="457200" cy="0"/>
            <a:chOff x="6172200" y="2514600"/>
            <a:chExt cx="457200" cy="0"/>
          </a:xfrm>
        </p:grpSpPr>
        <p:sp>
          <p:nvSpPr>
            <p:cNvPr id="165" name=""/>
            <p:cNvSpPr/>
            <p:nvPr/>
          </p:nvSpPr>
          <p:spPr>
            <a:xfrm>
              <a:off x="6172200" y="25146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76760" y="251460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172200" y="2590920"/>
            <a:ext cx="457200" cy="0"/>
            <a:chOff x="6172200" y="2590920"/>
            <a:chExt cx="457200" cy="0"/>
          </a:xfrm>
        </p:grpSpPr>
        <p:sp>
          <p:nvSpPr>
            <p:cNvPr id="168" name=""/>
            <p:cNvSpPr/>
            <p:nvPr/>
          </p:nvSpPr>
          <p:spPr>
            <a:xfrm>
              <a:off x="6172200" y="25909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76760" y="25909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172200" y="2362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514600" y="2286000"/>
            <a:ext cx="457200" cy="0"/>
            <a:chOff x="2514600" y="2286000"/>
            <a:chExt cx="457200" cy="0"/>
          </a:xfrm>
        </p:grpSpPr>
        <p:sp>
          <p:nvSpPr>
            <p:cNvPr id="173" name=""/>
            <p:cNvSpPr/>
            <p:nvPr/>
          </p:nvSpPr>
          <p:spPr>
            <a:xfrm>
              <a:off x="251460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19160" y="228600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14600" y="2438280"/>
            <a:ext cx="457200" cy="0"/>
            <a:chOff x="2514600" y="2438280"/>
            <a:chExt cx="457200" cy="0"/>
          </a:xfrm>
        </p:grpSpPr>
        <p:sp>
          <p:nvSpPr>
            <p:cNvPr id="176" name=""/>
            <p:cNvSpPr/>
            <p:nvPr/>
          </p:nvSpPr>
          <p:spPr>
            <a:xfrm>
              <a:off x="2514600" y="2438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19160" y="24382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514600" y="2590920"/>
            <a:ext cx="457200" cy="0"/>
            <a:chOff x="2514600" y="2590920"/>
            <a:chExt cx="457200" cy="0"/>
          </a:xfrm>
        </p:grpSpPr>
        <p:sp>
          <p:nvSpPr>
            <p:cNvPr id="179" name=""/>
            <p:cNvSpPr/>
            <p:nvPr/>
          </p:nvSpPr>
          <p:spPr>
            <a:xfrm>
              <a:off x="2514600" y="25909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19160" y="25909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514600" y="2666880"/>
            <a:ext cx="457200" cy="0"/>
            <a:chOff x="2514600" y="2666880"/>
            <a:chExt cx="457200" cy="0"/>
          </a:xfrm>
        </p:grpSpPr>
        <p:sp>
          <p:nvSpPr>
            <p:cNvPr id="182" name=""/>
            <p:cNvSpPr/>
            <p:nvPr/>
          </p:nvSpPr>
          <p:spPr>
            <a:xfrm>
              <a:off x="2514600" y="26668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160" y="26668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514600" y="2362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62440" y="559260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514600" y="4191120"/>
            <a:ext cx="457200" cy="380880"/>
            <a:chOff x="2514600" y="4191120"/>
            <a:chExt cx="457200" cy="380880"/>
          </a:xfrm>
        </p:grpSpPr>
        <p:sp>
          <p:nvSpPr>
            <p:cNvPr id="187" name=""/>
            <p:cNvSpPr/>
            <p:nvPr/>
          </p:nvSpPr>
          <p:spPr>
            <a:xfrm>
              <a:off x="251460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514600" y="4191120"/>
              <a:ext cx="457200" cy="0"/>
              <a:chOff x="2514600" y="4191120"/>
              <a:chExt cx="457200" cy="0"/>
            </a:xfrm>
          </p:grpSpPr>
          <p:sp>
            <p:nvSpPr>
              <p:cNvPr id="189" name=""/>
              <p:cNvSpPr/>
              <p:nvPr/>
            </p:nvSpPr>
            <p:spPr>
              <a:xfrm>
                <a:off x="2514600" y="41911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819160" y="4191120"/>
                <a:ext cx="15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514600" y="4267440"/>
              <a:ext cx="457200" cy="0"/>
              <a:chOff x="2514600" y="4267440"/>
              <a:chExt cx="457200" cy="0"/>
            </a:xfrm>
          </p:grpSpPr>
          <p:sp>
            <p:nvSpPr>
              <p:cNvPr id="192" name=""/>
              <p:cNvSpPr/>
              <p:nvPr/>
            </p:nvSpPr>
            <p:spPr>
              <a:xfrm>
                <a:off x="2514600" y="426744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19160" y="4267440"/>
                <a:ext cx="15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2514600" y="4496040"/>
              <a:ext cx="457200" cy="0"/>
              <a:chOff x="2514600" y="4496040"/>
              <a:chExt cx="457200" cy="0"/>
            </a:xfrm>
          </p:grpSpPr>
          <p:sp>
            <p:nvSpPr>
              <p:cNvPr id="195" name=""/>
              <p:cNvSpPr/>
              <p:nvPr/>
            </p:nvSpPr>
            <p:spPr>
              <a:xfrm>
                <a:off x="2514600" y="449604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19160" y="4496040"/>
                <a:ext cx="15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2514600" y="4572000"/>
              <a:ext cx="457200" cy="0"/>
              <a:chOff x="2514600" y="4572000"/>
              <a:chExt cx="457200" cy="0"/>
            </a:xfrm>
          </p:grpSpPr>
          <p:sp>
            <p:nvSpPr>
              <p:cNvPr id="198" name=""/>
              <p:cNvSpPr/>
              <p:nvPr/>
            </p:nvSpPr>
            <p:spPr>
              <a:xfrm>
                <a:off x="2514600" y="45720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819160" y="4572000"/>
                <a:ext cx="15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251460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34340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343400" y="5105520"/>
            <a:ext cx="457200" cy="0"/>
            <a:chOff x="4343400" y="5105520"/>
            <a:chExt cx="457200" cy="0"/>
          </a:xfrm>
        </p:grpSpPr>
        <p:sp>
          <p:nvSpPr>
            <p:cNvPr id="203" name=""/>
            <p:cNvSpPr/>
            <p:nvPr/>
          </p:nvSpPr>
          <p:spPr>
            <a:xfrm>
              <a:off x="4343400" y="51055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47960" y="51055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343400" y="5181480"/>
            <a:ext cx="457200" cy="0"/>
            <a:chOff x="4343400" y="5181480"/>
            <a:chExt cx="457200" cy="0"/>
          </a:xfrm>
        </p:grpSpPr>
        <p:sp>
          <p:nvSpPr>
            <p:cNvPr id="206" name=""/>
            <p:cNvSpPr/>
            <p:nvPr/>
          </p:nvSpPr>
          <p:spPr>
            <a:xfrm>
              <a:off x="4343400" y="51814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47960" y="51814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343400" y="5334120"/>
            <a:ext cx="457200" cy="0"/>
            <a:chOff x="4343400" y="5334120"/>
            <a:chExt cx="457200" cy="0"/>
          </a:xfrm>
        </p:grpSpPr>
        <p:sp>
          <p:nvSpPr>
            <p:cNvPr id="209" name=""/>
            <p:cNvSpPr/>
            <p:nvPr/>
          </p:nvSpPr>
          <p:spPr>
            <a:xfrm>
              <a:off x="4343400" y="53341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47960" y="53341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343400" y="5486400"/>
            <a:ext cx="457200" cy="0"/>
            <a:chOff x="4343400" y="5486400"/>
            <a:chExt cx="457200" cy="0"/>
          </a:xfrm>
        </p:grpSpPr>
        <p:sp>
          <p:nvSpPr>
            <p:cNvPr id="212" name=""/>
            <p:cNvSpPr/>
            <p:nvPr/>
          </p:nvSpPr>
          <p:spPr>
            <a:xfrm>
              <a:off x="4343400" y="54864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47960" y="548640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4572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172200" y="4191120"/>
            <a:ext cx="457200" cy="0"/>
            <a:chOff x="6172200" y="4191120"/>
            <a:chExt cx="457200" cy="0"/>
          </a:xfrm>
        </p:grpSpPr>
        <p:sp>
          <p:nvSpPr>
            <p:cNvPr id="217" name=""/>
            <p:cNvSpPr/>
            <p:nvPr/>
          </p:nvSpPr>
          <p:spPr>
            <a:xfrm>
              <a:off x="6172200" y="41911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76760" y="41911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172200" y="4267080"/>
            <a:ext cx="457200" cy="0"/>
            <a:chOff x="6172200" y="4267080"/>
            <a:chExt cx="457200" cy="0"/>
          </a:xfrm>
        </p:grpSpPr>
        <p:sp>
          <p:nvSpPr>
            <p:cNvPr id="220" name=""/>
            <p:cNvSpPr/>
            <p:nvPr/>
          </p:nvSpPr>
          <p:spPr>
            <a:xfrm>
              <a:off x="6172200" y="42670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76760" y="42670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172200" y="4419720"/>
            <a:ext cx="457200" cy="0"/>
            <a:chOff x="6172200" y="4419720"/>
            <a:chExt cx="457200" cy="0"/>
          </a:xfrm>
        </p:grpSpPr>
        <p:sp>
          <p:nvSpPr>
            <p:cNvPr id="223" name=""/>
            <p:cNvSpPr/>
            <p:nvPr/>
          </p:nvSpPr>
          <p:spPr>
            <a:xfrm>
              <a:off x="6172200" y="4419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76760" y="44197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172200" y="4495680"/>
            <a:ext cx="457200" cy="0"/>
            <a:chOff x="6172200" y="4495680"/>
            <a:chExt cx="457200" cy="0"/>
          </a:xfrm>
        </p:grpSpPr>
        <p:sp>
          <p:nvSpPr>
            <p:cNvPr id="226" name=""/>
            <p:cNvSpPr/>
            <p:nvPr/>
          </p:nvSpPr>
          <p:spPr>
            <a:xfrm>
              <a:off x="6172200" y="44956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76760" y="44956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1722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ML Semantic Space: the group of trans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610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ML USLs are elements of a finite field : a group of semantic transformations allowing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t opera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&gt; semantic functions combining set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pts chang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yntactic posi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US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ML USL = formal thought = variable = set of semantic singula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ML Hyperlink = cognitive operation = function = computable transformations between semantic singula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neralization, particularization, analysis, synthesis, sorting, substitution on parts, mereological composition or decompositio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3962520"/>
            <a:ext cx="35049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41911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419112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4419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75120" y="36568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mantic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22240" y="414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760" y="510552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eneration of semantic links between USLs from the diction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tion, observation, mapping, navigation of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antic networks, semantic paths, semantic currents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303"/>
                </a:solidFill>
                <a:latin typeface="Arial"/>
              </a:rPr>
              <a:t>A new intellectual technology / symbolic system for inter-cloud socio-semantic computing (collective intelligen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28800" y="1828800"/>
            <a:ext cx="5410080" cy="3581280"/>
          </a:xfrm>
          <a:prstGeom prst="ellipse">
            <a:avLst/>
          </a:prstGeom>
          <a:solidFill>
            <a:srgbClr val="e3da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-2889000" y="3526920"/>
            <a:ext cx="62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u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istributed databases for socio-semiotic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286000"/>
            <a:ext cx="4724640" cy="2666880"/>
          </a:xfrm>
          <a:prstGeom prst="ellipse">
            <a:avLst/>
          </a:prstGeom>
          <a:solidFill>
            <a:srgbClr val="43ae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EML SEMANTIC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715240" y="407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7397000">
            <a:off x="2361960" y="456840"/>
            <a:ext cx="1676160" cy="1371600"/>
          </a:xfrm>
          <a:prstGeom prst="cloudCallout">
            <a:avLst>
              <a:gd name="adj1" fmla="val -53745"/>
              <a:gd name="adj2" fmla="val 6370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4506200">
            <a:off x="304920" y="2971440"/>
            <a:ext cx="1676160" cy="1371600"/>
          </a:xfrm>
          <a:prstGeom prst="cloudCallout">
            <a:avLst>
              <a:gd name="adj1" fmla="val -54763"/>
              <a:gd name="adj2" fmla="val 529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181200">
            <a:off x="6781680" y="1142640"/>
            <a:ext cx="1676520" cy="1371600"/>
          </a:xfrm>
          <a:prstGeom prst="cloudCallout">
            <a:avLst>
              <a:gd name="adj1" fmla="val -53745"/>
              <a:gd name="adj2" fmla="val 6370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912000">
            <a:off x="3733920" y="228600"/>
            <a:ext cx="1676160" cy="1371600"/>
          </a:xfrm>
          <a:prstGeom prst="cloudCallout">
            <a:avLst>
              <a:gd name="adj1" fmla="val -53745"/>
              <a:gd name="adj2" fmla="val 6370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 rot="5439600">
            <a:off x="1142640" y="4875480"/>
            <a:ext cx="1676520" cy="1371600"/>
          </a:xfrm>
          <a:prstGeom prst="cloudCallout">
            <a:avLst>
              <a:gd name="adj1" fmla="val -61509"/>
              <a:gd name="adj2" fmla="val 45476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 rot="418800">
            <a:off x="6553080" y="4647960"/>
            <a:ext cx="1676520" cy="1371600"/>
          </a:xfrm>
          <a:prstGeom prst="cloudCallout">
            <a:avLst>
              <a:gd name="adj1" fmla="val -47574"/>
              <a:gd name="adj2" fmla="val 59708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 rot="2688000">
            <a:off x="3733920" y="5257800"/>
            <a:ext cx="1676160" cy="1371600"/>
          </a:xfrm>
          <a:prstGeom prst="cloudCallout">
            <a:avLst>
              <a:gd name="adj1" fmla="val -37597"/>
              <a:gd name="adj2" fmla="val 4552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 rot="4185000">
            <a:off x="2285640" y="5257440"/>
            <a:ext cx="1676160" cy="1371240"/>
          </a:xfrm>
          <a:prstGeom prst="cloudCallout">
            <a:avLst>
              <a:gd name="adj1" fmla="val -47157"/>
              <a:gd name="adj2" fmla="val 49726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160400">
            <a:off x="1142640" y="837720"/>
            <a:ext cx="1676520" cy="1371600"/>
          </a:xfrm>
          <a:prstGeom prst="cloudCallout">
            <a:avLst>
              <a:gd name="adj1" fmla="val -53745"/>
              <a:gd name="adj2" fmla="val 6370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 rot="418800">
            <a:off x="5257800" y="5105160"/>
            <a:ext cx="1676520" cy="1371600"/>
          </a:xfrm>
          <a:prstGeom prst="cloudCallout">
            <a:avLst>
              <a:gd name="adj1" fmla="val -36763"/>
              <a:gd name="adj2" fmla="val 5636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994400">
            <a:off x="7238520" y="2286000"/>
            <a:ext cx="1676520" cy="1371600"/>
          </a:xfrm>
          <a:prstGeom prst="cloudCallout">
            <a:avLst>
              <a:gd name="adj1" fmla="val -46541"/>
              <a:gd name="adj2" fmla="val 46282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994400">
            <a:off x="7086240" y="3429000"/>
            <a:ext cx="1676520" cy="1371600"/>
          </a:xfrm>
          <a:prstGeom prst="cloudCallout">
            <a:avLst>
              <a:gd name="adj1" fmla="val -53745"/>
              <a:gd name="adj2" fmla="val 6370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6160400">
            <a:off x="609480" y="1675800"/>
            <a:ext cx="1676520" cy="1371600"/>
          </a:xfrm>
          <a:prstGeom prst="cloudCallout">
            <a:avLst>
              <a:gd name="adj1" fmla="val -50416"/>
              <a:gd name="adj2" fmla="val 5243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20889600">
            <a:off x="6172200" y="456840"/>
            <a:ext cx="1676520" cy="1371600"/>
          </a:xfrm>
          <a:prstGeom prst="cloudCallout">
            <a:avLst>
              <a:gd name="adj1" fmla="val -53745"/>
              <a:gd name="adj2" fmla="val 6370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9519800">
            <a:off x="5029200" y="152280"/>
            <a:ext cx="1676520" cy="1371600"/>
          </a:xfrm>
          <a:prstGeom prst="cloudCallout">
            <a:avLst>
              <a:gd name="adj1" fmla="val -53745"/>
              <a:gd name="adj2" fmla="val 6370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 rot="6967200">
            <a:off x="380520" y="4343040"/>
            <a:ext cx="1676520" cy="1371600"/>
          </a:xfrm>
          <a:prstGeom prst="cloudCallout">
            <a:avLst>
              <a:gd name="adj1" fmla="val -71199"/>
              <a:gd name="adj2" fmla="val 5183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4967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303"/>
                </a:solidFill>
                <a:latin typeface="Arial"/>
              </a:rPr>
              <a:t>...computing semantic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19191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303"/>
                </a:solidFill>
                <a:latin typeface="Arial"/>
              </a:rPr>
              <a:t>society of semantic agent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42080" y="6477120"/>
            <a:ext cx="50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ntic t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ame in cloud / XML-IEML U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ard an Inter-Cloud Collective Intelligen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0:53:41Z</dcterms:created>
  <dc:creator>Pierre Lévy</dc:creator>
  <dc:description/>
  <dc:language>en-US</dc:language>
  <cp:lastModifiedBy>Pierre Lévy</cp:lastModifiedBy>
  <cp:lastPrinted>2008-08-12T18:51:22Z</cp:lastPrinted>
  <dcterms:modified xsi:type="dcterms:W3CDTF">2008-08-12T18:53:22Z</dcterms:modified>
  <cp:revision>74</cp:revision>
  <dc:subject/>
  <dc:title>Research Directions in  Knowledge Management www.ieml.org/CMN5195/</dc:title>
</cp:coreProperties>
</file>