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7585-881A-4A5B-A014-0CA3FC15A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26C-9CE1-429D-A621-580B40CD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023-173F-4511-A486-CE97ED16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FBF-8D13-47E4-B01A-865C95E1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C16-8415-4870-8E0C-DC84C86F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47E-278D-4989-90B2-FA34AF3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E74-DECF-48C9-B5CD-8F5B3215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52C-EA3B-4550-B6E7-505468FD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1270-EB08-400D-9E8C-1EC85A0F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912-3CAB-494C-ADE9-98AD38D2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C32-5173-4396-BBCC-ADCDB97E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3110-DD76-46A5-8B55-0F71DBFB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C4FE-E828-49B7-A5A8-4F1E0EA5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EE2E-DEE9-4179-970A-081475DB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B97E-D54B-4646-8853-DB7B79A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338-FED0-4214-80FB-20DF3E82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9E85-9255-473A-8072-61871004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6A6C-3B68-4A08-940E-BD1E215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1C1A-5A28-4F0C-BD08-7A12463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2B7D-CB51-4D79-B60C-3E6A77F6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9875-398F-4F79-8A0E-BDCE0F0E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7A4F-D741-4784-9E1E-10096A3D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8B53-C44E-4091-873A-1BD10557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6132-FEFE-4169-9A37-CC44DB87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8EB3-C3DB-4761-9F11-E751EBC6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0261-4A80-49F9-91B2-10F71965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954-E047-4BE8-9C04-EEA434CE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78D9-5812-49A4-A634-9B344487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3032-59CB-4996-83D2-6EE0438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99A1-BF4D-4381-A73D-67F99BD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5C6E-9624-43EA-977E-D9D713C7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EC6C-CFAB-47EC-9457-B82883FC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E121-0C69-441D-87FE-FBA76456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21F3-423C-408B-8286-981AE432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7942-6A8E-42FC-BF50-F142412B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4BE9-C5E5-4953-A720-59170EC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B3E9-E296-4555-B371-052535E4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D04-FBF7-477D-8599-D00193B9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77AD-AE36-4B0C-B014-C01440EC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D932-27B4-4094-8A3D-1BE20DA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56DA-9F43-4207-B468-5EC13E28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C839-FBBE-49BE-A4DA-2FB337D9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C71B-A058-47E2-98A9-F831B892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7B39-2311-4E84-B945-47EE9B8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F784-1DBB-45EB-9CE1-76163085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5F3D-FA92-4C16-8ADA-2244F23E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F57B-925A-4E6B-BF84-FEAD8DF0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45F-2178-49F6-B6B2-A267F19C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D77-F1C3-4275-ACCD-2FCA4815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695-60B7-4382-AC45-F589A70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E92-F8EA-4512-A799-1BE8048A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723-5AC9-45B7-9FA7-0978F45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DA9F-B77A-4E3D-8E77-1A88831509A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81C2-2A6E-425D-A791-2FAC0181C9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3DD-F742-4416-8FA5-A2076382AF0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318A-8D83-43C9-A8B3-BAF80E8D2A6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E302-2669-4247-904B-38E28F61B09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8B0-3B4E-4DC9-9CFD-91883B68B4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BE0-3DA3-4BD8-9C1F-A6EE8B3519F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9E44-FEB0-481D-9AC3-53A7CE276C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292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ommand line shell for XM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sed on the philosoph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design of th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ix Sh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69960" y="5446800"/>
            <a:ext cx="31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A.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ee@calld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791320" y="5638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xmlsh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xmlsh – Philoso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ed on the design principles of the Unix Sh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ly backwards compatible syntax to /bin/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ases equivalent to /bin/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Unix Shells use strings and byte streams, xmlsh targets XML documents and infoset strea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ripting with XML data should be as easy and natural as scripting with text fil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omeday, all data should be XML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t until then, intermixing Text and XML is necess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FB5F-B438-472C-9D97-3EFB2EF72C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of a xmlsh comma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B8FD-A363-4FDC-BB89-4D2EE84841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2"/>
          <p:cNvGraphicFramePr/>
          <p:nvPr/>
        </p:nvGraphicFramePr>
        <p:xfrm>
          <a:off x="533520" y="2590920"/>
          <a:ext cx="82645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2645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ntax and Feat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e syntax equivalent to /bin/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... then ... else ... f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le/until ... do 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se ... i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riable assig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ip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shells and background processes/thr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 redir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ript and external process exec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B6E8-D721-4987-A0AC-365153680E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ntax and Feat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syntax specific to xml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ML expressions and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[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xquery exp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$&lt;(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xml producing comm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o=&lt;[ “hi” , 123 , &lt;elem attr=“attr”&gt;body&lt;/elem&gt;]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r=$&lt;(xl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$i in &lt;[1,2,3,&lt;node/&gt;,”hi”]&gt;  ; do  echo $i ; do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FDEF-B5C7-4D7B-8972-EFDF842A37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ntax and Feat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t-in commands similar to /bin/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4615-B7F4-44CF-BB25-EBBA8DCA48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4400" y="3048120"/>
          <a:ext cx="6095880" cy="2966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urce     (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st     ([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i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wh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e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ntax and Feat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nal commands (supplied with xmls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2C04-1724-4064-A3C1-0842787F2E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38080" y="2819520"/>
          <a:ext cx="6096240" cy="2219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c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pw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s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sp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...  Many more to come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xmlsh Feat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  comm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 integrate directly to xmlsh and run within the same JVM and participate in internal architectu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ternal Comm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 execute any external command supported by the 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 pipe into and out of external commands, same as internal comm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864A-7C04-4283-BA74-23B590D356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tec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rce is 100% pure Java using JDK 1.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ser  implemented with javac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gging via log4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SLT and XQuery from Sax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Query heavily used intern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B94F-60BB-4F52-A1EB-7347C9D0E0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tec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ally typed variables  (text , xml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on the type of their assignment 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x=“foo”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# string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x=&lt;[“foo”]&gt;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# xm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ML type is really a saxon “XdmValu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tomic typ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tem typ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quenc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thing that XQuery can produc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FCFC-4998-4259-BDAC-53C9FD9152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tec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i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ipeline commands run as separate thr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ipe is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urrently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xt pip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XML is text serializ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Future</a:t>
            </a: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 – XML native pipes – binary or event serialized 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Suggestions Welcome !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nal/builtin commands in separate thr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commands in separat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D63E-64A4-4829-ADB6-B8B5A73D5A6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iloso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 and Feat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chite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monstration &amp; Exam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adm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ib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edback / Q&amp;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8C7E-25B6-4C52-9A82-1D044CDC4D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tec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t-in, Internal, and User commands run in the JV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to native representations for shell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to same runtime (saxon, log4j et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ML data held as Saxon trees not tex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ticipates in multithrea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ackground threads   (  cmd &amp; 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iping  ( cmd | cmd | cmd 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guments and variables passed in internal for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not converted to 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9EFB-BF4A-4B54-872C-03C5EB228B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chitec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ternal comm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y run any OS command ( cp mv ls chmod gcc ...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xmlsh is not a replacement for the OS layer or comman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ternal Commands run as a sub proc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iping to and from external comm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ly intermix internal and external comm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xquery | su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xls | cat | xca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ED74-1685-4CBA-AF56-7CE0CDFAD7C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blems and Limit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Javacc vs yacc,  LL(1) vs LALR(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OSIX sh specs are LALR, challenging to translate to 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ome syntax difficult to implement easily/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 runtime instead of Unix OS la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ading instead of process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real concept of File Descriptor (numbers like 0,1,2,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ole IO is limi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not run console sub-processes which share stdi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 good tty interrup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009D-AB3A-41A1-B41C-3FCE7F5161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asic sh-like synta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8D1A-183E-45CF-8134-3146C75279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914400" y="2590920"/>
            <a:ext cx="7086600" cy="146556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r=/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file in *.xml ;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query –f /path/pass1.xquery -i $file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slt  -f /path/pass2.xsl –i  &gt; $dir/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533520" y="4343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imple xml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1066680" y="4876920"/>
            <a:ext cx="7086600" cy="36828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cat *.xml | xpath ‘//book[@author=“John Doe”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ML and text Vari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ML construction syntax (XQuery bas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3A4C-6E63-4404-B788-A739A2CFAF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838080" y="3276720"/>
            <a:ext cx="7086600" cy="283716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 ”tex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VAR=&lt;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o attr= ”bar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$A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XVAR &gt; fil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Reusable parsed XML Doc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ML Sequences in for loo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BBDD-5EF0-4AD5-B5CD-8582BED40C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838080" y="3276720"/>
            <a:ext cx="8001000" cy="20142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read doc &lt; fil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&lt;[for $x in 1 to 1000 return $x]&gt; ;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query –i $doc ’//part[@num=$i]’ &gt; out${i}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path –i $doc ’//part[@num=$i]/@title’ &gt;&gt; titles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adma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ly Pre-Alpha – Started Nov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go to alpha 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lve core syntax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should   $*  be a string or sequence 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hould echo produce XML or Text 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rify Philosop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xmlsh Is and Is Not – define scop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larify use ca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ero defects in current codeb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mplete test ca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icit peer com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0D5A-961D-4B4A-A6ED-3A15509481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ibu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y it out 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Bu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 / Foru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 Discus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hanc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do you like ? Why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don't you like ? Why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F358-985B-46CB-BB1D-99CECD0D3B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eedback / Q&amp;A / Dem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56C-C092-445A-A244-20155371BA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ti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x and Unix Shells were a radical “Paradigm Shift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stly simplified access to data and process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t of small simple core t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complexity hierarchaly instead of lin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most 40 years later and the core philosophy is being ero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dominant data type is no longer byte/line stre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ols and shells have not evolved with the data (XM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king with XML is way too complicated 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5BED-7DFC-4781-9471-2F8CA4B037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Source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en Source / Closed Develo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SD License “Free Softwar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ommercial restr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sted on Sourceforge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xmlsh.sourceforge.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in project sit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ww.xmlsh.or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ly “Pre Alpha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dy for experimentation – not for production y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ax subject to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nal API’s subject to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3AC-98EA-4D6E-AF1D-E38F403447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re Jav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sted on Windows, Mac and Linu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uld run on any OS that runs Java 1.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xon 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g4J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tional external OS comma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 rm , chmod , date ... haven't re-invented the whe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0692-234D-43E7-9105-2CC1AEF3A98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ilosophy – Unix Sh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's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Grea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bout the Unix Sh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ived almost 40 years and many incarn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al balance between CLI and Programming langu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ACDA-44AC-468A-A861-638CCC1D87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ular Callout 5"/>
          <p:cNvSpPr/>
          <p:nvPr/>
        </p:nvSpPr>
        <p:spPr>
          <a:xfrm>
            <a:off x="228600" y="3505320"/>
            <a:ext cx="8686800" cy="22096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lthough most users  think of  the shell  as  an interactive command interpreter, it is really a programming language in which each statement runs  a command.  Because it must satisfy both the interactive and programming aspects of command execution, it is  a strange language, shaped as much by history as  by design.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– Brian Kernighan &amp; Rob Pike 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he UNIX Programming Environment",  Prentice-Hall (198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x Shells – Philosoph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's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Grea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bout the Unix Sh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IO is byte streams (or text line stream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re toolkit designed around a simple universal typ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byte or line strea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wc cat ls sed grep cut paste head read tail awk mor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l files and devices are byte/line stream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grams consume and produce byte/line stream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e “toolkit” of simple compon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ables creation of complexity through hierarchal combination of simpler compon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85EE-720F-4AEC-9E15-C796051015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natomy of a Unix Shell comman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7AC-61F2-479A-A05F-595DF052D8E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2"/>
          <p:cNvGraphicFramePr/>
          <p:nvPr/>
        </p:nvGraphicFramePr>
        <p:xfrm>
          <a:off x="611280" y="2590920"/>
          <a:ext cx="79311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90920"/>
                    <a:ext cx="793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x Shells – Philosoph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's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th Unix Shells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day’s data is no longer primarily text (byte/line stream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ta is increasingly X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ny core commands not meaningful or work well with XM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c cut grep paste tail head sed awk more cat ..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not just new commands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shell itself is aging ...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de with the assumption that all data is strings or li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low control (for / case / read 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Variables / Environment / IO stream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ipelines / Command  input/outpu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60C3-B142-4619-9535-FC17B39329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xmls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1:56:55Z</dcterms:created>
  <dc:creator>DLEE</dc:creator>
  <dc:description/>
  <dc:language>en-US</dc:language>
  <cp:lastModifiedBy>DLEE</cp:lastModifiedBy>
  <dcterms:modified xsi:type="dcterms:W3CDTF">2008-07-27T19:51:18Z</dcterms:modified>
  <cp:revision>58</cp:revision>
  <dc:subject/>
  <dc:title>XMLSH</dc:title>
</cp:coreProperties>
</file>